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0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3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5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2.xml.rels" ContentType="application/vnd.openxmlformats-package.relationships+xml"/>
  <Override PartName="/ppt/notesSlides/_rels/notesSlide33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385.xml.rels" ContentType="application/vnd.openxmlformats-package.relationships+xml"/>
  <Override PartName="/ppt/notesSlides/_rels/notesSlide390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386.xml.rels" ContentType="application/vnd.openxmlformats-package.relationships+xml"/>
  <Override PartName="/ppt/notesSlides/_rels/notesSlide391.xml.rels" ContentType="application/vnd.openxmlformats-package.relationships+xml"/>
  <Override PartName="/ppt/notesSlides/_rels/notesSlide240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36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387.xml.rels" ContentType="application/vnd.openxmlformats-package.relationships+xml"/>
  <Override PartName="/ppt/notesSlides/_rels/notesSlide392.xml.rels" ContentType="application/vnd.openxmlformats-package.relationships+xml"/>
  <Override PartName="/ppt/notesSlides/_rels/notesSlide241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69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261.xml.rels" ContentType="application/vnd.openxmlformats-package.relationships+xml"/>
  <Override PartName="/ppt/notesSlides/_rels/notesSlide38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262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57.xml.rels" ContentType="application/vnd.openxmlformats-package.relationships+xml"/>
  <Override PartName="/ppt/notesSlides/_rels/notesSlide282.xml.rels" ContentType="application/vnd.openxmlformats-package.relationships+xml"/>
  <Override PartName="/ppt/notesSlides/_rels/notesSlide277.xml.rels" ContentType="application/vnd.openxmlformats-package.relationships+xml"/>
  <Override PartName="/ppt/notesSlides/_rels/notesSlide30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37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37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92.xml.rels" ContentType="application/vnd.openxmlformats-package.relationships+xml"/>
  <Override PartName="/ppt/notesSlides/_rels/notesSlide209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300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267.xml.rels" ContentType="application/vnd.openxmlformats-package.relationships+xml"/>
  <Override PartName="/ppt/notesSlides/_rels/notesSlide272.xml.rels" ContentType="application/vnd.openxmlformats-package.relationships+xml"/>
  <Override PartName="/ppt/notesSlides/_rels/notesSlide29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19.xml.rels" ContentType="application/vnd.openxmlformats-package.relationships+xml"/>
  <Override PartName="/ppt/notesSlides/_rels/notesSlide29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8.xml.rels" ContentType="application/vnd.openxmlformats-package.relationships+xml"/>
  <Override PartName="/ppt/notesSlides/_rels/notesSlide305.xml.rels" ContentType="application/vnd.openxmlformats-package.relationships+xml"/>
  <Override PartName="/ppt/notesSlides/_rels/notesSlide279.xml.rels" ContentType="application/vnd.openxmlformats-package.relationships+xml"/>
  <Override PartName="/ppt/notesSlides/_rels/notesSlide284.xml.rels" ContentType="application/vnd.openxmlformats-package.relationships+xml"/>
  <Override PartName="/ppt/notesSlides/_rels/notesSlide250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399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265.xml.rels" ContentType="application/vnd.openxmlformats-package.relationships+xml"/>
  <Override PartName="/ppt/notesSlides/_rels/notesSlide270.xml.rels" ContentType="application/vnd.openxmlformats-package.relationships+xml"/>
  <Override PartName="/ppt/notesSlides/_rels/notesSlide311.xml.rels" ContentType="application/vnd.openxmlformats-package.relationships+xml"/>
  <Override PartName="/ppt/notesSlides/_rels/notesSlide290.xml.rels" ContentType="application/vnd.openxmlformats-package.relationships+xml"/>
  <Override PartName="/ppt/notesSlides/_rels/notesSlide207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304.xml.rels" ContentType="application/vnd.openxmlformats-package.relationships+xml"/>
  <Override PartName="/ppt/notesSlides/_rels/notesSlide278.xml.rels" ContentType="application/vnd.openxmlformats-package.relationships+xml"/>
  <Override PartName="/ppt/notesSlides/_rels/notesSlide283.xml.rels" ContentType="application/vnd.openxmlformats-package.relationships+xml"/>
  <Override PartName="/ppt/notesSlides/_rels/notesSlide29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7.xml.rels" ContentType="application/vnd.openxmlformats-package.relationships+xml"/>
  <Override PartName="/ppt/notesSlides/_rels/notesSlide312.xml.rels" ContentType="application/vnd.openxmlformats-package.relationships+xml"/>
  <Override PartName="/ppt/notesSlides/_rels/notesSlide291.xml.rels" ContentType="application/vnd.openxmlformats-package.relationships+xml"/>
  <Override PartName="/ppt/notesSlides/_rels/notesSlide208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264.xml.rels" ContentType="application/vnd.openxmlformats-package.relationships+xml"/>
  <Override PartName="/ppt/notesSlides/_rels/notesSlide396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301.xml.rels" ContentType="application/vnd.openxmlformats-package.relationships+xml"/>
  <Override PartName="/ppt/notesSlides/_rels/notesSlide27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10.xml.rels" ContentType="application/vnd.openxmlformats-package.relationships+xml"/>
  <Override PartName="/ppt/notesSlides/_rels/notesSlide206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25.xml.rels" ContentType="application/vnd.openxmlformats-package.relationships+xml"/>
  <Override PartName="/ppt/notesSlides/_rels/notesSlide33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3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268.xml.rels" ContentType="application/vnd.openxmlformats-package.relationships+xml"/>
  <Override PartName="/ppt/notesSlides/_rels/notesSlide273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230.xml.rels" ContentType="application/vnd.openxmlformats-package.relationships+xml"/>
  <Override PartName="/ppt/notesSlides/_rels/notesSlide394.xml.rels" ContentType="application/vnd.openxmlformats-package.relationships+xml"/>
  <Override PartName="/ppt/notesSlides/_rels/notesSlide247.xml.rels" ContentType="application/vnd.openxmlformats-package.relationships+xml"/>
  <Override PartName="/ppt/notesSlides/_rels/notesSlide38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9.xml.rels" ContentType="application/vnd.openxmlformats-package.relationships+xml"/>
  <Override PartName="/ppt/notesSlides/_rels/notesSlide234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393.xml.rels" ContentType="application/vnd.openxmlformats-package.relationships+xml"/>
  <Override PartName="/ppt/notesSlides/_rels/notesSlide388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286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25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397.xml.rels" ContentType="application/vnd.openxmlformats-package.relationships+xml"/>
  <Override PartName="/ppt/notesSlides/_rels/notesSlide253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398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252.xml.rels" ContentType="application/vnd.openxmlformats-package.relationships+xml"/>
  <Override PartName="/ppt/notesSlides/_rels/notesSlide307.xml.rels" ContentType="application/vnd.openxmlformats-package.relationships+xml"/>
  <Override PartName="/ppt/notesSlides/_rels/notesSlide299.xml.rels" ContentType="application/vnd.openxmlformats-package.relationships+xml"/>
  <Override PartName="/ppt/notesSlides/_rels/notesSlide37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95.xml.rels" ContentType="application/vnd.openxmlformats-package.relationships+xml"/>
  <Override PartName="/ppt/notesSlides/_rels/notesSlide24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370.xml.rels" ContentType="application/vnd.openxmlformats-package.relationships+xml"/>
  <Override PartName="/ppt/notesSlides/_rels/notesSlide255.xml.rels" ContentType="application/vnd.openxmlformats-package.relationships+xml"/>
  <Override PartName="/ppt/notesSlides/_rels/notesSlide260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225.xml.rels" ContentType="application/vnd.openxmlformats-package.relationships+xml"/>
  <Override PartName="/ppt/notesSlides/_rels/notesSlide372.xml.rels" ContentType="application/vnd.openxmlformats-package.relationships+xml"/>
  <Override PartName="/ppt/notesSlides/_rels/notesSlide246.xml.rels" ContentType="application/vnd.openxmlformats-package.relationships+xml"/>
  <Override PartName="/ppt/notesSlides/_rels/notesSlide35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251.xml.rels" ContentType="application/vnd.openxmlformats-package.relationships+xml"/>
  <Override PartName="/ppt/notesSlides/_rels/notesSlide217.xml.rels" ContentType="application/vnd.openxmlformats-package.relationships+xml"/>
  <Override PartName="/ppt/notesSlides/_rels/notesSlide222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228.xml.rels" ContentType="application/vnd.openxmlformats-package.relationships+xml"/>
  <Override PartName="/ppt/notesSlides/_rels/notesSlide2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334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249.xml.rels" ContentType="application/vnd.openxmlformats-package.relationships+xml"/>
  <Override PartName="/ppt/notesSlides/_rels/notesSlide212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213.xml.rels" ContentType="application/vnd.openxmlformats-package.relationships+xml"/>
  <Override PartName="/ppt/notesSlides/_rels/notesSlide236.xml.rels" ContentType="application/vnd.openxmlformats-package.relationships+xml"/>
  <Override PartName="/ppt/notesSlides/_rels/notesSlide383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214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235.xml.rels" ContentType="application/vnd.openxmlformats-package.relationships+xml"/>
  <Override PartName="/ppt/notesSlides/_rels/notesSlide382.xml.rels" ContentType="application/vnd.openxmlformats-package.relationships+xml"/>
  <Override PartName="/ppt/notesSlides/_rels/notesSlide224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218.xml.rels" ContentType="application/vnd.openxmlformats-package.relationships+xml"/>
  <Override PartName="/ppt/notesSlides/_rels/notesSlide223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239.xml.rels" ContentType="application/vnd.openxmlformats-package.relationships+xml"/>
  <Override PartName="/ppt/notesSlides/_rels/notesSlide244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237.xml.rels" ContentType="application/vnd.openxmlformats-package.relationships+xml"/>
  <Override PartName="/ppt/notesSlides/_rels/notesSlide384.xml.rels" ContentType="application/vnd.openxmlformats-package.relationships+xml"/>
  <Override PartName="/ppt/notesSlides/_rels/notesSlide24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238.xml.rels" ContentType="application/vnd.openxmlformats-package.relationships+xml"/>
  <Override PartName="/ppt/notesSlides/_rels/notesSlide243.xml.rels" ContentType="application/vnd.openxmlformats-package.relationships+xml"/>
  <Override PartName="/ppt/notesSlides/_rels/notesSlide3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46.xml.rels" ContentType="application/vnd.openxmlformats-package.relationships+xml"/>
  <Override PartName="/ppt/notesSlides/_rels/notesSlide215.xml.rels" ContentType="application/vnd.openxmlformats-package.relationships+xml"/>
  <Override PartName="/ppt/notesSlides/_rels/notesSlide194.xml.rels" ContentType="application/vnd.openxmlformats-package.relationships+xml"/>
  <Override PartName="/ppt/notesSlides/_rels/notesSlide220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285.xml.rels" ContentType="application/vnd.openxmlformats-package.relationships+xml"/>
  <Override PartName="/ppt/notesSlides/_rels/notesSlide306.xml.rels" ContentType="application/vnd.openxmlformats-package.relationships+xml"/>
  <Override PartName="/ppt/notesSlides/_rels/notesSlide331.xml.rels" ContentType="application/vnd.openxmlformats-package.relationships+xml"/>
  <Override PartName="/ppt/notesSlides/_rels/notesSlide280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333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33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58.xml.rels" ContentType="application/vnd.openxmlformats-package.relationships+xml"/>
  <Override PartName="/ppt/notesSlides/_rels/notesSlide232.xml.rels" ContentType="application/vnd.openxmlformats-package.relationships+xml"/>
  <Override PartName="/ppt/notesSlides/_rels/notesSlide227.xml.rels" ContentType="application/vnd.openxmlformats-package.relationships+xml"/>
  <Override PartName="/ppt/notesSlides/_rels/notesSlide400.xml.rels" ContentType="application/vnd.openxmlformats-package.relationships+xml"/>
  <Override PartName="/ppt/notesSlides/_rels/notesSlide374.xml.rels" ContentType="application/vnd.openxmlformats-package.relationships+xml"/>
  <Override PartName="/ppt/notesSlides/_rels/notesSlide266.xml.rels" ContentType="application/vnd.openxmlformats-package.relationships+xml"/>
  <Override PartName="/ppt/notesSlides/_rels/notesSlide271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231.xml.rels" ContentType="application/vnd.openxmlformats-package.relationships+xml"/>
  <Override PartName="/ppt/notesSlides/_rels/notesSlide226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216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221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363.xml.rels" ContentType="application/vnd.openxmlformats-package.relationships+xml"/>
  <Override PartName="/ppt/notesSlides/_rels/notesSlide259.xml.rels" ContentType="application/vnd.openxmlformats-package.relationships+xml"/>
  <Override PartName="/ppt/notesSlides/_rels/notesSlide210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322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338.xml.rels" ContentType="application/vnd.openxmlformats-package.relationships+xml"/>
  <Override PartName="/ppt/notesSlides/_rels/notesSlide34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1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2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16.xml.rels" ContentType="application/vnd.openxmlformats-package.relationships+xml"/>
  <Override PartName="/ppt/notesSlides/_rels/notesSlide344.xml.rels" ContentType="application/vnd.openxmlformats-package.relationships+xml"/>
  <Override PartName="/ppt/notesSlides/_rels/notesSlide293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313.xml.rels" ContentType="application/vnd.openxmlformats-package.relationships+xml"/>
  <Override PartName="/ppt/notesSlides/_rels/notesSlide30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7.xml.rels" ContentType="application/vnd.openxmlformats-package.relationships+xml"/>
  <Override PartName="/ppt/notesSlides/_rels/notesSlide352.xml.rels" ContentType="application/vnd.openxmlformats-package.relationships+xml"/>
  <Override PartName="/ppt/notesSlides/_rels/notesSlide302.xml.rels" ContentType="application/vnd.openxmlformats-package.relationships+xml"/>
  <Override PartName="/ppt/notesSlides/_rels/notesSlide281.xml.rels" ContentType="application/vnd.openxmlformats-package.relationships+xml"/>
  <Override PartName="/ppt/notesSlides/_rels/notesSlide27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8.xml.rels" ContentType="application/vnd.openxmlformats-package.relationships+xml"/>
  <Override PartName="/ppt/notesSlides/_rels/notesSlide353.xml.rels" ContentType="application/vnd.openxmlformats-package.relationships+xml"/>
  <Override PartName="/ppt/notesSlides/_rels/notesSlide34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4.xml.rels" ContentType="application/vnd.openxmlformats-package.relationships+xml"/>
  <Override PartName="/ppt/notesSlides/_rels/notesSlide324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55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27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45.xml.rels" ContentType="application/vnd.openxmlformats-package.relationships+xml"/>
  <Override PartName="/ppt/notesSlides/_rels/notesSlide361.xml.rels" ContentType="application/vnd.openxmlformats-package.relationships+xml"/>
  <Override PartName="/ppt/notesSlides/_rels/notesSlide25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76.xml.rels" ContentType="application/vnd.openxmlformats-package.relationships+xml"/>
  <Override PartName="/ppt/notesSlides/_rels/notesSlide360.xml.rels" ContentType="application/vnd.openxmlformats-package.relationships+xml"/>
  <Override PartName="/ppt/notesSlides/_rels/notesSlide2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59.xml.rels" ContentType="application/vnd.openxmlformats-package.relationships+xml"/>
  <Override PartName="/ppt/notesSlides/_rels/notesSlide364.xml.rels" ContentType="application/vnd.openxmlformats-package.relationships+xml"/>
  <Override PartName="/ppt/notesSlides/_rels/notesSlide375.xml.rels" ContentType="application/vnd.openxmlformats-package.relationships+xml"/>
  <Override PartName="/ppt/notesSlides/_rels/notesSlide38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33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1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373.xml.rels" ContentType="application/vnd.openxmlformats-package.relationships+xml"/>
  <Override PartName="/ppt/notesSlides/_rels/notesSlide269.xml.rels" ContentType="application/vnd.openxmlformats-package.relationships+xml"/>
  <Override PartName="/ppt/notesSlides/_rels/notesSlide2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7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7.xml.rels" ContentType="application/vnd.openxmlformats-package.relationships+xml"/>
  <Override PartName="/ppt/notesSlides/_rels/notesSlide362.xml.rels" ContentType="application/vnd.openxmlformats-package.relationships+xml"/>
  <Override PartName="/ppt/notesSlides/_rels/notesSlide258.xml.rels" ContentType="application/vnd.openxmlformats-package.relationships+xml"/>
  <Override PartName="/ppt/notesSlides/_rels/notesSlide263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6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66.xml.rels" ContentType="application/vnd.openxmlformats-package.relationships+xml"/>
  <Override PartName="/ppt/notesSlides/_rels/notesSlide323.xml.rels" ContentType="application/vnd.openxmlformats-package.relationships+xml"/>
  <Override PartName="/ppt/notesSlides/_rels/notesSlide2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94.xml.rels" ContentType="application/vnd.openxmlformats-package.relationships+xml"/>
  <Override PartName="/ppt/notesSlides/_rels/notesSlide289.xml.rels" ContentType="application/vnd.openxmlformats-package.relationships+xml"/>
  <Override PartName="/ppt/notesSlides/_rels/notesSlide315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211.xml.rels" ContentType="application/vnd.openxmlformats-package.relationships+xml"/>
  <Override PartName="/ppt/notesSlides/_rels/notesSlide288.xml.rels" ContentType="application/vnd.openxmlformats-package.relationships+xml"/>
  <Override PartName="/ppt/notesSlides/_rels/notesSlide309.xml.rels" ContentType="application/vnd.openxmlformats-package.relationships+xml"/>
  <Override PartName="/ppt/notesSlides/_rels/notesSlide314.xml.rels" ContentType="application/vnd.openxmlformats-package.relationships+xml"/>
  <Override PartName="/ppt/notesSlides/_rels/notesSlide99.xml.rels" ContentType="application/vnd.openxmlformats-package.relationships+xml"/>
  <Override PartName="/ppt/notesSlides/notesSlide257.xml" ContentType="application/vnd.openxmlformats-officedocument.presentationml.notesSlide+xml"/>
  <Override PartName="/ppt/notesSlides/notesSlide256.xml" ContentType="application/vnd.openxmlformats-officedocument.presentationml.notesSlide+xml"/>
  <Override PartName="/ppt/notesSlides/notesSlide255.xml" ContentType="application/vnd.openxmlformats-officedocument.presentationml.notesSlide+xml"/>
  <Override PartName="/ppt/notesSlides/notesSlide254.xml" ContentType="application/vnd.openxmlformats-officedocument.presentationml.notesSlide+xml"/>
  <Override PartName="/ppt/notesSlides/notesSlide253.xml" ContentType="application/vnd.openxmlformats-officedocument.presentationml.notesSlide+xml"/>
  <Override PartName="/ppt/notesSlides/notesSlide249.xml" ContentType="application/vnd.openxmlformats-officedocument.presentationml.notesSlide+xml"/>
  <Override PartName="/ppt/notesSlides/notesSlide248.xml" ContentType="application/vnd.openxmlformats-officedocument.presentationml.notesSlide+xml"/>
  <Override PartName="/ppt/notesSlides/notesSlide247.xml" ContentType="application/vnd.openxmlformats-officedocument.presentationml.notesSlide+xml"/>
  <Override PartName="/ppt/notesSlides/notesSlide246.xml" ContentType="application/vnd.openxmlformats-officedocument.presentationml.notesSlide+xml"/>
  <Override PartName="/ppt/notesSlides/notesSlide245.xml" ContentType="application/vnd.openxmlformats-officedocument.presentationml.notesSlide+xml"/>
  <Override PartName="/ppt/notesSlides/notesSlide244.xml" ContentType="application/vnd.openxmlformats-officedocument.presentationml.notesSlide+xml"/>
  <Override PartName="/ppt/notesSlides/notesSlide243.xml" ContentType="application/vnd.openxmlformats-officedocument.presentationml.notesSlide+xml"/>
  <Override PartName="/ppt/notesSlides/notesSlide239.xml" ContentType="application/vnd.openxmlformats-officedocument.presentationml.notesSlide+xml"/>
  <Override PartName="/ppt/notesSlides/notesSlide238.xml" ContentType="application/vnd.openxmlformats-officedocument.presentationml.notesSlide+xml"/>
  <Override PartName="/ppt/notesSlides/notesSlide237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36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35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234.xml" ContentType="application/vnd.openxmlformats-officedocument.presentationml.notesSlide+xml"/>
  <Override PartName="/ppt/notesSlides/notesSlide196.xml" ContentType="application/vnd.openxmlformats-officedocument.presentationml.notesSlide+xml"/>
  <Override PartName="/ppt/notesSlides/notesSlide233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232.xml" ContentType="application/vnd.openxmlformats-officedocument.presentationml.notesSlide+xml"/>
  <Override PartName="/ppt/notesSlides/notesSlide194.xml" ContentType="application/vnd.openxmlformats-officedocument.presentationml.notesSlide+xml"/>
  <Override PartName="/ppt/notesSlides/notesSlide231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359.xml" ContentType="application/vnd.openxmlformats-officedocument.presentationml.notesSlide+xml"/>
  <Override PartName="/ppt/notesSlides/notesSlide230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358.xml" ContentType="application/vnd.openxmlformats-officedocument.presentationml.notesSlide+xml"/>
  <Override PartName="/ppt/notesSlides/notesSlide229.xml" ContentType="application/vnd.openxmlformats-officedocument.presentationml.notesSlide+xml"/>
  <Override PartName="/ppt/notesSlides/notesSlide228.xml" ContentType="application/vnd.openxmlformats-officedocument.presentationml.notesSlide+xml"/>
  <Override PartName="/ppt/notesSlides/notesSlide227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226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225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224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223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222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221.xml" ContentType="application/vnd.openxmlformats-officedocument.presentationml.notesSlide+xml"/>
  <Override PartName="/ppt/notesSlides/notesSlide183.xml" ContentType="application/vnd.openxmlformats-officedocument.presentationml.notesSlide+xml"/>
  <Override PartName="/ppt/notesSlides/notesSlide349.xml" ContentType="application/vnd.openxmlformats-officedocument.presentationml.notesSlide+xml"/>
  <Override PartName="/ppt/notesSlides/notesSlide220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348.xml" ContentType="application/vnd.openxmlformats-officedocument.presentationml.notesSlide+xml"/>
  <Override PartName="/ppt/notesSlides/notesSlide219.xml" ContentType="application/vnd.openxmlformats-officedocument.presentationml.notesSlide+xml"/>
  <Override PartName="/ppt/notesSlides/notesSlide218.xml" ContentType="application/vnd.openxmlformats-officedocument.presentationml.notesSlide+xml"/>
  <Override PartName="/ppt/notesSlides/notesSlide217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216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215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214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213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212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211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339.xml" ContentType="application/vnd.openxmlformats-officedocument.presentationml.notesSlide+xml"/>
  <Override PartName="/ppt/notesSlides/notesSlide210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338.xml" ContentType="application/vnd.openxmlformats-officedocument.presentationml.notesSlide+xml"/>
  <Override PartName="/ppt/notesSlides/notesSlide20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0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07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20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328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327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326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31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318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317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316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309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308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307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306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8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291.xml" ContentType="application/vnd.openxmlformats-officedocument.presentationml.notesSlide+xml"/>
  <Override PartName="/ppt/notesSlides/notesSlide281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36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391.xml" ContentType="application/vnd.openxmlformats-officedocument.presentationml.notesSlide+xml"/>
  <Override PartName="/ppt/notesSlides/notesSlide323.xml" ContentType="application/vnd.openxmlformats-officedocument.presentationml.notesSlide+xml"/>
  <Override PartName="/ppt/notesSlides/notesSlide324.xml" ContentType="application/vnd.openxmlformats-officedocument.presentationml.notesSlide+xml"/>
  <Override PartName="/ppt/notesSlides/notesSlide325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290.xml" ContentType="application/vnd.openxmlformats-officedocument.presentationml.notesSlide+xml"/>
  <Override PartName="/ppt/notesSlides/notesSlide258.xml" ContentType="application/vnd.openxmlformats-officedocument.presentationml.notesSlide+xml"/>
  <Override PartName="/ppt/notesSlides/notesSlide259.xml" ContentType="application/vnd.openxmlformats-officedocument.presentationml.notesSlide+xml"/>
  <Override PartName="/ppt/notesSlides/notesSlide263.xml" ContentType="application/vnd.openxmlformats-officedocument.presentationml.notesSlide+xml"/>
  <Override PartName="/ppt/notesSlides/notesSlide264.xml" ContentType="application/vnd.openxmlformats-officedocument.presentationml.notesSlide+xml"/>
  <Override PartName="/ppt/notesSlides/notesSlide265.xml" ContentType="application/vnd.openxmlformats-officedocument.presentationml.notesSlide+xml"/>
  <Override PartName="/ppt/notesSlides/notesSlide266.xml" ContentType="application/vnd.openxmlformats-officedocument.presentationml.notesSlide+xml"/>
  <Override PartName="/ppt/notesSlides/notesSlide267.xml" ContentType="application/vnd.openxmlformats-officedocument.presentationml.notesSlide+xml"/>
  <Override PartName="/ppt/notesSlides/notesSlide268.xml" ContentType="application/vnd.openxmlformats-officedocument.presentationml.notesSlide+xml"/>
  <Override PartName="/ppt/notesSlides/notesSlide269.xml" ContentType="application/vnd.openxmlformats-officedocument.presentationml.notesSlide+xml"/>
  <Override PartName="/ppt/notesSlides/notesSlide273.xml" ContentType="application/vnd.openxmlformats-officedocument.presentationml.notesSlide+xml"/>
  <Override PartName="/ppt/notesSlides/notesSlide274.xml" ContentType="application/vnd.openxmlformats-officedocument.presentationml.notesSlide+xml"/>
  <Override PartName="/ppt/notesSlides/notesSlide275.xml" ContentType="application/vnd.openxmlformats-officedocument.presentationml.notesSlide+xml"/>
  <Override PartName="/ppt/notesSlides/notesSlide276.xml" ContentType="application/vnd.openxmlformats-officedocument.presentationml.notesSlide+xml"/>
  <Override PartName="/ppt/notesSlides/notesSlide277.xml" ContentType="application/vnd.openxmlformats-officedocument.presentationml.notesSlide+xml"/>
  <Override PartName="/ppt/notesSlides/notesSlide278.xml" ContentType="application/vnd.openxmlformats-officedocument.presentationml.notesSlide+xml"/>
  <Override PartName="/ppt/notesSlides/notesSlide279.xml" ContentType="application/vnd.openxmlformats-officedocument.presentationml.notesSlide+xml"/>
  <Override PartName="/ppt/notesSlides/notesSlide283.xml" ContentType="application/vnd.openxmlformats-officedocument.presentationml.notesSlide+xml"/>
  <Override PartName="/ppt/notesSlides/notesSlide284.xml" ContentType="application/vnd.openxmlformats-officedocument.presentationml.notesSlide+xml"/>
  <Override PartName="/ppt/notesSlides/notesSlide285.xml" ContentType="application/vnd.openxmlformats-officedocument.presentationml.notesSlide+xml"/>
  <Override PartName="/ppt/notesSlides/notesSlide286.xml" ContentType="application/vnd.openxmlformats-officedocument.presentationml.notesSlide+xml"/>
  <Override PartName="/ppt/notesSlides/notesSlide287.xml" ContentType="application/vnd.openxmlformats-officedocument.presentationml.notesSlide+xml"/>
  <Override PartName="/ppt/notesSlides/notesSlide288.xml" ContentType="application/vnd.openxmlformats-officedocument.presentationml.notesSlide+xml"/>
  <Override PartName="/ppt/notesSlides/notesSlide289.xml" ContentType="application/vnd.openxmlformats-officedocument.presentationml.notesSlide+xml"/>
  <Override PartName="/ppt/notesSlides/notesSlide293.xml" ContentType="application/vnd.openxmlformats-officedocument.presentationml.notesSlide+xml"/>
  <Override PartName="/ppt/notesSlides/notesSlide294.xml" ContentType="application/vnd.openxmlformats-officedocument.presentationml.notesSlide+xml"/>
  <Override PartName="/ppt/notesSlides/notesSlide295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344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345.xml" ContentType="application/vnd.openxmlformats-officedocument.presentationml.notesSlide+xml"/>
  <Override PartName="/ppt/notesSlides/notesSlide35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52.xml" ContentType="application/vnd.openxmlformats-officedocument.presentationml.notesSlide+xml"/>
  <Override PartName="/ppt/notesSlides/notesSlide354.xml" ContentType="application/vnd.openxmlformats-officedocument.presentationml.notesSlide+xml"/>
  <Override PartName="/ppt/notesSlides/notesSlide355.xml" ContentType="application/vnd.openxmlformats-officedocument.presentationml.notesSlide+xml"/>
  <Override PartName="/ppt/notesSlides/notesSlide36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1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63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364.xml" ContentType="application/vnd.openxmlformats-officedocument.presentationml.notesSlide+xml"/>
  <Override PartName="/ppt/notesSlides/notesSlide337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3.xml" ContentType="application/vnd.openxmlformats-officedocument.presentationml.notesSlide+xml"/>
  <Override PartName="/ppt/notesSlides/notesSlide31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67.xml" ContentType="application/vnd.openxmlformats-officedocument.presentationml.notesSlide+xml"/>
  <Override PartName="/ppt/notesSlides/notesSlide39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33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343.xml" ContentType="application/vnd.openxmlformats-officedocument.presentationml.notesSlide+xml"/>
  <Override PartName="/ppt/notesSlides/notesSlide30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342.xml" ContentType="application/vnd.openxmlformats-officedocument.presentationml.notesSlide+xml"/>
  <Override PartName="/ppt/notesSlides/notesSlide37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3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7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380.xml" ContentType="application/vnd.openxmlformats-officedocument.presentationml.notesSlide+xml"/>
  <Override PartName="/ppt/notesSlides/notesSlide31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15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299.xml" ContentType="application/vnd.openxmlformats-officedocument.presentationml.notesSlide+xml"/>
  <Override PartName="/ppt/notesSlides/notesSlide375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374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39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373.xml" ContentType="application/vnd.openxmlformats-officedocument.presentationml.notesSlide+xml"/>
  <Override PartName="/ppt/notesSlides/notesSlide305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39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372.xml" ContentType="application/vnd.openxmlformats-officedocument.presentationml.notesSlide+xml"/>
  <Override PartName="/ppt/notesSlides/notesSlide304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39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362.xml" ContentType="application/vnd.openxmlformats-officedocument.presentationml.notesSlide+xml"/>
  <Override PartName="/ppt/notesSlides/notesSlide400.xml" ContentType="application/vnd.openxmlformats-officedocument.presentationml.notesSlide+xml"/>
  <Override PartName="/ppt/notesSlides/notesSlide371.xml" ContentType="application/vnd.openxmlformats-officedocument.presentationml.notesSlide+xml"/>
  <Override PartName="/ppt/notesSlides/notesSlide30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4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34.xml" ContentType="application/vnd.openxmlformats-officedocument.presentationml.notesSlide+xml"/>
  <Override PartName="/ppt/notesSlides/notesSlide3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332.xml" ContentType="application/vnd.openxmlformats-officedocument.presentationml.notesSlide+xml"/>
  <Override PartName="/ppt/notesSlides/notesSlide331.xml" ContentType="application/vnd.openxmlformats-officedocument.presentationml.notesSlide+xml"/>
  <Override PartName="/ppt/notesSlides/notesSlide390.xml" ContentType="application/vnd.openxmlformats-officedocument.presentationml.notesSlide+xml"/>
  <Override PartName="/ppt/notesSlides/notesSlide322.xml" ContentType="application/vnd.openxmlformats-officedocument.presentationml.notesSlide+xml"/>
  <Override PartName="/ppt/notesSlides/notesSlide321.xml" ContentType="application/vnd.openxmlformats-officedocument.presentationml.notesSlide+xml"/>
  <Override PartName="/ppt/notesSlides/notesSlide320.xml" ContentType="application/vnd.openxmlformats-officedocument.presentationml.notesSlide+xml"/>
  <Override PartName="/ppt/notesSlides/notesSlide314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298.xml" ContentType="application/vnd.openxmlformats-officedocument.presentationml.notesSlide+xml"/>
  <Override PartName="/ppt/notesSlides/notesSlide31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297.xml" ContentType="application/vnd.openxmlformats-officedocument.presentationml.notesSlide+xml"/>
  <Override PartName="/ppt/notesSlides/notesSlide296.xml" ContentType="application/vnd.openxmlformats-officedocument.presentationml.notesSlide+xml"/>
  <Override PartName="/ppt/notesSlides/notesSlide310.xml" ContentType="application/vnd.openxmlformats-officedocument.presentationml.notesSlide+xml"/>
  <Override PartName="/ppt/notesSlides/notesSlide370.xml" ContentType="application/vnd.openxmlformats-officedocument.presentationml.notesSlide+xml"/>
  <Override PartName="/ppt/notesSlides/notesSlide30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0.xml" ContentType="application/vnd.openxmlformats-officedocument.presentationml.notesSlide+xml"/>
  <Override PartName="/ppt/notesSlides/notesSlide271.xml" ContentType="application/vnd.openxmlformats-officedocument.presentationml.notesSlide+xml"/>
  <Override PartName="/ppt/notesSlides/notesSlide39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79.xml" ContentType="application/vnd.openxmlformats-officedocument.presentationml.notesSlide+xml"/>
  <Override PartName="/ppt/notesSlides/notesSlide251.xml" ContentType="application/vnd.openxmlformats-officedocument.presentationml.notesSlide+xml"/>
  <Override PartName="/ppt/notesSlides/notesSlide270.xml" ContentType="application/vnd.openxmlformats-officedocument.presentationml.notesSlide+xml"/>
  <Override PartName="/ppt/notesSlides/notesSlide39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50.xml" ContentType="application/vnd.openxmlformats-officedocument.presentationml.notesSlide+xml"/>
  <Override PartName="/ppt/notesSlides/notesSlide37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39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39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357.xml" ContentType="application/vnd.openxmlformats-officedocument.presentationml.notesSlide+xml"/>
  <Override PartName="/ppt/notesSlides/notesSlide38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26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42.xml" ContentType="application/vnd.openxmlformats-officedocument.presentationml.notesSlide+xml"/>
  <Override PartName="/ppt/notesSlides/notesSlide261.xml" ContentType="application/vnd.openxmlformats-officedocument.presentationml.notesSlide+xml"/>
  <Override PartName="/ppt/notesSlides/notesSlide38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69.xml" ContentType="application/vnd.openxmlformats-officedocument.presentationml.notesSlide+xml"/>
  <Override PartName="/ppt/notesSlides/notesSlide241.xml" ContentType="application/vnd.openxmlformats-officedocument.presentationml.notesSlide+xml"/>
  <Override PartName="/ppt/notesSlides/notesSlide260.xml" ContentType="application/vnd.openxmlformats-officedocument.presentationml.notesSlide+xml"/>
  <Override PartName="/ppt/notesSlides/notesSlide38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368.xml" ContentType="application/vnd.openxmlformats-officedocument.presentationml.notesSlide+xml"/>
  <Override PartName="/ppt/notesSlides/notesSlide240.xml" ContentType="application/vnd.openxmlformats-officedocument.presentationml.notesSlide+xml"/>
  <Override PartName="/ppt/notesSlides/notesSlide38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38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8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347.xml" ContentType="application/vnd.openxmlformats-officedocument.presentationml.notesSlide+xml"/>
  <Override PartName="/ppt/notesSlides/notesSlide3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33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27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52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9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356.xml" ContentType="application/vnd.openxmlformats-officedocument.presentationml.notesSlide+xml"/>
  <Override PartName="/ppt/notesSlides/notesSlide38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329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8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346.xml" ContentType="application/vnd.openxmlformats-officedocument.presentationml.notesSlide+xml"/>
  <Override PartName="/ppt/notesSlides/notesSlide38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16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142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369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61.xml.rels" ContentType="application/vnd.openxmlformats-package.relationships+xml"/>
  <Override PartName="/ppt/slides/_rels/slide156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368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8.xml.rels" ContentType="application/vnd.openxmlformats-package.relationships+xml"/>
  <Override PartName="/ppt/slides/_rels/slide159.xml.rels" ContentType="application/vnd.openxmlformats-package.relationships+xml"/>
  <Override PartName="/ppt/slides/_rels/slide164.xml.rels" ContentType="application/vnd.openxmlformats-package.relationships+xml"/>
  <Override PartName="/ppt/slides/_rels/slide12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154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162.xml.rels" ContentType="application/vnd.openxmlformats-package.relationships+xml"/>
  <Override PartName="/ppt/slides/_rels/slide180.xml.rels" ContentType="application/vnd.openxmlformats-package.relationships+xml"/>
  <Override PartName="/ppt/slides/_rels/slide201.xml.rels" ContentType="application/vnd.openxmlformats-package.relationships+xml"/>
  <Override PartName="/ppt/slides/_rels/slide22.xml.rels" ContentType="application/vnd.openxmlformats-package.relationships+xml"/>
  <Override PartName="/ppt/slides/_rels/slide160.xml.rels" ContentType="application/vnd.openxmlformats-package.relationships+xml"/>
  <Override PartName="/ppt/slides/_rels/slide326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360.xml.rels" ContentType="application/vnd.openxmlformats-package.relationships+xml"/>
  <Override PartName="/ppt/slides/_rels/slide256.xml.rels" ContentType="application/vnd.openxmlformats-package.relationships+xml"/>
  <Override PartName="/ppt/slides/_rels/slide327.xml.rels" ContentType="application/vnd.openxmlformats-package.relationships+xml"/>
  <Override PartName="/ppt/slides/_rels/slide120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24.xml.rels" ContentType="application/vnd.openxmlformats-package.relationships+xml"/>
  <Override PartName="/ppt/slides/_rels/slide320.xml.rels" ContentType="application/vnd.openxmlformats-package.relationships+xml"/>
  <Override PartName="/ppt/slides/_rels/slide101.xml.rels" ContentType="application/vnd.openxmlformats-package.relationships+xml"/>
  <Override PartName="/ppt/slides/_rels/slide170.xml.rels" ContentType="application/vnd.openxmlformats-package.relationships+xml"/>
  <Override PartName="/ppt/slides/_rels/slide380.xml.rels" ContentType="application/vnd.openxmlformats-package.relationships+xml"/>
  <Override PartName="/ppt/slides/_rels/slide375.xml.rels" ContentType="application/vnd.openxmlformats-package.relationships+xml"/>
  <Override PartName="/ppt/slides/_rels/slide336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30.xml.rels" ContentType="application/vnd.openxmlformats-package.relationships+xml"/>
  <Override PartName="/ppt/slides/_rels/slide102.xml.rels" ContentType="application/vnd.openxmlformats-package.relationships+xml"/>
  <Override PartName="/ppt/slides/_rels/slide74.xml.rels" ContentType="application/vnd.openxmlformats-package.relationships+xml"/>
  <Override PartName="/ppt/slides/_rels/slide370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171.xml.rels" ContentType="application/vnd.openxmlformats-package.relationships+xml"/>
  <Override PartName="/ppt/slides/_rels/slide54.xml.rels" ContentType="application/vnd.openxmlformats-package.relationships+xml"/>
  <Override PartName="/ppt/slides/_rels/slide49.xml.rels" ContentType="application/vnd.openxmlformats-package.relationships+xml"/>
  <Override PartName="/ppt/slides/_rels/slide345.xml.rels" ContentType="application/vnd.openxmlformats-package.relationships+xml"/>
  <Override PartName="/ppt/slides/_rels/slide381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75.xml.rels" ContentType="application/vnd.openxmlformats-package.relationships+xml"/>
  <Override PartName="/ppt/slides/_rels/slide371.xml.rels" ContentType="application/vnd.openxmlformats-package.relationships+xml"/>
  <Override PartName="/ppt/slides/_rels/slide80.xml.rels" ContentType="application/vnd.openxmlformats-package.relationships+xml"/>
  <Override PartName="/ppt/slides/_rels/slide26.xml.rels" ContentType="application/vnd.openxmlformats-package.relationships+xml"/>
  <Override PartName="/ppt/slides/_rels/slide322.xml.rels" ContentType="application/vnd.openxmlformats-package.relationships+xml"/>
  <Override PartName="/ppt/slides/_rels/slide31.xml.rels" ContentType="application/vnd.openxmlformats-package.relationships+xml"/>
  <Override PartName="/ppt/slides/_rels/slide218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76.xml.rels" ContentType="application/vnd.openxmlformats-package.relationships+xml"/>
  <Override PartName="/ppt/slides/_rels/slide372.xml.rels" ContentType="application/vnd.openxmlformats-package.relationships+xml"/>
  <Override PartName="/ppt/slides/_rels/slide81.xml.rels" ContentType="application/vnd.openxmlformats-package.relationships+xml"/>
  <Override PartName="/ppt/slides/_rels/slide104.xml.rels" ContentType="application/vnd.openxmlformats-package.relationships+xml"/>
  <Override PartName="/ppt/slides/_rels/slide77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258.xml.rels" ContentType="application/vnd.openxmlformats-package.relationships+xml"/>
  <Override PartName="/ppt/slides/_rels/slide362.xml.rels" ContentType="application/vnd.openxmlformats-package.relationships+xml"/>
  <Override PartName="/ppt/slides/_rels/slide78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163.xml.rels" ContentType="application/vnd.openxmlformats-package.relationships+xml"/>
  <Override PartName="/ppt/slides/_rels/slide181.xml.rels" ContentType="application/vnd.openxmlformats-package.relationships+xml"/>
  <Override PartName="/ppt/slides/_rels/slide202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25.xml.rels" ContentType="application/vnd.openxmlformats-package.relationships+xml"/>
  <Override PartName="/ppt/slides/_rels/slide330.xml.rels" ContentType="application/vnd.openxmlformats-package.relationships+xml"/>
  <Override PartName="/ppt/slides/_rels/slide314.xml.rels" ContentType="application/vnd.openxmlformats-package.relationships+xml"/>
  <Override PartName="/ppt/slides/_rels/slide18.xml.rels" ContentType="application/vnd.openxmlformats-package.relationships+xml"/>
  <Override PartName="/ppt/slides/_rels/slide309.xml.rels" ContentType="application/vnd.openxmlformats-package.relationships+xml"/>
  <Override PartName="/ppt/slides/_rels/slide288.xml.rels" ContentType="application/vnd.openxmlformats-package.relationships+xml"/>
  <Override PartName="/ppt/slides/_rels/slide383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15.xml.rels" ContentType="application/vnd.openxmlformats-package.relationships+xml"/>
  <Override PartName="/ppt/slides/_rels/slide19.xml.rels" ContentType="application/vnd.openxmlformats-package.relationships+xml"/>
  <Override PartName="/ppt/slides/_rels/slide294.xml.rels" ContentType="application/vnd.openxmlformats-package.relationships+xml"/>
  <Override PartName="/ppt/slides/_rels/slide289.xml.rels" ContentType="application/vnd.openxmlformats-package.relationships+xml"/>
  <Override PartName="/ppt/slides/_rels/slide324.xml.rels" ContentType="application/vnd.openxmlformats-package.relationships+xml"/>
  <Override PartName="/ppt/slides/_rels/slide199.xml.rels" ContentType="application/vnd.openxmlformats-package.relationships+xml"/>
  <Override PartName="/ppt/slides/_rels/slide335.xml.rels" ContentType="application/vnd.openxmlformats-package.relationships+xml"/>
  <Override PartName="/ppt/slides/_rels/slide44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5.xml.rels" ContentType="application/vnd.openxmlformats-package.relationships+xml"/>
  <Override PartName="/ppt/slides/_rels/slide89.xml.rels" ContentType="application/vnd.openxmlformats-package.relationships+xml"/>
  <Override PartName="/ppt/slides/_rels/slide385.xml.rels" ContentType="application/vnd.openxmlformats-package.relationships+xml"/>
  <Override PartName="/ppt/slides/_rels/slide390.xml.rels" ContentType="application/vnd.openxmlformats-package.relationships+xml"/>
  <Override PartName="/ppt/slides/_rels/slide94.xml.rels" ContentType="application/vnd.openxmlformats-package.relationships+xml"/>
  <Override PartName="/ppt/slides/_rels/slide264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399.xml.rels" ContentType="application/vnd.openxmlformats-package.relationships+xml"/>
  <Override PartName="/ppt/slides/_rels/slide59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278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4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97.xml.rels" ContentType="application/vnd.openxmlformats-package.relationships+xml"/>
  <Override PartName="/ppt/slides/_rels/slide356.xml.rels" ContentType="application/vnd.openxmlformats-package.relationships+xml"/>
  <Override PartName="/ppt/slides/_rels/slide29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355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254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128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39.xml.rels" ContentType="application/vnd.openxmlformats-package.relationships+xml"/>
  <Override PartName="/ppt/slides/_rels/slide286.xml.rels" ContentType="application/vnd.openxmlformats-package.relationshi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21.xml.rels" ContentType="application/vnd.openxmlformats-package.relationships+xml"/>
  <Override PartName="/ppt/slides/_rels/slide328.xml.rels" ContentType="application/vnd.openxmlformats-package.relationships+xml"/>
  <Override PartName="/ppt/slides/_rels/slide329.xml.rels" ContentType="application/vnd.openxmlformats-package.relationships+xml"/>
  <Override PartName="/ppt/slides/_rels/slide166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79.xml.rels" ContentType="application/vnd.openxmlformats-package.relationships+xml"/>
  <Override PartName="/ppt/slides/_rels/slide331.xml.rels" ContentType="application/vnd.openxmlformats-package.relationships+xml"/>
  <Override PartName="/ppt/slides/_rels/slide167.xml.rels" ContentType="application/vnd.openxmlformats-package.relationships+xml"/>
  <Override PartName="/ppt/slides/_rels/slide224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61.xml.rels" ContentType="application/vnd.openxmlformats-package.relationships+xml"/>
  <Override PartName="/ppt/slides/_rels/slide212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236.xml.rels" ContentType="application/vnd.openxmlformats-package.relationships+xml"/>
  <Override PartName="/ppt/slides/_rels/slide60.xml.rels" ContentType="application/vnd.openxmlformats-package.relationships+xml"/>
  <Override PartName="/ppt/slides/_rels/slide378.xml.rels" ContentType="application/vnd.openxmlformats-package.relationships+xml"/>
  <Override PartName="/ppt/slides/_rels/slide248.xml.rels" ContentType="application/vnd.openxmlformats-package.relationships+xml"/>
  <Override PartName="/ppt/slides/_rels/slide300.xml.rels" ContentType="application/vnd.openxmlformats-package.relationships+xml"/>
  <Override PartName="/ppt/slides/_rels/slide99.xml.rels" ContentType="application/vnd.openxmlformats-package.relationships+xml"/>
  <Override PartName="/ppt/slides/_rels/slide395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47.xml.rels" ContentType="application/vnd.openxmlformats-package.relationships+xml"/>
  <Override PartName="/ppt/slides/_rels/slide394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250.xml.rels" ContentType="application/vnd.openxmlformats-package.relationships+xml"/>
  <Override PartName="/ppt/slides/_rels/slide198.xml.rels" ContentType="application/vnd.openxmlformats-package.relationships+xml"/>
  <Override PartName="/ppt/slides/_rels/slide235.xml.rels" ContentType="application/vnd.openxmlformats-package.relationships+xml"/>
  <Override PartName="/ppt/slides/_rels/slide225.xml.rels" ContentType="application/vnd.openxmlformats-package.relationships+xml"/>
  <Override PartName="/ppt/slides/_rels/slide83.xml.rels" ContentType="application/vnd.openxmlformats-package.relationships+xml"/>
  <Override PartName="/ppt/slides/_rels/slide263.xml.rels" ContentType="application/vnd.openxmlformats-package.relationships+xml"/>
  <Override PartName="/ppt/slides/_rels/slide116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33.xml.rels" ContentType="application/vnd.openxmlformats-package.relationships+xml"/>
  <Override PartName="/ppt/slides/_rels/slide193.xml.rels" ContentType="application/vnd.openxmlformats-package.relationships+xml"/>
  <Override PartName="/ppt/slides/_rels/slide214.xml.rels" ContentType="application/vnd.openxmlformats-package.relationships+xml"/>
  <Override PartName="/ppt/slides/_rels/slide3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398.xml.rels" ContentType="application/vnd.openxmlformats-package.relationships+xml"/>
  <Override PartName="/ppt/slides/_rels/slide73.xml.rels" ContentType="application/vnd.openxmlformats-package.relationships+xml"/>
  <Override PartName="/ppt/slides/_rels/slide149.xml.rels" ContentType="application/vnd.openxmlformats-package.relationships+xml"/>
  <Override PartName="/ppt/slides/_rels/slide253.xml.rels" ContentType="application/vnd.openxmlformats-package.relationships+xml"/>
  <Override PartName="/ppt/slides/_rels/slide196.xml.rels" ContentType="application/vnd.openxmlformats-package.relationships+xml"/>
  <Override PartName="/ppt/slides/_rels/slide222.xml.rels" ContentType="application/vnd.openxmlformats-package.relationships+xml"/>
  <Override PartName="/ppt/slides/_rels/slide217.xml.rels" ContentType="application/vnd.openxmlformats-package.relationships+xml"/>
  <Override PartName="/ppt/slides/_rels/slide261.xml.rels" ContentType="application/vnd.openxmlformats-package.relationships+xml"/>
  <Override PartName="/ppt/slides/_rels/slide397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178.xml.rels" ContentType="application/vnd.openxmlformats-package.relationships+xml"/>
  <Override PartName="/ppt/slides/_rels/slide42.xml.rels" ContentType="application/vnd.openxmlformats-package.relationships+xml"/>
  <Override PartName="/ppt/slides/_rels/slide37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354.xml.rels" ContentType="application/vnd.openxmlformats-package.relationships+xml"/>
  <Override PartName="/ppt/slides/_rels/slide349.xml.rels" ContentType="application/vnd.openxmlformats-package.relationships+xml"/>
  <Override PartName="/ppt/slides/_rels/slide388.xml.rels" ContentType="application/vnd.openxmlformats-package.relationships+xml"/>
  <Override PartName="/ppt/slides/_rels/slide393.xml.rels" ContentType="application/vnd.openxmlformats-package.relationships+xml"/>
  <Override PartName="/ppt/slides/_rels/slide350.xml.rels" ContentType="application/vnd.openxmlformats-package.relationships+xml"/>
  <Override PartName="/ppt/slides/_rels/slide246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191.xml.rels" ContentType="application/vnd.openxmlformats-package.relationships+xml"/>
  <Override PartName="/ppt/slides/_rels/slide276.xml.rels" ContentType="application/vnd.openxmlformats-package.relationships+xml"/>
  <Override PartName="/ppt/slides/_rels/slide302.xml.rels" ContentType="application/vnd.openxmlformats-package.relationships+xml"/>
  <Override PartName="/ppt/slides/_rels/slide281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379.xml.rels" ContentType="application/vnd.openxmlformats-package.relationships+xml"/>
  <Override PartName="/ppt/slides/_rels/slide177.xml.rels" ContentType="application/vnd.openxmlformats-package.relationships+xml"/>
  <Override PartName="/ppt/slides/_rels/slide296.xml.rels" ContentType="application/vnd.openxmlformats-package.relationships+xml"/>
  <Override PartName="/ppt/slides/_rels/slide317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36.xml.rels" ContentType="application/vnd.openxmlformats-package.relationships+xml"/>
  <Override PartName="/ppt/slides/_rels/slide332.xml.rels" ContentType="application/vnd.openxmlformats-package.relationships+xml"/>
  <Override PartName="/ppt/slides/_rels/slide41.xml.rels" ContentType="application/vnd.openxmlformats-package.relationships+xml"/>
  <Override PartName="/ppt/slides/_rels/slide210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49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396.xml.rels" ContentType="application/vnd.openxmlformats-package.relationships+xml"/>
  <Override PartName="/ppt/slides/_rels/slide339.xml.rels" ContentType="application/vnd.openxmlformats-package.relationships+xml"/>
  <Override PartName="/ppt/slides/_rels/slide297.xml.rels" ContentType="application/vnd.openxmlformats-package.relationships+xml"/>
  <Override PartName="/ppt/slides/_rels/slide318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382.xml.rels" ContentType="application/vnd.openxmlformats-package.relationships+xml"/>
  <Override PartName="/ppt/slides/_rels/slide86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27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365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43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68.xml.rels" ContentType="application/vnd.openxmlformats-package.relationships+xml"/>
  <Override PartName="/ppt/slides/_rels/slide359.xml.rels" ContentType="application/vnd.openxmlformats-package.relationships+xml"/>
  <Override PartName="/ppt/slides/_rels/slide364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70.xml.rels" ContentType="application/vnd.openxmlformats-package.relationships+xml"/>
  <Override PartName="/ppt/slides/_rels/slide361.xml.rels" ContentType="application/vnd.openxmlformats-package.relationships+xml"/>
  <Override PartName="/ppt/slides/_rels/slide257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386.xml.rels" ContentType="application/vnd.openxmlformats-package.relationships+xml"/>
  <Override PartName="/ppt/slides/_rels/slide95.xml.rels" ContentType="application/vnd.openxmlformats-package.relationships+xml"/>
  <Override PartName="/ppt/slides/_rels/slide391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56.xml.rels" ContentType="application/vnd.openxmlformats-package.relationships+xml"/>
  <Override PartName="/ppt/slides/_rels/slide347.xml.rels" ContentType="application/vnd.openxmlformats-package.relationships+xml"/>
  <Override PartName="/ppt/slides/_rels/slide352.xml.rels" ContentType="application/vnd.openxmlformats-package.relationships+xml"/>
  <Override PartName="/ppt/slides/_rels/slide55.xml.rels" ContentType="application/vnd.openxmlformats-package.relationships+xml"/>
  <Override PartName="/ppt/slides/_rels/slide351.xml.rels" ContentType="application/vnd.openxmlformats-package.relationships+xml"/>
  <Override PartName="/ppt/slides/_rels/slide346.xml.rels" ContentType="application/vnd.openxmlformats-package.relationships+xml"/>
  <Override PartName="/ppt/slides/_rels/slide277.xml.rels" ContentType="application/vnd.openxmlformats-package.relationships+xml"/>
  <Override PartName="/ppt/slides/_rels/slide303.xml.rels" ContentType="application/vnd.openxmlformats-package.relationships+xml"/>
  <Override PartName="/ppt/slides/_rels/slide282.xml.rels" ContentType="application/vnd.openxmlformats-package.relationships+xml"/>
  <Override PartName="/ppt/slides/_rels/slide58.xml.rels" ContentType="application/vnd.openxmlformats-package.relationships+xml"/>
  <Override PartName="/ppt/slides/_rels/slide243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384.xml.rels" ContentType="application/vnd.openxmlformats-package.relationships+xml"/>
  <Override PartName="/ppt/slides/_rels/slide88.xml.rels" ContentType="application/vnd.openxmlformats-package.relationships+xml"/>
  <Override PartName="/ppt/slides/_rels/slide298.xml.rels" ContentType="application/vnd.openxmlformats-package.relationships+xml"/>
  <Override PartName="/ppt/slides/_rels/slide319.xml.rels" ContentType="application/vnd.openxmlformats-package.relationships+xml"/>
  <Override PartName="/ppt/slides/_rels/slide67.xml.rels" ContentType="application/vnd.openxmlformats-package.relationships+xml"/>
  <Override PartName="/ppt/slides/_rels/slide363.xml.rels" ContentType="application/vnd.openxmlformats-package.relationships+xml"/>
  <Override PartName="/ppt/slides/_rels/slide358.xml.rels" ContentType="application/vnd.openxmlformats-package.relationships+xml"/>
  <Override PartName="/ppt/slides/_rels/slide287.xml.rels" ContentType="application/vnd.openxmlformats-package.relationships+xml"/>
  <Override PartName="/ppt/slides/_rels/slide144.xml.rels" ContentType="application/vnd.openxmlformats-package.relationships+xml"/>
  <Override PartName="/ppt/slides/_rels/slide377.xml.rels" ContentType="application/vnd.openxmlformats-package.relationships+xml"/>
  <Override PartName="/ppt/slides/_rels/slide57.xml.rels" ContentType="application/vnd.openxmlformats-package.relationships+xml"/>
  <Override PartName="/ppt/slides/_rels/slide353.xml.rels" ContentType="application/vnd.openxmlformats-package.relationships+xml"/>
  <Override PartName="/ppt/slides/_rels/slide348.xml.rels" ContentType="application/vnd.openxmlformats-package.relationships+xml"/>
  <Override PartName="/ppt/slides/_rels/slide374.xml.rels" ContentType="application/vnd.openxmlformats-package.relationships+xml"/>
  <Override PartName="/ppt/slides/_rels/slide400.xml.rels" ContentType="application/vnd.openxmlformats-package.relationships+xml"/>
  <Override PartName="/ppt/slides/_rels/slide387.xml.rels" ContentType="application/vnd.openxmlformats-package.relationships+xml"/>
  <Override PartName="/ppt/slides/_rels/slide392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66.xml.rels" ContentType="application/vnd.openxmlformats-package.relationships+xml"/>
  <Override PartName="/ppt/slides/_rels/slide357.xml.rels" ContentType="application/vnd.openxmlformats-package.relationships+xml"/>
  <Override PartName="/ppt/slides/_rels/slide367.xml.rels" ContentType="application/vnd.openxmlformats-package.relationships+xml"/>
  <Override PartName="/ppt/slides/_rels/slide186.xml.rels" ContentType="application/vnd.openxmlformats-package.relationships+xml"/>
  <Override PartName="/ppt/slides/_rels/slide207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376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66.xml.rels" ContentType="application/vnd.openxmlformats-package.relationships+xml"/>
  <Override PartName="/ppt/slides/_rels/slide373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389.xml.rels" ContentType="application/vnd.openxmlformats-package.relationships+xml"/>
  <Override PartName="/ppt/slides/_rels/slide344.xml.rels" ContentType="application/vnd.openxmlformats-package.relationships+xml"/>
  <Override PartName="/ppt/slides/_rels/slide308.xml.rels" ContentType="application/vnd.openxmlformats-package.relationships+xml"/>
  <Override PartName="/ppt/slides/_rels/slide17.xml.rels" ContentType="application/vnd.openxmlformats-package.relationships+xml"/>
  <Override PartName="/ppt/slides/_rels/slide313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379.xml" ContentType="application/vnd.openxmlformats-officedocument.presentationml.slide+xml"/>
  <Override PartName="/ppt/slides/slide250.xml" ContentType="application/vnd.openxmlformats-officedocument.presentationml.slide+xml"/>
  <Override PartName="/ppt/slides/slide378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359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358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349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348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168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201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0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159.xml" ContentType="application/vnd.openxmlformats-officedocument.presentationml.slide+xml"/>
  <Override PartName="/ppt/slides/slide31.xml" ContentType="application/vnd.openxmlformats-officedocument.presentationml.slide+xml"/>
  <Override PartName="/ppt/slides/slide158.xml" ContentType="application/vnd.openxmlformats-officedocument.presentationml.slide+xml"/>
  <Override PartName="/ppt/slides/slide30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9.xml" ContentType="application/vnd.openxmlformats-officedocument.presentationml.slide+xml"/>
  <Override PartName="/ppt/slides/slide21.xml" ContentType="application/vnd.openxmlformats-officedocument.presentationml.slide+xml"/>
  <Override PartName="/ppt/slides/slide148.xml" ContentType="application/vnd.openxmlformats-officedocument.presentationml.slide+xml"/>
  <Override PartName="/ppt/slides/slide20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9.xml" ContentType="application/vnd.openxmlformats-officedocument.presentationml.slide+xml"/>
  <Override PartName="/ppt/slides/slide11.xml" ContentType="application/vnd.openxmlformats-officedocument.presentationml.slide+xml"/>
  <Override PartName="/ppt/slides/slide138.xml" ContentType="application/vnd.openxmlformats-officedocument.presentationml.slide+xml"/>
  <Override PartName="/ppt/slides/slide10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129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318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317.xml" ContentType="application/vnd.openxmlformats-officedocument.presentationml.slide+xml"/>
  <Override PartName="/ppt/slides/slide55.xml" ContentType="application/vnd.openxmlformats-officedocument.presentationml.slide+xml"/>
  <Override PartName="/ppt/slides/slide68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386.xml" ContentType="application/vnd.openxmlformats-officedocument.presentationml.slide+xml"/>
  <Override PartName="/ppt/slides/slide125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267.xml" ContentType="application/vnd.openxmlformats-officedocument.presentationml.slide+xml"/>
  <Override PartName="/ppt/slides/slide268.xml" ContentType="application/vnd.openxmlformats-officedocument.presentationml.slide+xml"/>
  <Override PartName="/ppt/slides/slide269.xml" ContentType="application/vnd.openxmlformats-officedocument.presentationml.slide+xml"/>
  <Override PartName="/ppt/slides/slide273.xml" ContentType="application/vnd.openxmlformats-officedocument.presentationml.slide+xml"/>
  <Override PartName="/ppt/slides/slide274.xml" ContentType="application/vnd.openxmlformats-officedocument.presentationml.slide+xml"/>
  <Override PartName="/ppt/slides/slide275.xml" ContentType="application/vnd.openxmlformats-officedocument.presentationml.slide+xml"/>
  <Override PartName="/ppt/slides/slide276.xml" ContentType="application/vnd.openxmlformats-officedocument.presentationml.slide+xml"/>
  <Override PartName="/ppt/slides/slide277.xml" ContentType="application/vnd.openxmlformats-officedocument.presentationml.slide+xml"/>
  <Override PartName="/ppt/slides/slide278.xml" ContentType="application/vnd.openxmlformats-officedocument.presentationml.slide+xml"/>
  <Override PartName="/ppt/slides/slide279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283.xml" ContentType="application/vnd.openxmlformats-officedocument.presentationml.slide+xml"/>
  <Override PartName="/ppt/slides/slide284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384.xml" ContentType="application/vnd.openxmlformats-officedocument.presentationml.slide+xml"/>
  <Override PartName="/ppt/slides/slide357.xml" ContentType="application/vnd.openxmlformats-officedocument.presentationml.slide+xml"/>
  <Override PartName="/ppt/slides/slide191.xml" ContentType="application/vnd.openxmlformats-officedocument.presentationml.slide+xml"/>
  <Override PartName="/ppt/slides/slide123.xml" ContentType="application/vnd.openxmlformats-officedocument.presentationml.slide+xml"/>
  <Override PartName="/ppt/slides/slide150.xml" ContentType="application/vnd.openxmlformats-officedocument.presentationml.slide+xml"/>
  <Override PartName="/ppt/slides/slide316.xml" ContentType="application/vnd.openxmlformats-officedocument.presentationml.slide+xml"/>
  <Override PartName="/ppt/slides/slide285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385.xml" ContentType="application/vnd.openxmlformats-officedocument.presentationml.slide+xml"/>
  <Override PartName="/ppt/slides/slide124.xml" ContentType="application/vnd.openxmlformats-officedocument.presentationml.slide+xml"/>
  <Override PartName="/ppt/slides/slide286.xml" ContentType="application/vnd.openxmlformats-officedocument.presentationml.slide+xml"/>
  <Override PartName="/ppt/slides/slide287.xml" ContentType="application/vnd.openxmlformats-officedocument.presentationml.slide+xml"/>
  <Override PartName="/ppt/slides/slide288.xml" ContentType="application/vnd.openxmlformats-officedocument.presentationml.slide+xml"/>
  <Override PartName="/ppt/slides/slide289.xml" ContentType="application/vnd.openxmlformats-officedocument.presentationml.slide+xml"/>
  <Override PartName="/ppt/slides/slide293.xml" ContentType="application/vnd.openxmlformats-officedocument.presentationml.slide+xml"/>
  <Override PartName="/ppt/slides/slide294.xml" ContentType="application/vnd.openxmlformats-officedocument.presentationml.slide+xml"/>
  <Override PartName="/ppt/slides/slide295.xml" ContentType="application/vnd.openxmlformats-officedocument.presentationml.slide+xml"/>
  <Override PartName="/ppt/slides/slide296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299.xml" ContentType="application/vnd.openxmlformats-officedocument.presentationml.slide+xml"/>
  <Override PartName="/ppt/slides/slide300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302.xml" ContentType="application/vnd.openxmlformats-officedocument.presentationml.slide+xml"/>
  <Override PartName="/ppt/slides/slide370.xml" ContentType="application/vnd.openxmlformats-officedocument.presentationml.slide+xml"/>
  <Override PartName="/ppt/slides/slide13.xml" ContentType="application/vnd.openxmlformats-officedocument.presentationml.slide+xml"/>
  <Override PartName="/ppt/slides/slide303.xml" ContentType="application/vnd.openxmlformats-officedocument.presentationml.slide+xml"/>
  <Override PartName="/ppt/slides/slide371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304.xml" ContentType="application/vnd.openxmlformats-officedocument.presentationml.slide+xml"/>
  <Override PartName="/ppt/slides/slide372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310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363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64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388.xml" ContentType="application/vnd.openxmlformats-officedocument.presentationml.slide+xml"/>
  <Override PartName="/ppt/slides/slide260.xml" ContentType="application/vnd.openxmlformats-officedocument.presentationml.slide+xml"/>
  <Override PartName="/ppt/slides/slide365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389.xml" ContentType="application/vnd.openxmlformats-officedocument.presentationml.slide+xml"/>
  <Override PartName="/ppt/slides/slide261.xml" ContentType="application/vnd.openxmlformats-officedocument.presentationml.slide+xml"/>
  <Override PartName="/ppt/slides/slide366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262.xml" ContentType="application/vnd.openxmlformats-officedocument.presentationml.slide+xml"/>
  <Override PartName="/ppt/slides/slide36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30.xml" ContentType="application/vnd.openxmlformats-officedocument.presentationml.slide+xml"/>
  <Override PartName="/ppt/slides/slide305.xml" ContentType="application/vnd.openxmlformats-officedocument.presentationml.slide+xml"/>
  <Override PartName="/ppt/slides/slide373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374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94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315.xml" ContentType="application/vnd.openxmlformats-officedocument.presentationml.slide+xml"/>
  <Override PartName="/ppt/slides/slide383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398.xml" ContentType="application/vnd.openxmlformats-officedocument.presentationml.slide+xml"/>
  <Override PartName="/ppt/slides/slide270.xml" ContentType="application/vnd.openxmlformats-officedocument.presentationml.slide+xml"/>
  <Override PartName="/ppt/slides/slide375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399.xml" ContentType="application/vnd.openxmlformats-officedocument.presentationml.slide+xml"/>
  <Override PartName="/ppt/slides/slide271.xml" ContentType="application/vnd.openxmlformats-officedocument.presentationml.slide+xml"/>
  <Override PartName="/ppt/slides/slide376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272.xml" ContentType="application/vnd.openxmlformats-officedocument.presentationml.slide+xml"/>
  <Override PartName="/ppt/slides/slide377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340.xml" ContentType="application/vnd.openxmlformats-officedocument.presentationml.slide+xml"/>
  <Override PartName="/ppt/slides/slide118.xml" ContentType="application/vnd.openxmlformats-officedocument.presentationml.slide+xml"/>
  <Override PartName="/ppt/slides/slide382.xml" ContentType="application/vnd.openxmlformats-officedocument.presentationml.slide+xml"/>
  <Override PartName="/ppt/slides/slide314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400.xml" ContentType="application/vnd.openxmlformats-officedocument.presentationml.slide+xml"/>
  <Override PartName="/ppt/slides/slide362.xml" ContentType="application/vnd.openxmlformats-officedocument.presentationml.slide+xml"/>
  <Override PartName="/ppt/slides/slide101.xml" ContentType="application/vnd.openxmlformats-officedocument.presentationml.slide+xml"/>
  <Override PartName="/ppt/slides/slide292.xml" ContentType="application/vnd.openxmlformats-officedocument.presentationml.slide+xml"/>
  <Override PartName="/ppt/slides/slide397.xml" ContentType="application/vnd.openxmlformats-officedocument.presentationml.slide+xml"/>
  <Override PartName="/ppt/slides/slide360.xml" ContentType="application/vnd.openxmlformats-officedocument.presentationml.slide+xml"/>
  <Override PartName="/ppt/slides/slide280.xml" ContentType="application/vnd.openxmlformats-officedocument.presentationml.slide+xml"/>
  <Override PartName="/ppt/slides/slide291.xml" ContentType="application/vnd.openxmlformats-officedocument.presentationml.slide+xml"/>
  <Override PartName="/ppt/slides/slide396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290.xml" ContentType="application/vnd.openxmlformats-officedocument.presentationml.slide+xml"/>
  <Override PartName="/ppt/slides/slide39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3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9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13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391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82.xml" ContentType="application/vnd.openxmlformats-officedocument.presentationml.slide+xml"/>
  <Override PartName="/ppt/slides/slide387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350.xml" ContentType="application/vnd.openxmlformats-officedocument.presentationml.slide+xml"/>
  <Override PartName="/ppt/slides/slide281.xml" ContentType="application/vnd.openxmlformats-officedocument.presentationml.slide+xml"/>
  <Override PartName="/ppt/slides/slide361.xml" ContentType="application/vnd.openxmlformats-officedocument.presentationml.slide+xml"/>
  <Override PartName="/ppt/slides/slide100.xml" ContentType="application/vnd.openxmlformats-officedocument.presentationml.slide+xml"/>
  <Override PartName="/ppt/slides/slide355.xml" ContentType="application/vnd.openxmlformats-officedocument.presentationml.slide+xml"/>
  <Override PartName="/ppt/slides/slide66.xml" ContentType="application/vnd.openxmlformats-officedocument.presentationml.slide+xml"/>
  <Override PartName="/ppt/slides/slide354.xml" ContentType="application/vnd.openxmlformats-officedocument.presentationml.slide+xml"/>
  <Override PartName="/ppt/slides/slide65.xml" ContentType="application/vnd.openxmlformats-officedocument.presentationml.slide+xml"/>
  <Override PartName="/ppt/slides/slide327.xml" ContentType="application/vnd.openxmlformats-officedocument.presentationml.slide+xml"/>
  <Override PartName="/ppt/slides/slide161.xml" ContentType="application/vnd.openxmlformats-officedocument.presentationml.slide+xml"/>
  <Override PartName="/ppt/slides/slide353.xml" ContentType="application/vnd.openxmlformats-officedocument.presentationml.slide+xml"/>
  <Override PartName="/ppt/slides/slide64.xml" ContentType="application/vnd.openxmlformats-officedocument.presentationml.slide+xml"/>
  <Override PartName="/ppt/slides/slide326.xml" ContentType="application/vnd.openxmlformats-officedocument.presentationml.slide+xml"/>
  <Override PartName="/ppt/slides/slide160.xml" ContentType="application/vnd.openxmlformats-officedocument.presentationml.slide+xml"/>
  <Override PartName="/ppt/slides/slide352.xml" ContentType="application/vnd.openxmlformats-officedocument.presentationml.slide+xml"/>
  <Override PartName="/ppt/slides/slide351.xml" ContentType="application/vnd.openxmlformats-officedocument.presentationml.slide+xml"/>
  <Override PartName="/ppt/slides/slide345.xml" ContentType="application/vnd.openxmlformats-officedocument.presentationml.slide+xml"/>
  <Override PartName="/ppt/slides/slide344.xml" ContentType="application/vnd.openxmlformats-officedocument.presentationml.slide+xml"/>
  <Override PartName="/ppt/slides/slide343.xml" ContentType="application/vnd.openxmlformats-officedocument.presentationml.slide+xml"/>
  <Override PartName="/ppt/slides/slide54.xml" ContentType="application/vnd.openxmlformats-officedocument.presentationml.slide+xml"/>
  <Override PartName="/ppt/slides/slide342.xml" ContentType="application/vnd.openxmlformats-officedocument.presentationml.slide+xml"/>
  <Override PartName="/ppt/slides/slide341.xml" ContentType="application/vnd.openxmlformats-officedocument.presentationml.slide+xml"/>
  <Override PartName="/ppt/slides/slide335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332.xml" ContentType="application/vnd.openxmlformats-officedocument.presentationml.slide+xml"/>
  <Override PartName="/ppt/slides/slide331.xml" ContentType="application/vnd.openxmlformats-officedocument.presentationml.slide+xml"/>
  <Override PartName="/ppt/slides/slide390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320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1.xml" ContentType="application/vnd.openxmlformats-officedocument.presentationml.slide+xml"/>
  <Override PartName="/ppt/slides/slide347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71.xml" ContentType="application/vnd.openxmlformats-officedocument.presentationml.slide+xml"/>
  <Override PartName="/ppt/slides/slide337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0.xml" ContentType="application/vnd.openxmlformats-officedocument.presentationml.slide+xml"/>
  <Override PartName="/ppt/slides/slide336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190.xml" ContentType="application/vnd.openxmlformats-officedocument.presentationml.slide+xml"/>
  <Override PartName="/ppt/slides/slide356.xml" ContentType="application/vnd.openxmlformats-officedocument.presentationml.slide+xml"/>
  <Override PartName="/ppt/slides/slide67.xml" ContentType="application/vnd.openxmlformats-officedocument.presentationml.slide+xml"/>
  <Override PartName="/ppt/slides/slide69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180.xml" ContentType="application/vnd.openxmlformats-officedocument.presentationml.slide+xml"/>
  <Override PartName="/ppt/slides/slide346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380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368.xml" ContentType="application/vnd.openxmlformats-officedocument.presentationml.slide+xml"/>
  <Override PartName="/ppt/slides/slide240.xml" ContentType="application/vnd.openxmlformats-officedocument.presentationml.slide+xml"/>
  <Override PartName="/ppt/slides/slide381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369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  <p:sldId id="433" r:id="rId182"/>
    <p:sldId id="434" r:id="rId183"/>
    <p:sldId id="435" r:id="rId184"/>
    <p:sldId id="436" r:id="rId185"/>
    <p:sldId id="437" r:id="rId186"/>
    <p:sldId id="438" r:id="rId187"/>
    <p:sldId id="439" r:id="rId188"/>
    <p:sldId id="440" r:id="rId189"/>
    <p:sldId id="441" r:id="rId190"/>
    <p:sldId id="442" r:id="rId191"/>
    <p:sldId id="443" r:id="rId192"/>
    <p:sldId id="444" r:id="rId193"/>
    <p:sldId id="445" r:id="rId194"/>
    <p:sldId id="446" r:id="rId195"/>
    <p:sldId id="447" r:id="rId196"/>
    <p:sldId id="448" r:id="rId197"/>
    <p:sldId id="449" r:id="rId198"/>
    <p:sldId id="450" r:id="rId199"/>
    <p:sldId id="451" r:id="rId200"/>
    <p:sldId id="452" r:id="rId201"/>
    <p:sldId id="453" r:id="rId202"/>
    <p:sldId id="454" r:id="rId203"/>
    <p:sldId id="455" r:id="rId204"/>
    <p:sldId id="456" r:id="rId205"/>
    <p:sldId id="457" r:id="rId206"/>
    <p:sldId id="458" r:id="rId207"/>
    <p:sldId id="459" r:id="rId208"/>
    <p:sldId id="460" r:id="rId209"/>
    <p:sldId id="461" r:id="rId210"/>
    <p:sldId id="462" r:id="rId211"/>
    <p:sldId id="463" r:id="rId212"/>
    <p:sldId id="464" r:id="rId213"/>
    <p:sldId id="465" r:id="rId214"/>
    <p:sldId id="466" r:id="rId215"/>
    <p:sldId id="467" r:id="rId216"/>
    <p:sldId id="468" r:id="rId217"/>
    <p:sldId id="469" r:id="rId218"/>
    <p:sldId id="470" r:id="rId219"/>
    <p:sldId id="471" r:id="rId220"/>
    <p:sldId id="472" r:id="rId221"/>
    <p:sldId id="473" r:id="rId222"/>
    <p:sldId id="474" r:id="rId223"/>
    <p:sldId id="475" r:id="rId224"/>
    <p:sldId id="476" r:id="rId225"/>
    <p:sldId id="477" r:id="rId226"/>
    <p:sldId id="478" r:id="rId227"/>
    <p:sldId id="479" r:id="rId228"/>
    <p:sldId id="480" r:id="rId229"/>
    <p:sldId id="481" r:id="rId230"/>
    <p:sldId id="482" r:id="rId231"/>
    <p:sldId id="483" r:id="rId232"/>
    <p:sldId id="484" r:id="rId233"/>
    <p:sldId id="485" r:id="rId234"/>
    <p:sldId id="486" r:id="rId235"/>
    <p:sldId id="487" r:id="rId236"/>
    <p:sldId id="488" r:id="rId237"/>
    <p:sldId id="489" r:id="rId238"/>
    <p:sldId id="490" r:id="rId239"/>
    <p:sldId id="491" r:id="rId240"/>
    <p:sldId id="492" r:id="rId241"/>
    <p:sldId id="493" r:id="rId242"/>
    <p:sldId id="494" r:id="rId243"/>
    <p:sldId id="495" r:id="rId244"/>
    <p:sldId id="496" r:id="rId245"/>
    <p:sldId id="497" r:id="rId246"/>
    <p:sldId id="498" r:id="rId247"/>
    <p:sldId id="499" r:id="rId248"/>
    <p:sldId id="500" r:id="rId249"/>
    <p:sldId id="501" r:id="rId250"/>
    <p:sldId id="502" r:id="rId251"/>
    <p:sldId id="503" r:id="rId252"/>
    <p:sldId id="504" r:id="rId253"/>
    <p:sldId id="505" r:id="rId254"/>
    <p:sldId id="506" r:id="rId255"/>
    <p:sldId id="507" r:id="rId256"/>
    <p:sldId id="508" r:id="rId257"/>
    <p:sldId id="509" r:id="rId258"/>
    <p:sldId id="510" r:id="rId259"/>
    <p:sldId id="511" r:id="rId260"/>
    <p:sldId id="512" r:id="rId261"/>
    <p:sldId id="513" r:id="rId262"/>
    <p:sldId id="514" r:id="rId263"/>
    <p:sldId id="515" r:id="rId264"/>
    <p:sldId id="516" r:id="rId265"/>
    <p:sldId id="517" r:id="rId266"/>
    <p:sldId id="518" r:id="rId267"/>
    <p:sldId id="519" r:id="rId268"/>
    <p:sldId id="520" r:id="rId269"/>
    <p:sldId id="521" r:id="rId270"/>
    <p:sldId id="522" r:id="rId271"/>
    <p:sldId id="523" r:id="rId272"/>
    <p:sldId id="524" r:id="rId273"/>
    <p:sldId id="525" r:id="rId274"/>
    <p:sldId id="526" r:id="rId275"/>
    <p:sldId id="527" r:id="rId276"/>
    <p:sldId id="528" r:id="rId277"/>
    <p:sldId id="529" r:id="rId278"/>
    <p:sldId id="530" r:id="rId279"/>
    <p:sldId id="531" r:id="rId280"/>
    <p:sldId id="532" r:id="rId281"/>
    <p:sldId id="533" r:id="rId282"/>
    <p:sldId id="534" r:id="rId283"/>
    <p:sldId id="535" r:id="rId284"/>
    <p:sldId id="536" r:id="rId285"/>
    <p:sldId id="537" r:id="rId286"/>
    <p:sldId id="538" r:id="rId287"/>
    <p:sldId id="539" r:id="rId288"/>
    <p:sldId id="540" r:id="rId289"/>
    <p:sldId id="541" r:id="rId290"/>
    <p:sldId id="542" r:id="rId291"/>
    <p:sldId id="543" r:id="rId292"/>
    <p:sldId id="544" r:id="rId293"/>
    <p:sldId id="545" r:id="rId294"/>
    <p:sldId id="546" r:id="rId295"/>
    <p:sldId id="547" r:id="rId296"/>
    <p:sldId id="548" r:id="rId297"/>
    <p:sldId id="549" r:id="rId298"/>
    <p:sldId id="550" r:id="rId299"/>
    <p:sldId id="551" r:id="rId300"/>
    <p:sldId id="552" r:id="rId301"/>
    <p:sldId id="553" r:id="rId302"/>
    <p:sldId id="554" r:id="rId303"/>
    <p:sldId id="555" r:id="rId304"/>
    <p:sldId id="556" r:id="rId305"/>
    <p:sldId id="557" r:id="rId306"/>
    <p:sldId id="558" r:id="rId307"/>
    <p:sldId id="559" r:id="rId308"/>
    <p:sldId id="560" r:id="rId309"/>
    <p:sldId id="561" r:id="rId310"/>
    <p:sldId id="562" r:id="rId311"/>
    <p:sldId id="563" r:id="rId312"/>
    <p:sldId id="564" r:id="rId313"/>
    <p:sldId id="565" r:id="rId314"/>
    <p:sldId id="566" r:id="rId315"/>
    <p:sldId id="567" r:id="rId316"/>
    <p:sldId id="568" r:id="rId317"/>
    <p:sldId id="569" r:id="rId318"/>
    <p:sldId id="570" r:id="rId319"/>
    <p:sldId id="571" r:id="rId320"/>
    <p:sldId id="572" r:id="rId321"/>
    <p:sldId id="573" r:id="rId322"/>
    <p:sldId id="574" r:id="rId323"/>
    <p:sldId id="575" r:id="rId324"/>
    <p:sldId id="576" r:id="rId325"/>
    <p:sldId id="577" r:id="rId326"/>
    <p:sldId id="578" r:id="rId327"/>
    <p:sldId id="579" r:id="rId328"/>
    <p:sldId id="580" r:id="rId329"/>
    <p:sldId id="581" r:id="rId330"/>
    <p:sldId id="582" r:id="rId331"/>
    <p:sldId id="583" r:id="rId332"/>
    <p:sldId id="584" r:id="rId333"/>
    <p:sldId id="585" r:id="rId334"/>
    <p:sldId id="586" r:id="rId335"/>
    <p:sldId id="587" r:id="rId336"/>
    <p:sldId id="588" r:id="rId337"/>
    <p:sldId id="589" r:id="rId338"/>
    <p:sldId id="590" r:id="rId339"/>
    <p:sldId id="591" r:id="rId340"/>
    <p:sldId id="592" r:id="rId341"/>
    <p:sldId id="593" r:id="rId342"/>
    <p:sldId id="594" r:id="rId343"/>
    <p:sldId id="595" r:id="rId344"/>
    <p:sldId id="596" r:id="rId345"/>
    <p:sldId id="597" r:id="rId346"/>
    <p:sldId id="598" r:id="rId347"/>
    <p:sldId id="599" r:id="rId348"/>
    <p:sldId id="600" r:id="rId349"/>
    <p:sldId id="601" r:id="rId350"/>
    <p:sldId id="602" r:id="rId351"/>
    <p:sldId id="603" r:id="rId352"/>
    <p:sldId id="604" r:id="rId353"/>
    <p:sldId id="605" r:id="rId354"/>
    <p:sldId id="606" r:id="rId355"/>
    <p:sldId id="607" r:id="rId356"/>
    <p:sldId id="608" r:id="rId357"/>
    <p:sldId id="609" r:id="rId358"/>
    <p:sldId id="610" r:id="rId359"/>
    <p:sldId id="611" r:id="rId360"/>
    <p:sldId id="612" r:id="rId361"/>
    <p:sldId id="613" r:id="rId362"/>
    <p:sldId id="614" r:id="rId363"/>
    <p:sldId id="615" r:id="rId364"/>
    <p:sldId id="616" r:id="rId365"/>
    <p:sldId id="617" r:id="rId366"/>
    <p:sldId id="618" r:id="rId367"/>
    <p:sldId id="619" r:id="rId368"/>
    <p:sldId id="620" r:id="rId369"/>
    <p:sldId id="621" r:id="rId370"/>
    <p:sldId id="622" r:id="rId371"/>
    <p:sldId id="623" r:id="rId372"/>
    <p:sldId id="624" r:id="rId373"/>
    <p:sldId id="625" r:id="rId374"/>
    <p:sldId id="626" r:id="rId375"/>
    <p:sldId id="627" r:id="rId376"/>
    <p:sldId id="628" r:id="rId377"/>
    <p:sldId id="629" r:id="rId378"/>
    <p:sldId id="630" r:id="rId379"/>
    <p:sldId id="631" r:id="rId380"/>
    <p:sldId id="632" r:id="rId381"/>
    <p:sldId id="633" r:id="rId382"/>
    <p:sldId id="634" r:id="rId383"/>
    <p:sldId id="635" r:id="rId384"/>
    <p:sldId id="636" r:id="rId385"/>
    <p:sldId id="637" r:id="rId386"/>
    <p:sldId id="638" r:id="rId387"/>
    <p:sldId id="639" r:id="rId388"/>
    <p:sldId id="640" r:id="rId389"/>
    <p:sldId id="641" r:id="rId390"/>
    <p:sldId id="642" r:id="rId391"/>
    <p:sldId id="643" r:id="rId392"/>
    <p:sldId id="644" r:id="rId393"/>
    <p:sldId id="645" r:id="rId394"/>
    <p:sldId id="646" r:id="rId395"/>
    <p:sldId id="647" r:id="rId396"/>
    <p:sldId id="648" r:id="rId397"/>
    <p:sldId id="649" r:id="rId398"/>
    <p:sldId id="650" r:id="rId399"/>
    <p:sldId id="651" r:id="rId400"/>
    <p:sldId id="652" r:id="rId401"/>
    <p:sldId id="653" r:id="rId402"/>
    <p:sldId id="654" r:id="rId403"/>
    <p:sldId id="655" r:id="rId4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slide" Target="slides/slide178.xml"/><Relationship Id="rId183" Type="http://schemas.openxmlformats.org/officeDocument/2006/relationships/slide" Target="slides/slide179.xml"/><Relationship Id="rId184" Type="http://schemas.openxmlformats.org/officeDocument/2006/relationships/slide" Target="slides/slide180.xml"/><Relationship Id="rId185" Type="http://schemas.openxmlformats.org/officeDocument/2006/relationships/slide" Target="slides/slide181.xml"/><Relationship Id="rId186" Type="http://schemas.openxmlformats.org/officeDocument/2006/relationships/slide" Target="slides/slide182.xml"/><Relationship Id="rId187" Type="http://schemas.openxmlformats.org/officeDocument/2006/relationships/slide" Target="slides/slide183.xml"/><Relationship Id="rId188" Type="http://schemas.openxmlformats.org/officeDocument/2006/relationships/slide" Target="slides/slide184.xml"/><Relationship Id="rId189" Type="http://schemas.openxmlformats.org/officeDocument/2006/relationships/slide" Target="slides/slide185.xml"/><Relationship Id="rId190" Type="http://schemas.openxmlformats.org/officeDocument/2006/relationships/slide" Target="slides/slide186.xml"/><Relationship Id="rId191" Type="http://schemas.openxmlformats.org/officeDocument/2006/relationships/slide" Target="slides/slide187.xml"/><Relationship Id="rId192" Type="http://schemas.openxmlformats.org/officeDocument/2006/relationships/slide" Target="slides/slide188.xml"/><Relationship Id="rId193" Type="http://schemas.openxmlformats.org/officeDocument/2006/relationships/slide" Target="slides/slide189.xml"/><Relationship Id="rId194" Type="http://schemas.openxmlformats.org/officeDocument/2006/relationships/slide" Target="slides/slide190.xml"/><Relationship Id="rId195" Type="http://schemas.openxmlformats.org/officeDocument/2006/relationships/slide" Target="slides/slide191.xml"/><Relationship Id="rId196" Type="http://schemas.openxmlformats.org/officeDocument/2006/relationships/slide" Target="slides/slide192.xml"/><Relationship Id="rId197" Type="http://schemas.openxmlformats.org/officeDocument/2006/relationships/slide" Target="slides/slide193.xml"/><Relationship Id="rId198" Type="http://schemas.openxmlformats.org/officeDocument/2006/relationships/slide" Target="slides/slide194.xml"/><Relationship Id="rId199" Type="http://schemas.openxmlformats.org/officeDocument/2006/relationships/slide" Target="slides/slide195.xml"/><Relationship Id="rId200" Type="http://schemas.openxmlformats.org/officeDocument/2006/relationships/slide" Target="slides/slide196.xml"/><Relationship Id="rId201" Type="http://schemas.openxmlformats.org/officeDocument/2006/relationships/slide" Target="slides/slide197.xml"/><Relationship Id="rId202" Type="http://schemas.openxmlformats.org/officeDocument/2006/relationships/slide" Target="slides/slide198.xml"/><Relationship Id="rId203" Type="http://schemas.openxmlformats.org/officeDocument/2006/relationships/slide" Target="slides/slide199.xml"/><Relationship Id="rId204" Type="http://schemas.openxmlformats.org/officeDocument/2006/relationships/slide" Target="slides/slide200.xml"/><Relationship Id="rId205" Type="http://schemas.openxmlformats.org/officeDocument/2006/relationships/slide" Target="slides/slide201.xml"/><Relationship Id="rId206" Type="http://schemas.openxmlformats.org/officeDocument/2006/relationships/slide" Target="slides/slide202.xml"/><Relationship Id="rId207" Type="http://schemas.openxmlformats.org/officeDocument/2006/relationships/slide" Target="slides/slide203.xml"/><Relationship Id="rId208" Type="http://schemas.openxmlformats.org/officeDocument/2006/relationships/slide" Target="slides/slide204.xml"/><Relationship Id="rId209" Type="http://schemas.openxmlformats.org/officeDocument/2006/relationships/slide" Target="slides/slide205.xml"/><Relationship Id="rId210" Type="http://schemas.openxmlformats.org/officeDocument/2006/relationships/slide" Target="slides/slide206.xml"/><Relationship Id="rId211" Type="http://schemas.openxmlformats.org/officeDocument/2006/relationships/slide" Target="slides/slide207.xml"/><Relationship Id="rId212" Type="http://schemas.openxmlformats.org/officeDocument/2006/relationships/slide" Target="slides/slide208.xml"/><Relationship Id="rId213" Type="http://schemas.openxmlformats.org/officeDocument/2006/relationships/slide" Target="slides/slide209.xml"/><Relationship Id="rId214" Type="http://schemas.openxmlformats.org/officeDocument/2006/relationships/slide" Target="slides/slide210.xml"/><Relationship Id="rId215" Type="http://schemas.openxmlformats.org/officeDocument/2006/relationships/slide" Target="slides/slide211.xml"/><Relationship Id="rId216" Type="http://schemas.openxmlformats.org/officeDocument/2006/relationships/slide" Target="slides/slide212.xml"/><Relationship Id="rId217" Type="http://schemas.openxmlformats.org/officeDocument/2006/relationships/slide" Target="slides/slide213.xml"/><Relationship Id="rId218" Type="http://schemas.openxmlformats.org/officeDocument/2006/relationships/slide" Target="slides/slide214.xml"/><Relationship Id="rId219" Type="http://schemas.openxmlformats.org/officeDocument/2006/relationships/slide" Target="slides/slide215.xml"/><Relationship Id="rId220" Type="http://schemas.openxmlformats.org/officeDocument/2006/relationships/slide" Target="slides/slide216.xml"/><Relationship Id="rId221" Type="http://schemas.openxmlformats.org/officeDocument/2006/relationships/slide" Target="slides/slide217.xml"/><Relationship Id="rId222" Type="http://schemas.openxmlformats.org/officeDocument/2006/relationships/slide" Target="slides/slide218.xml"/><Relationship Id="rId223" Type="http://schemas.openxmlformats.org/officeDocument/2006/relationships/slide" Target="slides/slide219.xml"/><Relationship Id="rId224" Type="http://schemas.openxmlformats.org/officeDocument/2006/relationships/slide" Target="slides/slide220.xml"/><Relationship Id="rId225" Type="http://schemas.openxmlformats.org/officeDocument/2006/relationships/slide" Target="slides/slide221.xml"/><Relationship Id="rId226" Type="http://schemas.openxmlformats.org/officeDocument/2006/relationships/slide" Target="slides/slide222.xml"/><Relationship Id="rId227" Type="http://schemas.openxmlformats.org/officeDocument/2006/relationships/slide" Target="slides/slide223.xml"/><Relationship Id="rId228" Type="http://schemas.openxmlformats.org/officeDocument/2006/relationships/slide" Target="slides/slide224.xml"/><Relationship Id="rId229" Type="http://schemas.openxmlformats.org/officeDocument/2006/relationships/slide" Target="slides/slide225.xml"/><Relationship Id="rId230" Type="http://schemas.openxmlformats.org/officeDocument/2006/relationships/slide" Target="slides/slide226.xml"/><Relationship Id="rId231" Type="http://schemas.openxmlformats.org/officeDocument/2006/relationships/slide" Target="slides/slide227.xml"/><Relationship Id="rId232" Type="http://schemas.openxmlformats.org/officeDocument/2006/relationships/slide" Target="slides/slide228.xml"/><Relationship Id="rId233" Type="http://schemas.openxmlformats.org/officeDocument/2006/relationships/slide" Target="slides/slide229.xml"/><Relationship Id="rId234" Type="http://schemas.openxmlformats.org/officeDocument/2006/relationships/slide" Target="slides/slide230.xml"/><Relationship Id="rId235" Type="http://schemas.openxmlformats.org/officeDocument/2006/relationships/slide" Target="slides/slide231.xml"/><Relationship Id="rId236" Type="http://schemas.openxmlformats.org/officeDocument/2006/relationships/slide" Target="slides/slide232.xml"/><Relationship Id="rId237" Type="http://schemas.openxmlformats.org/officeDocument/2006/relationships/slide" Target="slides/slide233.xml"/><Relationship Id="rId238" Type="http://schemas.openxmlformats.org/officeDocument/2006/relationships/slide" Target="slides/slide234.xml"/><Relationship Id="rId239" Type="http://schemas.openxmlformats.org/officeDocument/2006/relationships/slide" Target="slides/slide235.xml"/><Relationship Id="rId240" Type="http://schemas.openxmlformats.org/officeDocument/2006/relationships/slide" Target="slides/slide236.xml"/><Relationship Id="rId241" Type="http://schemas.openxmlformats.org/officeDocument/2006/relationships/slide" Target="slides/slide237.xml"/><Relationship Id="rId242" Type="http://schemas.openxmlformats.org/officeDocument/2006/relationships/slide" Target="slides/slide238.xml"/><Relationship Id="rId243" Type="http://schemas.openxmlformats.org/officeDocument/2006/relationships/slide" Target="slides/slide239.xml"/><Relationship Id="rId244" Type="http://schemas.openxmlformats.org/officeDocument/2006/relationships/slide" Target="slides/slide240.xml"/><Relationship Id="rId245" Type="http://schemas.openxmlformats.org/officeDocument/2006/relationships/slide" Target="slides/slide241.xml"/><Relationship Id="rId246" Type="http://schemas.openxmlformats.org/officeDocument/2006/relationships/slide" Target="slides/slide242.xml"/><Relationship Id="rId247" Type="http://schemas.openxmlformats.org/officeDocument/2006/relationships/slide" Target="slides/slide243.xml"/><Relationship Id="rId248" Type="http://schemas.openxmlformats.org/officeDocument/2006/relationships/slide" Target="slides/slide244.xml"/><Relationship Id="rId249" Type="http://schemas.openxmlformats.org/officeDocument/2006/relationships/slide" Target="slides/slide245.xml"/><Relationship Id="rId250" Type="http://schemas.openxmlformats.org/officeDocument/2006/relationships/slide" Target="slides/slide246.xml"/><Relationship Id="rId251" Type="http://schemas.openxmlformats.org/officeDocument/2006/relationships/slide" Target="slides/slide247.xml"/><Relationship Id="rId252" Type="http://schemas.openxmlformats.org/officeDocument/2006/relationships/slide" Target="slides/slide248.xml"/><Relationship Id="rId253" Type="http://schemas.openxmlformats.org/officeDocument/2006/relationships/slide" Target="slides/slide249.xml"/><Relationship Id="rId254" Type="http://schemas.openxmlformats.org/officeDocument/2006/relationships/slide" Target="slides/slide250.xml"/><Relationship Id="rId255" Type="http://schemas.openxmlformats.org/officeDocument/2006/relationships/slide" Target="slides/slide251.xml"/><Relationship Id="rId256" Type="http://schemas.openxmlformats.org/officeDocument/2006/relationships/slide" Target="slides/slide252.xml"/><Relationship Id="rId257" Type="http://schemas.openxmlformats.org/officeDocument/2006/relationships/slide" Target="slides/slide253.xml"/><Relationship Id="rId258" Type="http://schemas.openxmlformats.org/officeDocument/2006/relationships/slide" Target="slides/slide254.xml"/><Relationship Id="rId259" Type="http://schemas.openxmlformats.org/officeDocument/2006/relationships/slide" Target="slides/slide255.xml"/><Relationship Id="rId260" Type="http://schemas.openxmlformats.org/officeDocument/2006/relationships/slide" Target="slides/slide256.xml"/><Relationship Id="rId261" Type="http://schemas.openxmlformats.org/officeDocument/2006/relationships/slide" Target="slides/slide257.xml"/><Relationship Id="rId262" Type="http://schemas.openxmlformats.org/officeDocument/2006/relationships/slide" Target="slides/slide258.xml"/><Relationship Id="rId263" Type="http://schemas.openxmlformats.org/officeDocument/2006/relationships/slide" Target="slides/slide259.xml"/><Relationship Id="rId264" Type="http://schemas.openxmlformats.org/officeDocument/2006/relationships/slide" Target="slides/slide260.xml"/><Relationship Id="rId265" Type="http://schemas.openxmlformats.org/officeDocument/2006/relationships/slide" Target="slides/slide261.xml"/><Relationship Id="rId266" Type="http://schemas.openxmlformats.org/officeDocument/2006/relationships/slide" Target="slides/slide262.xml"/><Relationship Id="rId267" Type="http://schemas.openxmlformats.org/officeDocument/2006/relationships/slide" Target="slides/slide263.xml"/><Relationship Id="rId268" Type="http://schemas.openxmlformats.org/officeDocument/2006/relationships/slide" Target="slides/slide264.xml"/><Relationship Id="rId269" Type="http://schemas.openxmlformats.org/officeDocument/2006/relationships/slide" Target="slides/slide265.xml"/><Relationship Id="rId270" Type="http://schemas.openxmlformats.org/officeDocument/2006/relationships/slide" Target="slides/slide266.xml"/><Relationship Id="rId271" Type="http://schemas.openxmlformats.org/officeDocument/2006/relationships/slide" Target="slides/slide267.xml"/><Relationship Id="rId272" Type="http://schemas.openxmlformats.org/officeDocument/2006/relationships/slide" Target="slides/slide268.xml"/><Relationship Id="rId273" Type="http://schemas.openxmlformats.org/officeDocument/2006/relationships/slide" Target="slides/slide269.xml"/><Relationship Id="rId274" Type="http://schemas.openxmlformats.org/officeDocument/2006/relationships/slide" Target="slides/slide270.xml"/><Relationship Id="rId275" Type="http://schemas.openxmlformats.org/officeDocument/2006/relationships/slide" Target="slides/slide271.xml"/><Relationship Id="rId276" Type="http://schemas.openxmlformats.org/officeDocument/2006/relationships/slide" Target="slides/slide272.xml"/><Relationship Id="rId277" Type="http://schemas.openxmlformats.org/officeDocument/2006/relationships/slide" Target="slides/slide273.xml"/><Relationship Id="rId278" Type="http://schemas.openxmlformats.org/officeDocument/2006/relationships/slide" Target="slides/slide274.xml"/><Relationship Id="rId279" Type="http://schemas.openxmlformats.org/officeDocument/2006/relationships/slide" Target="slides/slide275.xml"/><Relationship Id="rId280" Type="http://schemas.openxmlformats.org/officeDocument/2006/relationships/slide" Target="slides/slide276.xml"/><Relationship Id="rId281" Type="http://schemas.openxmlformats.org/officeDocument/2006/relationships/slide" Target="slides/slide277.xml"/><Relationship Id="rId282" Type="http://schemas.openxmlformats.org/officeDocument/2006/relationships/slide" Target="slides/slide278.xml"/><Relationship Id="rId283" Type="http://schemas.openxmlformats.org/officeDocument/2006/relationships/slide" Target="slides/slide279.xml"/><Relationship Id="rId284" Type="http://schemas.openxmlformats.org/officeDocument/2006/relationships/slide" Target="slides/slide280.xml"/><Relationship Id="rId285" Type="http://schemas.openxmlformats.org/officeDocument/2006/relationships/slide" Target="slides/slide281.xml"/><Relationship Id="rId286" Type="http://schemas.openxmlformats.org/officeDocument/2006/relationships/slide" Target="slides/slide282.xml"/><Relationship Id="rId287" Type="http://schemas.openxmlformats.org/officeDocument/2006/relationships/slide" Target="slides/slide283.xml"/><Relationship Id="rId288" Type="http://schemas.openxmlformats.org/officeDocument/2006/relationships/slide" Target="slides/slide284.xml"/><Relationship Id="rId289" Type="http://schemas.openxmlformats.org/officeDocument/2006/relationships/slide" Target="slides/slide285.xml"/><Relationship Id="rId290" Type="http://schemas.openxmlformats.org/officeDocument/2006/relationships/slide" Target="slides/slide286.xml"/><Relationship Id="rId291" Type="http://schemas.openxmlformats.org/officeDocument/2006/relationships/slide" Target="slides/slide287.xml"/><Relationship Id="rId292" Type="http://schemas.openxmlformats.org/officeDocument/2006/relationships/slide" Target="slides/slide288.xml"/><Relationship Id="rId293" Type="http://schemas.openxmlformats.org/officeDocument/2006/relationships/slide" Target="slides/slide289.xml"/><Relationship Id="rId294" Type="http://schemas.openxmlformats.org/officeDocument/2006/relationships/slide" Target="slides/slide290.xml"/><Relationship Id="rId295" Type="http://schemas.openxmlformats.org/officeDocument/2006/relationships/slide" Target="slides/slide291.xml"/><Relationship Id="rId296" Type="http://schemas.openxmlformats.org/officeDocument/2006/relationships/slide" Target="slides/slide292.xml"/><Relationship Id="rId297" Type="http://schemas.openxmlformats.org/officeDocument/2006/relationships/slide" Target="slides/slide293.xml"/><Relationship Id="rId298" Type="http://schemas.openxmlformats.org/officeDocument/2006/relationships/slide" Target="slides/slide294.xml"/><Relationship Id="rId299" Type="http://schemas.openxmlformats.org/officeDocument/2006/relationships/slide" Target="slides/slide295.xml"/><Relationship Id="rId300" Type="http://schemas.openxmlformats.org/officeDocument/2006/relationships/slide" Target="slides/slide296.xml"/><Relationship Id="rId301" Type="http://schemas.openxmlformats.org/officeDocument/2006/relationships/slide" Target="slides/slide297.xml"/><Relationship Id="rId302" Type="http://schemas.openxmlformats.org/officeDocument/2006/relationships/slide" Target="slides/slide298.xml"/><Relationship Id="rId303" Type="http://schemas.openxmlformats.org/officeDocument/2006/relationships/slide" Target="slides/slide299.xml"/><Relationship Id="rId304" Type="http://schemas.openxmlformats.org/officeDocument/2006/relationships/slide" Target="slides/slide300.xml"/><Relationship Id="rId305" Type="http://schemas.openxmlformats.org/officeDocument/2006/relationships/slide" Target="slides/slide301.xml"/><Relationship Id="rId306" Type="http://schemas.openxmlformats.org/officeDocument/2006/relationships/slide" Target="slides/slide302.xml"/><Relationship Id="rId307" Type="http://schemas.openxmlformats.org/officeDocument/2006/relationships/slide" Target="slides/slide303.xml"/><Relationship Id="rId308" Type="http://schemas.openxmlformats.org/officeDocument/2006/relationships/slide" Target="slides/slide304.xml"/><Relationship Id="rId309" Type="http://schemas.openxmlformats.org/officeDocument/2006/relationships/slide" Target="slides/slide305.xml"/><Relationship Id="rId310" Type="http://schemas.openxmlformats.org/officeDocument/2006/relationships/slide" Target="slides/slide306.xml"/><Relationship Id="rId311" Type="http://schemas.openxmlformats.org/officeDocument/2006/relationships/slide" Target="slides/slide307.xml"/><Relationship Id="rId312" Type="http://schemas.openxmlformats.org/officeDocument/2006/relationships/slide" Target="slides/slide308.xml"/><Relationship Id="rId313" Type="http://schemas.openxmlformats.org/officeDocument/2006/relationships/slide" Target="slides/slide309.xml"/><Relationship Id="rId314" Type="http://schemas.openxmlformats.org/officeDocument/2006/relationships/slide" Target="slides/slide310.xml"/><Relationship Id="rId315" Type="http://schemas.openxmlformats.org/officeDocument/2006/relationships/slide" Target="slides/slide311.xml"/><Relationship Id="rId316" Type="http://schemas.openxmlformats.org/officeDocument/2006/relationships/slide" Target="slides/slide312.xml"/><Relationship Id="rId317" Type="http://schemas.openxmlformats.org/officeDocument/2006/relationships/slide" Target="slides/slide313.xml"/><Relationship Id="rId318" Type="http://schemas.openxmlformats.org/officeDocument/2006/relationships/slide" Target="slides/slide314.xml"/><Relationship Id="rId319" Type="http://schemas.openxmlformats.org/officeDocument/2006/relationships/slide" Target="slides/slide315.xml"/><Relationship Id="rId320" Type="http://schemas.openxmlformats.org/officeDocument/2006/relationships/slide" Target="slides/slide316.xml"/><Relationship Id="rId321" Type="http://schemas.openxmlformats.org/officeDocument/2006/relationships/slide" Target="slides/slide317.xml"/><Relationship Id="rId322" Type="http://schemas.openxmlformats.org/officeDocument/2006/relationships/slide" Target="slides/slide318.xml"/><Relationship Id="rId323" Type="http://schemas.openxmlformats.org/officeDocument/2006/relationships/slide" Target="slides/slide319.xml"/><Relationship Id="rId324" Type="http://schemas.openxmlformats.org/officeDocument/2006/relationships/slide" Target="slides/slide320.xml"/><Relationship Id="rId325" Type="http://schemas.openxmlformats.org/officeDocument/2006/relationships/slide" Target="slides/slide321.xml"/><Relationship Id="rId326" Type="http://schemas.openxmlformats.org/officeDocument/2006/relationships/slide" Target="slides/slide322.xml"/><Relationship Id="rId327" Type="http://schemas.openxmlformats.org/officeDocument/2006/relationships/slide" Target="slides/slide323.xml"/><Relationship Id="rId328" Type="http://schemas.openxmlformats.org/officeDocument/2006/relationships/slide" Target="slides/slide324.xml"/><Relationship Id="rId329" Type="http://schemas.openxmlformats.org/officeDocument/2006/relationships/slide" Target="slides/slide325.xml"/><Relationship Id="rId330" Type="http://schemas.openxmlformats.org/officeDocument/2006/relationships/slide" Target="slides/slide326.xml"/><Relationship Id="rId331" Type="http://schemas.openxmlformats.org/officeDocument/2006/relationships/slide" Target="slides/slide327.xml"/><Relationship Id="rId332" Type="http://schemas.openxmlformats.org/officeDocument/2006/relationships/slide" Target="slides/slide328.xml"/><Relationship Id="rId333" Type="http://schemas.openxmlformats.org/officeDocument/2006/relationships/slide" Target="slides/slide329.xml"/><Relationship Id="rId334" Type="http://schemas.openxmlformats.org/officeDocument/2006/relationships/slide" Target="slides/slide330.xml"/><Relationship Id="rId335" Type="http://schemas.openxmlformats.org/officeDocument/2006/relationships/slide" Target="slides/slide331.xml"/><Relationship Id="rId336" Type="http://schemas.openxmlformats.org/officeDocument/2006/relationships/slide" Target="slides/slide332.xml"/><Relationship Id="rId337" Type="http://schemas.openxmlformats.org/officeDocument/2006/relationships/slide" Target="slides/slide333.xml"/><Relationship Id="rId338" Type="http://schemas.openxmlformats.org/officeDocument/2006/relationships/slide" Target="slides/slide334.xml"/><Relationship Id="rId339" Type="http://schemas.openxmlformats.org/officeDocument/2006/relationships/slide" Target="slides/slide335.xml"/><Relationship Id="rId340" Type="http://schemas.openxmlformats.org/officeDocument/2006/relationships/slide" Target="slides/slide336.xml"/><Relationship Id="rId341" Type="http://schemas.openxmlformats.org/officeDocument/2006/relationships/slide" Target="slides/slide337.xml"/><Relationship Id="rId342" Type="http://schemas.openxmlformats.org/officeDocument/2006/relationships/slide" Target="slides/slide338.xml"/><Relationship Id="rId343" Type="http://schemas.openxmlformats.org/officeDocument/2006/relationships/slide" Target="slides/slide339.xml"/><Relationship Id="rId344" Type="http://schemas.openxmlformats.org/officeDocument/2006/relationships/slide" Target="slides/slide340.xml"/><Relationship Id="rId345" Type="http://schemas.openxmlformats.org/officeDocument/2006/relationships/slide" Target="slides/slide341.xml"/><Relationship Id="rId346" Type="http://schemas.openxmlformats.org/officeDocument/2006/relationships/slide" Target="slides/slide342.xml"/><Relationship Id="rId347" Type="http://schemas.openxmlformats.org/officeDocument/2006/relationships/slide" Target="slides/slide343.xml"/><Relationship Id="rId348" Type="http://schemas.openxmlformats.org/officeDocument/2006/relationships/slide" Target="slides/slide344.xml"/><Relationship Id="rId349" Type="http://schemas.openxmlformats.org/officeDocument/2006/relationships/slide" Target="slides/slide345.xml"/><Relationship Id="rId350" Type="http://schemas.openxmlformats.org/officeDocument/2006/relationships/slide" Target="slides/slide346.xml"/><Relationship Id="rId351" Type="http://schemas.openxmlformats.org/officeDocument/2006/relationships/slide" Target="slides/slide347.xml"/><Relationship Id="rId352" Type="http://schemas.openxmlformats.org/officeDocument/2006/relationships/slide" Target="slides/slide348.xml"/><Relationship Id="rId353" Type="http://schemas.openxmlformats.org/officeDocument/2006/relationships/slide" Target="slides/slide349.xml"/><Relationship Id="rId354" Type="http://schemas.openxmlformats.org/officeDocument/2006/relationships/slide" Target="slides/slide350.xml"/><Relationship Id="rId355" Type="http://schemas.openxmlformats.org/officeDocument/2006/relationships/slide" Target="slides/slide351.xml"/><Relationship Id="rId356" Type="http://schemas.openxmlformats.org/officeDocument/2006/relationships/slide" Target="slides/slide352.xml"/><Relationship Id="rId357" Type="http://schemas.openxmlformats.org/officeDocument/2006/relationships/slide" Target="slides/slide353.xml"/><Relationship Id="rId358" Type="http://schemas.openxmlformats.org/officeDocument/2006/relationships/slide" Target="slides/slide354.xml"/><Relationship Id="rId359" Type="http://schemas.openxmlformats.org/officeDocument/2006/relationships/slide" Target="slides/slide355.xml"/><Relationship Id="rId360" Type="http://schemas.openxmlformats.org/officeDocument/2006/relationships/slide" Target="slides/slide356.xml"/><Relationship Id="rId361" Type="http://schemas.openxmlformats.org/officeDocument/2006/relationships/slide" Target="slides/slide357.xml"/><Relationship Id="rId362" Type="http://schemas.openxmlformats.org/officeDocument/2006/relationships/slide" Target="slides/slide358.xml"/><Relationship Id="rId363" Type="http://schemas.openxmlformats.org/officeDocument/2006/relationships/slide" Target="slides/slide359.xml"/><Relationship Id="rId364" Type="http://schemas.openxmlformats.org/officeDocument/2006/relationships/slide" Target="slides/slide360.xml"/><Relationship Id="rId365" Type="http://schemas.openxmlformats.org/officeDocument/2006/relationships/slide" Target="slides/slide361.xml"/><Relationship Id="rId366" Type="http://schemas.openxmlformats.org/officeDocument/2006/relationships/slide" Target="slides/slide362.xml"/><Relationship Id="rId367" Type="http://schemas.openxmlformats.org/officeDocument/2006/relationships/slide" Target="slides/slide363.xml"/><Relationship Id="rId368" Type="http://schemas.openxmlformats.org/officeDocument/2006/relationships/slide" Target="slides/slide364.xml"/><Relationship Id="rId369" Type="http://schemas.openxmlformats.org/officeDocument/2006/relationships/slide" Target="slides/slide365.xml"/><Relationship Id="rId370" Type="http://schemas.openxmlformats.org/officeDocument/2006/relationships/slide" Target="slides/slide366.xml"/><Relationship Id="rId371" Type="http://schemas.openxmlformats.org/officeDocument/2006/relationships/slide" Target="slides/slide367.xml"/><Relationship Id="rId372" Type="http://schemas.openxmlformats.org/officeDocument/2006/relationships/slide" Target="slides/slide368.xml"/><Relationship Id="rId373" Type="http://schemas.openxmlformats.org/officeDocument/2006/relationships/slide" Target="slides/slide369.xml"/><Relationship Id="rId374" Type="http://schemas.openxmlformats.org/officeDocument/2006/relationships/slide" Target="slides/slide370.xml"/><Relationship Id="rId375" Type="http://schemas.openxmlformats.org/officeDocument/2006/relationships/slide" Target="slides/slide371.xml"/><Relationship Id="rId376" Type="http://schemas.openxmlformats.org/officeDocument/2006/relationships/slide" Target="slides/slide372.xml"/><Relationship Id="rId377" Type="http://schemas.openxmlformats.org/officeDocument/2006/relationships/slide" Target="slides/slide373.xml"/><Relationship Id="rId378" Type="http://schemas.openxmlformats.org/officeDocument/2006/relationships/slide" Target="slides/slide374.xml"/><Relationship Id="rId379" Type="http://schemas.openxmlformats.org/officeDocument/2006/relationships/slide" Target="slides/slide375.xml"/><Relationship Id="rId380" Type="http://schemas.openxmlformats.org/officeDocument/2006/relationships/slide" Target="slides/slide376.xml"/><Relationship Id="rId381" Type="http://schemas.openxmlformats.org/officeDocument/2006/relationships/slide" Target="slides/slide377.xml"/><Relationship Id="rId382" Type="http://schemas.openxmlformats.org/officeDocument/2006/relationships/slide" Target="slides/slide378.xml"/><Relationship Id="rId383" Type="http://schemas.openxmlformats.org/officeDocument/2006/relationships/slide" Target="slides/slide379.xml"/><Relationship Id="rId384" Type="http://schemas.openxmlformats.org/officeDocument/2006/relationships/slide" Target="slides/slide380.xml"/><Relationship Id="rId385" Type="http://schemas.openxmlformats.org/officeDocument/2006/relationships/slide" Target="slides/slide381.xml"/><Relationship Id="rId386" Type="http://schemas.openxmlformats.org/officeDocument/2006/relationships/slide" Target="slides/slide382.xml"/><Relationship Id="rId387" Type="http://schemas.openxmlformats.org/officeDocument/2006/relationships/slide" Target="slides/slide383.xml"/><Relationship Id="rId388" Type="http://schemas.openxmlformats.org/officeDocument/2006/relationships/slide" Target="slides/slide384.xml"/><Relationship Id="rId389" Type="http://schemas.openxmlformats.org/officeDocument/2006/relationships/slide" Target="slides/slide385.xml"/><Relationship Id="rId390" Type="http://schemas.openxmlformats.org/officeDocument/2006/relationships/slide" Target="slides/slide386.xml"/><Relationship Id="rId391" Type="http://schemas.openxmlformats.org/officeDocument/2006/relationships/slide" Target="slides/slide387.xml"/><Relationship Id="rId392" Type="http://schemas.openxmlformats.org/officeDocument/2006/relationships/slide" Target="slides/slide388.xml"/><Relationship Id="rId393" Type="http://schemas.openxmlformats.org/officeDocument/2006/relationships/slide" Target="slides/slide389.xml"/><Relationship Id="rId394" Type="http://schemas.openxmlformats.org/officeDocument/2006/relationships/slide" Target="slides/slide390.xml"/><Relationship Id="rId395" Type="http://schemas.openxmlformats.org/officeDocument/2006/relationships/slide" Target="slides/slide391.xml"/><Relationship Id="rId396" Type="http://schemas.openxmlformats.org/officeDocument/2006/relationships/slide" Target="slides/slide392.xml"/><Relationship Id="rId397" Type="http://schemas.openxmlformats.org/officeDocument/2006/relationships/slide" Target="slides/slide393.xml"/><Relationship Id="rId398" Type="http://schemas.openxmlformats.org/officeDocument/2006/relationships/slide" Target="slides/slide394.xml"/><Relationship Id="rId399" Type="http://schemas.openxmlformats.org/officeDocument/2006/relationships/slide" Target="slides/slide395.xml"/><Relationship Id="rId400" Type="http://schemas.openxmlformats.org/officeDocument/2006/relationships/slide" Target="slides/slide396.xml"/><Relationship Id="rId401" Type="http://schemas.openxmlformats.org/officeDocument/2006/relationships/slide" Target="slides/slide397.xml"/><Relationship Id="rId402" Type="http://schemas.openxmlformats.org/officeDocument/2006/relationships/slide" Target="slides/slide398.xml"/><Relationship Id="rId403" Type="http://schemas.openxmlformats.org/officeDocument/2006/relationships/slide" Target="slides/slide399.xml"/><Relationship Id="rId404" Type="http://schemas.openxmlformats.org/officeDocument/2006/relationships/slide" Target="slides/slide400.xml"/><Relationship Id="rId40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C994-2E39-412B-BB93-697B67D75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194.xml.rels><?xml version="1.0" encoding="UTF-8"?>
<Relationships xmlns="http://schemas.openxmlformats.org/package/2006/relationships"><Relationship Id="rId1" Type="http://schemas.openxmlformats.org/officeDocument/2006/relationships/slide" Target="../slides/slide194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06.xml.rels><?xml version="1.0" encoding="UTF-8"?>
<Relationships xmlns="http://schemas.openxmlformats.org/package/2006/relationships"><Relationship Id="rId1" Type="http://schemas.openxmlformats.org/officeDocument/2006/relationships/slide" Target="../slides/slide206.xml"/><Relationship Id="rId2" Type="http://schemas.openxmlformats.org/officeDocument/2006/relationships/notesMaster" Target="../notesMasters/notesMaster1.xml"/>
</Relationships>
</file>

<file path=ppt/notesSlides/_rels/notesSlide207.xml.rels><?xml version="1.0" encoding="UTF-8"?>
<Relationships xmlns="http://schemas.openxmlformats.org/package/2006/relationships"><Relationship Id="rId1" Type="http://schemas.openxmlformats.org/officeDocument/2006/relationships/slide" Target="../slides/slide207.xml"/><Relationship Id="rId2" Type="http://schemas.openxmlformats.org/officeDocument/2006/relationships/notesMaster" Target="../notesMasters/notesMaster1.xml"/>
</Relationships>
</file>

<file path=ppt/notesSlides/_rels/notesSlide208.xml.rels><?xml version="1.0" encoding="UTF-8"?>
<Relationships xmlns="http://schemas.openxmlformats.org/package/2006/relationships"><Relationship Id="rId1" Type="http://schemas.openxmlformats.org/officeDocument/2006/relationships/slide" Target="../slides/slide208.xml"/><Relationship Id="rId2" Type="http://schemas.openxmlformats.org/officeDocument/2006/relationships/notesMaster" Target="../notesMasters/notesMaster1.xml"/>
</Relationships>
</file>

<file path=ppt/notesSlides/_rels/notesSlide209.xml.rels><?xml version="1.0" encoding="UTF-8"?>
<Relationships xmlns="http://schemas.openxmlformats.org/package/2006/relationships"><Relationship Id="rId1" Type="http://schemas.openxmlformats.org/officeDocument/2006/relationships/slide" Target="../slides/slide20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10.xml.rels><?xml version="1.0" encoding="UTF-8"?>
<Relationships xmlns="http://schemas.openxmlformats.org/package/2006/relationships"><Relationship Id="rId1" Type="http://schemas.openxmlformats.org/officeDocument/2006/relationships/slide" Target="../slides/slide210.xml"/><Relationship Id="rId2" Type="http://schemas.openxmlformats.org/officeDocument/2006/relationships/notesMaster" Target="../notesMasters/notesMaster1.xml"/>
</Relationships>
</file>

<file path=ppt/notesSlides/_rels/notesSlide211.xml.rels><?xml version="1.0" encoding="UTF-8"?>
<Relationships xmlns="http://schemas.openxmlformats.org/package/2006/relationships"><Relationship Id="rId1" Type="http://schemas.openxmlformats.org/officeDocument/2006/relationships/slide" Target="../slides/slide211.xml"/><Relationship Id="rId2" Type="http://schemas.openxmlformats.org/officeDocument/2006/relationships/notesMaster" Target="../notesMasters/notesMaster1.xml"/>
</Relationships>
</file>

<file path=ppt/notesSlides/_rels/notesSlide212.xml.rels><?xml version="1.0" encoding="UTF-8"?>
<Relationships xmlns="http://schemas.openxmlformats.org/package/2006/relationships"><Relationship Id="rId1" Type="http://schemas.openxmlformats.org/officeDocument/2006/relationships/slide" Target="../slides/slide212.xml"/><Relationship Id="rId2" Type="http://schemas.openxmlformats.org/officeDocument/2006/relationships/notesMaster" Target="../notesMasters/notesMaster1.xml"/>
</Relationships>
</file>

<file path=ppt/notesSlides/_rels/notesSlide213.xml.rels><?xml version="1.0" encoding="UTF-8"?>
<Relationships xmlns="http://schemas.openxmlformats.org/package/2006/relationships"><Relationship Id="rId1" Type="http://schemas.openxmlformats.org/officeDocument/2006/relationships/slide" Target="../slides/slide213.xml"/><Relationship Id="rId2" Type="http://schemas.openxmlformats.org/officeDocument/2006/relationships/notesMaster" Target="../notesMasters/notesMaster1.xml"/>
</Relationships>
</file>

<file path=ppt/notesSlides/_rels/notesSlide214.xml.rels><?xml version="1.0" encoding="UTF-8"?>
<Relationships xmlns="http://schemas.openxmlformats.org/package/2006/relationships"><Relationship Id="rId1" Type="http://schemas.openxmlformats.org/officeDocument/2006/relationships/slide" Target="../slides/slide214.xml"/><Relationship Id="rId2" Type="http://schemas.openxmlformats.org/officeDocument/2006/relationships/notesMaster" Target="../notesMasters/notesMaster1.xml"/>
</Relationships>
</file>

<file path=ppt/notesSlides/_rels/notesSlide215.xml.rels><?xml version="1.0" encoding="UTF-8"?>
<Relationships xmlns="http://schemas.openxmlformats.org/package/2006/relationships"><Relationship Id="rId1" Type="http://schemas.openxmlformats.org/officeDocument/2006/relationships/slide" Target="../slides/slide215.xml"/><Relationship Id="rId2" Type="http://schemas.openxmlformats.org/officeDocument/2006/relationships/notesMaster" Target="../notesMasters/notesMaster1.xml"/>
</Relationships>
</file>

<file path=ppt/notesSlides/_rels/notesSlide216.xml.rels><?xml version="1.0" encoding="UTF-8"?>
<Relationships xmlns="http://schemas.openxmlformats.org/package/2006/relationships"><Relationship Id="rId1" Type="http://schemas.openxmlformats.org/officeDocument/2006/relationships/slide" Target="../slides/slide216.xml"/><Relationship Id="rId2" Type="http://schemas.openxmlformats.org/officeDocument/2006/relationships/notesMaster" Target="../notesMasters/notesMaster1.xml"/>
</Relationships>
</file>

<file path=ppt/notesSlides/_rels/notesSlide217.xml.rels><?xml version="1.0" encoding="UTF-8"?>
<Relationships xmlns="http://schemas.openxmlformats.org/package/2006/relationships"><Relationship Id="rId1" Type="http://schemas.openxmlformats.org/officeDocument/2006/relationships/slide" Target="../slides/slide217.xml"/><Relationship Id="rId2" Type="http://schemas.openxmlformats.org/officeDocument/2006/relationships/notesMaster" Target="../notesMasters/notesMaster1.xml"/>
</Relationships>
</file>

<file path=ppt/notesSlides/_rels/notesSlide218.xml.rels><?xml version="1.0" encoding="UTF-8"?>
<Relationships xmlns="http://schemas.openxmlformats.org/package/2006/relationships"><Relationship Id="rId1" Type="http://schemas.openxmlformats.org/officeDocument/2006/relationships/slide" Target="../slides/slide218.xml"/><Relationship Id="rId2" Type="http://schemas.openxmlformats.org/officeDocument/2006/relationships/notesMaster" Target="../notesMasters/notesMaster1.xml"/>
</Relationships>
</file>

<file path=ppt/notesSlides/_rels/notesSlide219.xml.rels><?xml version="1.0" encoding="UTF-8"?>
<Relationships xmlns="http://schemas.openxmlformats.org/package/2006/relationships"><Relationship Id="rId1" Type="http://schemas.openxmlformats.org/officeDocument/2006/relationships/slide" Target="../slides/slide2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20.xml.rels><?xml version="1.0" encoding="UTF-8"?>
<Relationships xmlns="http://schemas.openxmlformats.org/package/2006/relationships"><Relationship Id="rId1" Type="http://schemas.openxmlformats.org/officeDocument/2006/relationships/slide" Target="../slides/slide220.xml"/><Relationship Id="rId2" Type="http://schemas.openxmlformats.org/officeDocument/2006/relationships/notesMaster" Target="../notesMasters/notesMaster1.xml"/>
</Relationships>
</file>

<file path=ppt/notesSlides/_rels/notesSlide221.xml.rels><?xml version="1.0" encoding="UTF-8"?>
<Relationships xmlns="http://schemas.openxmlformats.org/package/2006/relationships"><Relationship Id="rId1" Type="http://schemas.openxmlformats.org/officeDocument/2006/relationships/slide" Target="../slides/slide221.xml"/><Relationship Id="rId2" Type="http://schemas.openxmlformats.org/officeDocument/2006/relationships/notesMaster" Target="../notesMasters/notesMaster1.xml"/>
</Relationships>
</file>

<file path=ppt/notesSlides/_rels/notesSlide222.xml.rels><?xml version="1.0" encoding="UTF-8"?>
<Relationships xmlns="http://schemas.openxmlformats.org/package/2006/relationships"><Relationship Id="rId1" Type="http://schemas.openxmlformats.org/officeDocument/2006/relationships/slide" Target="../slides/slide222.xml"/><Relationship Id="rId2" Type="http://schemas.openxmlformats.org/officeDocument/2006/relationships/notesMaster" Target="../notesMasters/notesMaster1.xml"/>
</Relationships>
</file>

<file path=ppt/notesSlides/_rels/notesSlide223.xml.rels><?xml version="1.0" encoding="UTF-8"?>
<Relationships xmlns="http://schemas.openxmlformats.org/package/2006/relationships"><Relationship Id="rId1" Type="http://schemas.openxmlformats.org/officeDocument/2006/relationships/slide" Target="../slides/slide223.xml"/><Relationship Id="rId2" Type="http://schemas.openxmlformats.org/officeDocument/2006/relationships/notesMaster" Target="../notesMasters/notesMaster1.xml"/>
</Relationships>
</file>

<file path=ppt/notesSlides/_rels/notesSlide224.xml.rels><?xml version="1.0" encoding="UTF-8"?>
<Relationships xmlns="http://schemas.openxmlformats.org/package/2006/relationships"><Relationship Id="rId1" Type="http://schemas.openxmlformats.org/officeDocument/2006/relationships/slide" Target="../slides/slide224.xml"/><Relationship Id="rId2" Type="http://schemas.openxmlformats.org/officeDocument/2006/relationships/notesMaster" Target="../notesMasters/notesMaster1.xml"/>
</Relationships>
</file>

<file path=ppt/notesSlides/_rels/notesSlide225.xml.rels><?xml version="1.0" encoding="UTF-8"?>
<Relationships xmlns="http://schemas.openxmlformats.org/package/2006/relationships"><Relationship Id="rId1" Type="http://schemas.openxmlformats.org/officeDocument/2006/relationships/slide" Target="../slides/slide225.xml"/><Relationship Id="rId2" Type="http://schemas.openxmlformats.org/officeDocument/2006/relationships/notesMaster" Target="../notesMasters/notesMaster1.xml"/>
</Relationships>
</file>

<file path=ppt/notesSlides/_rels/notesSlide226.xml.rels><?xml version="1.0" encoding="UTF-8"?>
<Relationships xmlns="http://schemas.openxmlformats.org/package/2006/relationships"><Relationship Id="rId1" Type="http://schemas.openxmlformats.org/officeDocument/2006/relationships/slide" Target="../slides/slide226.xml"/><Relationship Id="rId2" Type="http://schemas.openxmlformats.org/officeDocument/2006/relationships/notesMaster" Target="../notesMasters/notesMaster1.xml"/>
</Relationships>
</file>

<file path=ppt/notesSlides/_rels/notesSlide227.xml.rels><?xml version="1.0" encoding="UTF-8"?>
<Relationships xmlns="http://schemas.openxmlformats.org/package/2006/relationships"><Relationship Id="rId1" Type="http://schemas.openxmlformats.org/officeDocument/2006/relationships/slide" Target="../slides/slide227.xml"/><Relationship Id="rId2" Type="http://schemas.openxmlformats.org/officeDocument/2006/relationships/notesMaster" Target="../notesMasters/notesMaster1.xml"/>
</Relationships>
</file>

<file path=ppt/notesSlides/_rels/notesSlide228.xml.rels><?xml version="1.0" encoding="UTF-8"?>
<Relationships xmlns="http://schemas.openxmlformats.org/package/2006/relationships"><Relationship Id="rId1" Type="http://schemas.openxmlformats.org/officeDocument/2006/relationships/slide" Target="../slides/slide228.xml"/><Relationship Id="rId2" Type="http://schemas.openxmlformats.org/officeDocument/2006/relationships/notesMaster" Target="../notesMasters/notesMaster1.xml"/>
</Relationships>
</file>

<file path=ppt/notesSlides/_rels/notesSlide229.xml.rels><?xml version="1.0" encoding="UTF-8"?>
<Relationships xmlns="http://schemas.openxmlformats.org/package/2006/relationships"><Relationship Id="rId1" Type="http://schemas.openxmlformats.org/officeDocument/2006/relationships/slide" Target="../slides/slide22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30.xml.rels><?xml version="1.0" encoding="UTF-8"?>
<Relationships xmlns="http://schemas.openxmlformats.org/package/2006/relationships"><Relationship Id="rId1" Type="http://schemas.openxmlformats.org/officeDocument/2006/relationships/slide" Target="../slides/slide230.xml"/><Relationship Id="rId2" Type="http://schemas.openxmlformats.org/officeDocument/2006/relationships/notesMaster" Target="../notesMasters/notesMaster1.xml"/>
</Relationships>
</file>

<file path=ppt/notesSlides/_rels/notesSlide231.xml.rels><?xml version="1.0" encoding="UTF-8"?>
<Relationships xmlns="http://schemas.openxmlformats.org/package/2006/relationships"><Relationship Id="rId1" Type="http://schemas.openxmlformats.org/officeDocument/2006/relationships/slide" Target="../slides/slide231.xml"/><Relationship Id="rId2" Type="http://schemas.openxmlformats.org/officeDocument/2006/relationships/notesMaster" Target="../notesMasters/notesMaster1.xml"/>
</Relationships>
</file>

<file path=ppt/notesSlides/_rels/notesSlide232.xml.rels><?xml version="1.0" encoding="UTF-8"?>
<Relationships xmlns="http://schemas.openxmlformats.org/package/2006/relationships"><Relationship Id="rId1" Type="http://schemas.openxmlformats.org/officeDocument/2006/relationships/slide" Target="../slides/slide232.xml"/><Relationship Id="rId2" Type="http://schemas.openxmlformats.org/officeDocument/2006/relationships/notesMaster" Target="../notesMasters/notesMaster1.xml"/>
</Relationships>
</file>

<file path=ppt/notesSlides/_rels/notesSlide233.xml.rels><?xml version="1.0" encoding="UTF-8"?>
<Relationships xmlns="http://schemas.openxmlformats.org/package/2006/relationships"><Relationship Id="rId1" Type="http://schemas.openxmlformats.org/officeDocument/2006/relationships/slide" Target="../slides/slide233.xml"/><Relationship Id="rId2" Type="http://schemas.openxmlformats.org/officeDocument/2006/relationships/notesMaster" Target="../notesMasters/notesMaster1.xml"/>
</Relationships>
</file>

<file path=ppt/notesSlides/_rels/notesSlide234.xml.rels><?xml version="1.0" encoding="UTF-8"?>
<Relationships xmlns="http://schemas.openxmlformats.org/package/2006/relationships"><Relationship Id="rId1" Type="http://schemas.openxmlformats.org/officeDocument/2006/relationships/slide" Target="../slides/slide234.xml"/><Relationship Id="rId2" Type="http://schemas.openxmlformats.org/officeDocument/2006/relationships/notesMaster" Target="../notesMasters/notesMaster1.xml"/>
</Relationships>
</file>

<file path=ppt/notesSlides/_rels/notesSlide235.xml.rels><?xml version="1.0" encoding="UTF-8"?>
<Relationships xmlns="http://schemas.openxmlformats.org/package/2006/relationships"><Relationship Id="rId1" Type="http://schemas.openxmlformats.org/officeDocument/2006/relationships/slide" Target="../slides/slide235.xml"/><Relationship Id="rId2" Type="http://schemas.openxmlformats.org/officeDocument/2006/relationships/notesMaster" Target="../notesMasters/notesMaster1.xml"/>
</Relationships>
</file>

<file path=ppt/notesSlides/_rels/notesSlide236.xml.rels><?xml version="1.0" encoding="UTF-8"?>
<Relationships xmlns="http://schemas.openxmlformats.org/package/2006/relationships"><Relationship Id="rId1" Type="http://schemas.openxmlformats.org/officeDocument/2006/relationships/slide" Target="../slides/slide236.xml"/><Relationship Id="rId2" Type="http://schemas.openxmlformats.org/officeDocument/2006/relationships/notesMaster" Target="../notesMasters/notesMaster1.xml"/>
</Relationships>
</file>

<file path=ppt/notesSlides/_rels/notesSlide237.xml.rels><?xml version="1.0" encoding="UTF-8"?>
<Relationships xmlns="http://schemas.openxmlformats.org/package/2006/relationships"><Relationship Id="rId1" Type="http://schemas.openxmlformats.org/officeDocument/2006/relationships/slide" Target="../slides/slide237.xml"/><Relationship Id="rId2" Type="http://schemas.openxmlformats.org/officeDocument/2006/relationships/notesMaster" Target="../notesMasters/notesMaster1.xml"/>
</Relationships>
</file>

<file path=ppt/notesSlides/_rels/notesSlide238.xml.rels><?xml version="1.0" encoding="UTF-8"?>
<Relationships xmlns="http://schemas.openxmlformats.org/package/2006/relationships"><Relationship Id="rId1" Type="http://schemas.openxmlformats.org/officeDocument/2006/relationships/slide" Target="../slides/slide238.xml"/><Relationship Id="rId2" Type="http://schemas.openxmlformats.org/officeDocument/2006/relationships/notesMaster" Target="../notesMasters/notesMaster1.xml"/>
</Relationships>
</file>

<file path=ppt/notesSlides/_rels/notesSlide239.xml.rels><?xml version="1.0" encoding="UTF-8"?>
<Relationships xmlns="http://schemas.openxmlformats.org/package/2006/relationships"><Relationship Id="rId1" Type="http://schemas.openxmlformats.org/officeDocument/2006/relationships/slide" Target="../slides/slide23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40.xml.rels><?xml version="1.0" encoding="UTF-8"?>
<Relationships xmlns="http://schemas.openxmlformats.org/package/2006/relationships"><Relationship Id="rId1" Type="http://schemas.openxmlformats.org/officeDocument/2006/relationships/slide" Target="../slides/slide240.xml"/><Relationship Id="rId2" Type="http://schemas.openxmlformats.org/officeDocument/2006/relationships/notesMaster" Target="../notesMasters/notesMaster1.xml"/>
</Relationships>
</file>

<file path=ppt/notesSlides/_rels/notesSlide241.xml.rels><?xml version="1.0" encoding="UTF-8"?>
<Relationships xmlns="http://schemas.openxmlformats.org/package/2006/relationships"><Relationship Id="rId1" Type="http://schemas.openxmlformats.org/officeDocument/2006/relationships/slide" Target="../slides/slide241.xml"/><Relationship Id="rId2" Type="http://schemas.openxmlformats.org/officeDocument/2006/relationships/notesMaster" Target="../notesMasters/notesMaster1.xml"/>
</Relationships>
</file>

<file path=ppt/notesSlides/_rels/notesSlide242.xml.rels><?xml version="1.0" encoding="UTF-8"?>
<Relationships xmlns="http://schemas.openxmlformats.org/package/2006/relationships"><Relationship Id="rId1" Type="http://schemas.openxmlformats.org/officeDocument/2006/relationships/slide" Target="../slides/slide242.xml"/><Relationship Id="rId2" Type="http://schemas.openxmlformats.org/officeDocument/2006/relationships/notesMaster" Target="../notesMasters/notesMaster1.xml"/>
</Relationships>
</file>

<file path=ppt/notesSlides/_rels/notesSlide243.xml.rels><?xml version="1.0" encoding="UTF-8"?>
<Relationships xmlns="http://schemas.openxmlformats.org/package/2006/relationships"><Relationship Id="rId1" Type="http://schemas.openxmlformats.org/officeDocument/2006/relationships/slide" Target="../slides/slide243.xml"/><Relationship Id="rId2" Type="http://schemas.openxmlformats.org/officeDocument/2006/relationships/notesMaster" Target="../notesMasters/notesMaster1.xml"/>
</Relationships>
</file>

<file path=ppt/notesSlides/_rels/notesSlide244.xml.rels><?xml version="1.0" encoding="UTF-8"?>
<Relationships xmlns="http://schemas.openxmlformats.org/package/2006/relationships"><Relationship Id="rId1" Type="http://schemas.openxmlformats.org/officeDocument/2006/relationships/slide" Target="../slides/slide244.xml"/><Relationship Id="rId2" Type="http://schemas.openxmlformats.org/officeDocument/2006/relationships/notesMaster" Target="../notesMasters/notesMaster1.xml"/>
</Relationships>
</file>

<file path=ppt/notesSlides/_rels/notesSlide245.xml.rels><?xml version="1.0" encoding="UTF-8"?>
<Relationships xmlns="http://schemas.openxmlformats.org/package/2006/relationships"><Relationship Id="rId1" Type="http://schemas.openxmlformats.org/officeDocument/2006/relationships/slide" Target="../slides/slide245.xml"/><Relationship Id="rId2" Type="http://schemas.openxmlformats.org/officeDocument/2006/relationships/notesMaster" Target="../notesMasters/notesMaster1.xml"/>
</Relationships>
</file>

<file path=ppt/notesSlides/_rels/notesSlide246.xml.rels><?xml version="1.0" encoding="UTF-8"?>
<Relationships xmlns="http://schemas.openxmlformats.org/package/2006/relationships"><Relationship Id="rId1" Type="http://schemas.openxmlformats.org/officeDocument/2006/relationships/slide" Target="../slides/slide246.xml"/><Relationship Id="rId2" Type="http://schemas.openxmlformats.org/officeDocument/2006/relationships/notesMaster" Target="../notesMasters/notesMaster1.xml"/>
</Relationships>
</file>

<file path=ppt/notesSlides/_rels/notesSlide247.xml.rels><?xml version="1.0" encoding="UTF-8"?>
<Relationships xmlns="http://schemas.openxmlformats.org/package/2006/relationships"><Relationship Id="rId1" Type="http://schemas.openxmlformats.org/officeDocument/2006/relationships/slide" Target="../slides/slide247.xml"/><Relationship Id="rId2" Type="http://schemas.openxmlformats.org/officeDocument/2006/relationships/notesMaster" Target="../notesMasters/notesMaster1.xml"/>
</Relationships>
</file>

<file path=ppt/notesSlides/_rels/notesSlide248.xml.rels><?xml version="1.0" encoding="UTF-8"?>
<Relationships xmlns="http://schemas.openxmlformats.org/package/2006/relationships"><Relationship Id="rId1" Type="http://schemas.openxmlformats.org/officeDocument/2006/relationships/slide" Target="../slides/slide248.xml"/><Relationship Id="rId2" Type="http://schemas.openxmlformats.org/officeDocument/2006/relationships/notesMaster" Target="../notesMasters/notesMaster1.xml"/>
</Relationships>
</file>

<file path=ppt/notesSlides/_rels/notesSlide249.xml.rels><?xml version="1.0" encoding="UTF-8"?>
<Relationships xmlns="http://schemas.openxmlformats.org/package/2006/relationships"><Relationship Id="rId1" Type="http://schemas.openxmlformats.org/officeDocument/2006/relationships/slide" Target="../slides/slide24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50.xml.rels><?xml version="1.0" encoding="UTF-8"?>
<Relationships xmlns="http://schemas.openxmlformats.org/package/2006/relationships"><Relationship Id="rId1" Type="http://schemas.openxmlformats.org/officeDocument/2006/relationships/slide" Target="../slides/slide250.xml"/><Relationship Id="rId2" Type="http://schemas.openxmlformats.org/officeDocument/2006/relationships/notesMaster" Target="../notesMasters/notesMaster1.xml"/>
</Relationships>
</file>

<file path=ppt/notesSlides/_rels/notesSlide251.xml.rels><?xml version="1.0" encoding="UTF-8"?>
<Relationships xmlns="http://schemas.openxmlformats.org/package/2006/relationships"><Relationship Id="rId1" Type="http://schemas.openxmlformats.org/officeDocument/2006/relationships/slide" Target="../slides/slide251.xml"/><Relationship Id="rId2" Type="http://schemas.openxmlformats.org/officeDocument/2006/relationships/notesMaster" Target="../notesMasters/notesMaster1.xml"/>
</Relationships>
</file>

<file path=ppt/notesSlides/_rels/notesSlide252.xml.rels><?xml version="1.0" encoding="UTF-8"?>
<Relationships xmlns="http://schemas.openxmlformats.org/package/2006/relationships"><Relationship Id="rId1" Type="http://schemas.openxmlformats.org/officeDocument/2006/relationships/slide" Target="../slides/slide252.xml"/><Relationship Id="rId2" Type="http://schemas.openxmlformats.org/officeDocument/2006/relationships/notesMaster" Target="../notesMasters/notesMaster1.xml"/>
</Relationships>
</file>

<file path=ppt/notesSlides/_rels/notesSlide253.xml.rels><?xml version="1.0" encoding="UTF-8"?>
<Relationships xmlns="http://schemas.openxmlformats.org/package/2006/relationships"><Relationship Id="rId1" Type="http://schemas.openxmlformats.org/officeDocument/2006/relationships/slide" Target="../slides/slide253.xml"/><Relationship Id="rId2" Type="http://schemas.openxmlformats.org/officeDocument/2006/relationships/notesMaster" Target="../notesMasters/notesMaster1.xml"/>
</Relationships>
</file>

<file path=ppt/notesSlides/_rels/notesSlide254.xml.rels><?xml version="1.0" encoding="UTF-8"?>
<Relationships xmlns="http://schemas.openxmlformats.org/package/2006/relationships"><Relationship Id="rId1" Type="http://schemas.openxmlformats.org/officeDocument/2006/relationships/slide" Target="../slides/slide254.xml"/><Relationship Id="rId2" Type="http://schemas.openxmlformats.org/officeDocument/2006/relationships/notesMaster" Target="../notesMasters/notesMaster1.xml"/>
</Relationships>
</file>

<file path=ppt/notesSlides/_rels/notesSlide255.xml.rels><?xml version="1.0" encoding="UTF-8"?>
<Relationships xmlns="http://schemas.openxmlformats.org/package/2006/relationships"><Relationship Id="rId1" Type="http://schemas.openxmlformats.org/officeDocument/2006/relationships/slide" Target="../slides/slide255.xml"/><Relationship Id="rId2" Type="http://schemas.openxmlformats.org/officeDocument/2006/relationships/notesMaster" Target="../notesMasters/notesMaster1.xml"/>
</Relationships>
</file>

<file path=ppt/notesSlides/_rels/notesSlide256.xml.rels><?xml version="1.0" encoding="UTF-8"?>
<Relationships xmlns="http://schemas.openxmlformats.org/package/2006/relationships"><Relationship Id="rId1" Type="http://schemas.openxmlformats.org/officeDocument/2006/relationships/slide" Target="../slides/slide256.xml"/><Relationship Id="rId2" Type="http://schemas.openxmlformats.org/officeDocument/2006/relationships/notesMaster" Target="../notesMasters/notesMaster1.xml"/>
</Relationships>
</file>

<file path=ppt/notesSlides/_rels/notesSlide257.xml.rels><?xml version="1.0" encoding="UTF-8"?>
<Relationships xmlns="http://schemas.openxmlformats.org/package/2006/relationships"><Relationship Id="rId1" Type="http://schemas.openxmlformats.org/officeDocument/2006/relationships/slide" Target="../slides/slide257.xml"/><Relationship Id="rId2" Type="http://schemas.openxmlformats.org/officeDocument/2006/relationships/notesMaster" Target="../notesMasters/notesMaster1.xml"/>
</Relationships>
</file>

<file path=ppt/notesSlides/_rels/notesSlide258.xml.rels><?xml version="1.0" encoding="UTF-8"?>
<Relationships xmlns="http://schemas.openxmlformats.org/package/2006/relationships"><Relationship Id="rId1" Type="http://schemas.openxmlformats.org/officeDocument/2006/relationships/slide" Target="../slides/slide258.xml"/><Relationship Id="rId2" Type="http://schemas.openxmlformats.org/officeDocument/2006/relationships/notesMaster" Target="../notesMasters/notesMaster1.xml"/>
</Relationships>
</file>

<file path=ppt/notesSlides/_rels/notesSlide259.xml.rels><?xml version="1.0" encoding="UTF-8"?>
<Relationships xmlns="http://schemas.openxmlformats.org/package/2006/relationships"><Relationship Id="rId1" Type="http://schemas.openxmlformats.org/officeDocument/2006/relationships/slide" Target="../slides/slide25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60.xml.rels><?xml version="1.0" encoding="UTF-8"?>
<Relationships xmlns="http://schemas.openxmlformats.org/package/2006/relationships"><Relationship Id="rId1" Type="http://schemas.openxmlformats.org/officeDocument/2006/relationships/slide" Target="../slides/slide260.xml"/><Relationship Id="rId2" Type="http://schemas.openxmlformats.org/officeDocument/2006/relationships/notesMaster" Target="../notesMasters/notesMaster1.xml"/>
</Relationships>
</file>

<file path=ppt/notesSlides/_rels/notesSlide261.xml.rels><?xml version="1.0" encoding="UTF-8"?>
<Relationships xmlns="http://schemas.openxmlformats.org/package/2006/relationships"><Relationship Id="rId1" Type="http://schemas.openxmlformats.org/officeDocument/2006/relationships/slide" Target="../slides/slide261.xml"/><Relationship Id="rId2" Type="http://schemas.openxmlformats.org/officeDocument/2006/relationships/notesMaster" Target="../notesMasters/notesMaster1.xml"/>
</Relationships>
</file>

<file path=ppt/notesSlides/_rels/notesSlide262.xml.rels><?xml version="1.0" encoding="UTF-8"?>
<Relationships xmlns="http://schemas.openxmlformats.org/package/2006/relationships"><Relationship Id="rId1" Type="http://schemas.openxmlformats.org/officeDocument/2006/relationships/slide" Target="../slides/slide262.xml"/><Relationship Id="rId2" Type="http://schemas.openxmlformats.org/officeDocument/2006/relationships/notesMaster" Target="../notesMasters/notesMaster1.xml"/>
</Relationships>
</file>

<file path=ppt/notesSlides/_rels/notesSlide263.xml.rels><?xml version="1.0" encoding="UTF-8"?>
<Relationships xmlns="http://schemas.openxmlformats.org/package/2006/relationships"><Relationship Id="rId1" Type="http://schemas.openxmlformats.org/officeDocument/2006/relationships/slide" Target="../slides/slide263.xml"/><Relationship Id="rId2" Type="http://schemas.openxmlformats.org/officeDocument/2006/relationships/notesMaster" Target="../notesMasters/notesMaster1.xml"/>
</Relationships>
</file>

<file path=ppt/notesSlides/_rels/notesSlide264.xml.rels><?xml version="1.0" encoding="UTF-8"?>
<Relationships xmlns="http://schemas.openxmlformats.org/package/2006/relationships"><Relationship Id="rId1" Type="http://schemas.openxmlformats.org/officeDocument/2006/relationships/slide" Target="../slides/slide264.xml"/><Relationship Id="rId2" Type="http://schemas.openxmlformats.org/officeDocument/2006/relationships/notesMaster" Target="../notesMasters/notesMaster1.xml"/>
</Relationships>
</file>

<file path=ppt/notesSlides/_rels/notesSlide265.xml.rels><?xml version="1.0" encoding="UTF-8"?>
<Relationships xmlns="http://schemas.openxmlformats.org/package/2006/relationships"><Relationship Id="rId1" Type="http://schemas.openxmlformats.org/officeDocument/2006/relationships/slide" Target="../slides/slide265.xml"/><Relationship Id="rId2" Type="http://schemas.openxmlformats.org/officeDocument/2006/relationships/notesMaster" Target="../notesMasters/notesMaster1.xml"/>
</Relationships>
</file>

<file path=ppt/notesSlides/_rels/notesSlide266.xml.rels><?xml version="1.0" encoding="UTF-8"?>
<Relationships xmlns="http://schemas.openxmlformats.org/package/2006/relationships"><Relationship Id="rId1" Type="http://schemas.openxmlformats.org/officeDocument/2006/relationships/slide" Target="../slides/slide266.xml"/><Relationship Id="rId2" Type="http://schemas.openxmlformats.org/officeDocument/2006/relationships/notesMaster" Target="../notesMasters/notesMaster1.xml"/>
</Relationships>
</file>

<file path=ppt/notesSlides/_rels/notesSlide267.xml.rels><?xml version="1.0" encoding="UTF-8"?>
<Relationships xmlns="http://schemas.openxmlformats.org/package/2006/relationships"><Relationship Id="rId1" Type="http://schemas.openxmlformats.org/officeDocument/2006/relationships/slide" Target="../slides/slide267.xml"/><Relationship Id="rId2" Type="http://schemas.openxmlformats.org/officeDocument/2006/relationships/notesMaster" Target="../notesMasters/notesMaster1.xml"/>
</Relationships>
</file>

<file path=ppt/notesSlides/_rels/notesSlide268.xml.rels><?xml version="1.0" encoding="UTF-8"?>
<Relationships xmlns="http://schemas.openxmlformats.org/package/2006/relationships"><Relationship Id="rId1" Type="http://schemas.openxmlformats.org/officeDocument/2006/relationships/slide" Target="../slides/slide268.xml"/><Relationship Id="rId2" Type="http://schemas.openxmlformats.org/officeDocument/2006/relationships/notesMaster" Target="../notesMasters/notesMaster1.xml"/>
</Relationships>
</file>

<file path=ppt/notesSlides/_rels/notesSlide269.xml.rels><?xml version="1.0" encoding="UTF-8"?>
<Relationships xmlns="http://schemas.openxmlformats.org/package/2006/relationships"><Relationship Id="rId1" Type="http://schemas.openxmlformats.org/officeDocument/2006/relationships/slide" Target="../slides/slide26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70.xml.rels><?xml version="1.0" encoding="UTF-8"?>
<Relationships xmlns="http://schemas.openxmlformats.org/package/2006/relationships"><Relationship Id="rId1" Type="http://schemas.openxmlformats.org/officeDocument/2006/relationships/slide" Target="../slides/slide270.xml"/><Relationship Id="rId2" Type="http://schemas.openxmlformats.org/officeDocument/2006/relationships/notesMaster" Target="../notesMasters/notesMaster1.xml"/>
</Relationships>
</file>

<file path=ppt/notesSlides/_rels/notesSlide271.xml.rels><?xml version="1.0" encoding="UTF-8"?>
<Relationships xmlns="http://schemas.openxmlformats.org/package/2006/relationships"><Relationship Id="rId1" Type="http://schemas.openxmlformats.org/officeDocument/2006/relationships/slide" Target="../slides/slide271.xml"/><Relationship Id="rId2" Type="http://schemas.openxmlformats.org/officeDocument/2006/relationships/notesMaster" Target="../notesMasters/notesMaster1.xml"/>
</Relationships>
</file>

<file path=ppt/notesSlides/_rels/notesSlide272.xml.rels><?xml version="1.0" encoding="UTF-8"?>
<Relationships xmlns="http://schemas.openxmlformats.org/package/2006/relationships"><Relationship Id="rId1" Type="http://schemas.openxmlformats.org/officeDocument/2006/relationships/slide" Target="../slides/slide272.xml"/><Relationship Id="rId2" Type="http://schemas.openxmlformats.org/officeDocument/2006/relationships/notesMaster" Target="../notesMasters/notesMaster1.xml"/>
</Relationships>
</file>

<file path=ppt/notesSlides/_rels/notesSlide273.xml.rels><?xml version="1.0" encoding="UTF-8"?>
<Relationships xmlns="http://schemas.openxmlformats.org/package/2006/relationships"><Relationship Id="rId1" Type="http://schemas.openxmlformats.org/officeDocument/2006/relationships/slide" Target="../slides/slide273.xml"/><Relationship Id="rId2" Type="http://schemas.openxmlformats.org/officeDocument/2006/relationships/notesMaster" Target="../notesMasters/notesMaster1.xml"/>
</Relationships>
</file>

<file path=ppt/notesSlides/_rels/notesSlide274.xml.rels><?xml version="1.0" encoding="UTF-8"?>
<Relationships xmlns="http://schemas.openxmlformats.org/package/2006/relationships"><Relationship Id="rId1" Type="http://schemas.openxmlformats.org/officeDocument/2006/relationships/slide" Target="../slides/slide274.xml"/><Relationship Id="rId2" Type="http://schemas.openxmlformats.org/officeDocument/2006/relationships/notesMaster" Target="../notesMasters/notesMaster1.xml"/>
</Relationships>
</file>

<file path=ppt/notesSlides/_rels/notesSlide275.xml.rels><?xml version="1.0" encoding="UTF-8"?>
<Relationships xmlns="http://schemas.openxmlformats.org/package/2006/relationships"><Relationship Id="rId1" Type="http://schemas.openxmlformats.org/officeDocument/2006/relationships/slide" Target="../slides/slide275.xml"/><Relationship Id="rId2" Type="http://schemas.openxmlformats.org/officeDocument/2006/relationships/notesMaster" Target="../notesMasters/notesMaster1.xml"/>
</Relationships>
</file>

<file path=ppt/notesSlides/_rels/notesSlide276.xml.rels><?xml version="1.0" encoding="UTF-8"?>
<Relationships xmlns="http://schemas.openxmlformats.org/package/2006/relationships"><Relationship Id="rId1" Type="http://schemas.openxmlformats.org/officeDocument/2006/relationships/slide" Target="../slides/slide276.xml"/><Relationship Id="rId2" Type="http://schemas.openxmlformats.org/officeDocument/2006/relationships/notesMaster" Target="../notesMasters/notesMaster1.xml"/>
</Relationships>
</file>

<file path=ppt/notesSlides/_rels/notesSlide277.xml.rels><?xml version="1.0" encoding="UTF-8"?>
<Relationships xmlns="http://schemas.openxmlformats.org/package/2006/relationships"><Relationship Id="rId1" Type="http://schemas.openxmlformats.org/officeDocument/2006/relationships/slide" Target="../slides/slide277.xml"/><Relationship Id="rId2" Type="http://schemas.openxmlformats.org/officeDocument/2006/relationships/notesMaster" Target="../notesMasters/notesMaster1.xml"/>
</Relationships>
</file>

<file path=ppt/notesSlides/_rels/notesSlide278.xml.rels><?xml version="1.0" encoding="UTF-8"?>
<Relationships xmlns="http://schemas.openxmlformats.org/package/2006/relationships"><Relationship Id="rId1" Type="http://schemas.openxmlformats.org/officeDocument/2006/relationships/slide" Target="../slides/slide278.xml"/><Relationship Id="rId2" Type="http://schemas.openxmlformats.org/officeDocument/2006/relationships/notesMaster" Target="../notesMasters/notesMaster1.xml"/>
</Relationships>
</file>

<file path=ppt/notesSlides/_rels/notesSlide279.xml.rels><?xml version="1.0" encoding="UTF-8"?>
<Relationships xmlns="http://schemas.openxmlformats.org/package/2006/relationships"><Relationship Id="rId1" Type="http://schemas.openxmlformats.org/officeDocument/2006/relationships/slide" Target="../slides/slide279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80.xml.rels><?xml version="1.0" encoding="UTF-8"?>
<Relationships xmlns="http://schemas.openxmlformats.org/package/2006/relationships"><Relationship Id="rId1" Type="http://schemas.openxmlformats.org/officeDocument/2006/relationships/slide" Target="../slides/slide280.xml"/><Relationship Id="rId2" Type="http://schemas.openxmlformats.org/officeDocument/2006/relationships/notesMaster" Target="../notesMasters/notesMaster1.xml"/>
</Relationships>
</file>

<file path=ppt/notesSlides/_rels/notesSlide281.xml.rels><?xml version="1.0" encoding="UTF-8"?>
<Relationships xmlns="http://schemas.openxmlformats.org/package/2006/relationships"><Relationship Id="rId1" Type="http://schemas.openxmlformats.org/officeDocument/2006/relationships/slide" Target="../slides/slide281.xml"/><Relationship Id="rId2" Type="http://schemas.openxmlformats.org/officeDocument/2006/relationships/notesMaster" Target="../notesMasters/notesMaster1.xml"/>
</Relationships>
</file>

<file path=ppt/notesSlides/_rels/notesSlide282.xml.rels><?xml version="1.0" encoding="UTF-8"?>
<Relationships xmlns="http://schemas.openxmlformats.org/package/2006/relationships"><Relationship Id="rId1" Type="http://schemas.openxmlformats.org/officeDocument/2006/relationships/slide" Target="../slides/slide282.xml"/><Relationship Id="rId2" Type="http://schemas.openxmlformats.org/officeDocument/2006/relationships/notesMaster" Target="../notesMasters/notesMaster1.xml"/>
</Relationships>
</file>

<file path=ppt/notesSlides/_rels/notesSlide283.xml.rels><?xml version="1.0" encoding="UTF-8"?>
<Relationships xmlns="http://schemas.openxmlformats.org/package/2006/relationships"><Relationship Id="rId1" Type="http://schemas.openxmlformats.org/officeDocument/2006/relationships/slide" Target="../slides/slide283.xml"/><Relationship Id="rId2" Type="http://schemas.openxmlformats.org/officeDocument/2006/relationships/notesMaster" Target="../notesMasters/notesMaster1.xml"/>
</Relationships>
</file>

<file path=ppt/notesSlides/_rels/notesSlide284.xml.rels><?xml version="1.0" encoding="UTF-8"?>
<Relationships xmlns="http://schemas.openxmlformats.org/package/2006/relationships"><Relationship Id="rId1" Type="http://schemas.openxmlformats.org/officeDocument/2006/relationships/slide" Target="../slides/slide284.xml"/><Relationship Id="rId2" Type="http://schemas.openxmlformats.org/officeDocument/2006/relationships/notesMaster" Target="../notesMasters/notesMaster1.xml"/>
</Relationships>
</file>

<file path=ppt/notesSlides/_rels/notesSlide285.xml.rels><?xml version="1.0" encoding="UTF-8"?>
<Relationships xmlns="http://schemas.openxmlformats.org/package/2006/relationships"><Relationship Id="rId1" Type="http://schemas.openxmlformats.org/officeDocument/2006/relationships/slide" Target="../slides/slide285.xml"/><Relationship Id="rId2" Type="http://schemas.openxmlformats.org/officeDocument/2006/relationships/notesMaster" Target="../notesMasters/notesMaster1.xml"/>
</Relationships>
</file>

<file path=ppt/notesSlides/_rels/notesSlide286.xml.rels><?xml version="1.0" encoding="UTF-8"?>
<Relationships xmlns="http://schemas.openxmlformats.org/package/2006/relationships"><Relationship Id="rId1" Type="http://schemas.openxmlformats.org/officeDocument/2006/relationships/slide" Target="../slides/slide286.xml"/><Relationship Id="rId2" Type="http://schemas.openxmlformats.org/officeDocument/2006/relationships/notesMaster" Target="../notesMasters/notesMaster1.xml"/>
</Relationships>
</file>

<file path=ppt/notesSlides/_rels/notesSlide287.xml.rels><?xml version="1.0" encoding="UTF-8"?>
<Relationships xmlns="http://schemas.openxmlformats.org/package/2006/relationships"><Relationship Id="rId1" Type="http://schemas.openxmlformats.org/officeDocument/2006/relationships/slide" Target="../slides/slide287.xml"/><Relationship Id="rId2" Type="http://schemas.openxmlformats.org/officeDocument/2006/relationships/notesMaster" Target="../notesMasters/notesMaster1.xml"/>
</Relationships>
</file>

<file path=ppt/notesSlides/_rels/notesSlide288.xml.rels><?xml version="1.0" encoding="UTF-8"?>
<Relationships xmlns="http://schemas.openxmlformats.org/package/2006/relationships"><Relationship Id="rId1" Type="http://schemas.openxmlformats.org/officeDocument/2006/relationships/slide" Target="../slides/slide288.xml"/><Relationship Id="rId2" Type="http://schemas.openxmlformats.org/officeDocument/2006/relationships/notesMaster" Target="../notesMasters/notesMaster1.xml"/>
</Relationships>
</file>

<file path=ppt/notesSlides/_rels/notesSlide289.xml.rels><?xml version="1.0" encoding="UTF-8"?>
<Relationships xmlns="http://schemas.openxmlformats.org/package/2006/relationships"><Relationship Id="rId1" Type="http://schemas.openxmlformats.org/officeDocument/2006/relationships/slide" Target="../slides/slide28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290.xml.rels><?xml version="1.0" encoding="UTF-8"?>
<Relationships xmlns="http://schemas.openxmlformats.org/package/2006/relationships"><Relationship Id="rId1" Type="http://schemas.openxmlformats.org/officeDocument/2006/relationships/slide" Target="../slides/slide290.xml"/><Relationship Id="rId2" Type="http://schemas.openxmlformats.org/officeDocument/2006/relationships/notesMaster" Target="../notesMasters/notesMaster1.xml"/>
</Relationships>
</file>

<file path=ppt/notesSlides/_rels/notesSlide291.xml.rels><?xml version="1.0" encoding="UTF-8"?>
<Relationships xmlns="http://schemas.openxmlformats.org/package/2006/relationships"><Relationship Id="rId1" Type="http://schemas.openxmlformats.org/officeDocument/2006/relationships/slide" Target="../slides/slide291.xml"/><Relationship Id="rId2" Type="http://schemas.openxmlformats.org/officeDocument/2006/relationships/notesMaster" Target="../notesMasters/notesMaster1.xml"/>
</Relationships>
</file>

<file path=ppt/notesSlides/_rels/notesSlide292.xml.rels><?xml version="1.0" encoding="UTF-8"?>
<Relationships xmlns="http://schemas.openxmlformats.org/package/2006/relationships"><Relationship Id="rId1" Type="http://schemas.openxmlformats.org/officeDocument/2006/relationships/slide" Target="../slides/slide292.xml"/><Relationship Id="rId2" Type="http://schemas.openxmlformats.org/officeDocument/2006/relationships/notesMaster" Target="../notesMasters/notesMaster1.xml"/>
</Relationships>
</file>

<file path=ppt/notesSlides/_rels/notesSlide293.xml.rels><?xml version="1.0" encoding="UTF-8"?>
<Relationships xmlns="http://schemas.openxmlformats.org/package/2006/relationships"><Relationship Id="rId1" Type="http://schemas.openxmlformats.org/officeDocument/2006/relationships/slide" Target="../slides/slide293.xml"/><Relationship Id="rId2" Type="http://schemas.openxmlformats.org/officeDocument/2006/relationships/notesMaster" Target="../notesMasters/notesMaster1.xml"/>
</Relationships>
</file>

<file path=ppt/notesSlides/_rels/notesSlide294.xml.rels><?xml version="1.0" encoding="UTF-8"?>
<Relationships xmlns="http://schemas.openxmlformats.org/package/2006/relationships"><Relationship Id="rId1" Type="http://schemas.openxmlformats.org/officeDocument/2006/relationships/slide" Target="../slides/slide294.xml"/><Relationship Id="rId2" Type="http://schemas.openxmlformats.org/officeDocument/2006/relationships/notesMaster" Target="../notesMasters/notesMaster1.xml"/>
</Relationships>
</file>

<file path=ppt/notesSlides/_rels/notesSlide295.xml.rels><?xml version="1.0" encoding="UTF-8"?>
<Relationships xmlns="http://schemas.openxmlformats.org/package/2006/relationships"><Relationship Id="rId1" Type="http://schemas.openxmlformats.org/officeDocument/2006/relationships/slide" Target="../slides/slide295.xml"/><Relationship Id="rId2" Type="http://schemas.openxmlformats.org/officeDocument/2006/relationships/notesMaster" Target="../notesMasters/notesMaster1.xml"/>
</Relationships>
</file>

<file path=ppt/notesSlides/_rels/notesSlide296.xml.rels><?xml version="1.0" encoding="UTF-8"?>
<Relationships xmlns="http://schemas.openxmlformats.org/package/2006/relationships"><Relationship Id="rId1" Type="http://schemas.openxmlformats.org/officeDocument/2006/relationships/slide" Target="../slides/slide296.xml"/><Relationship Id="rId2" Type="http://schemas.openxmlformats.org/officeDocument/2006/relationships/notesMaster" Target="../notesMasters/notesMaster1.xml"/>
</Relationships>
</file>

<file path=ppt/notesSlides/_rels/notesSlide297.xml.rels><?xml version="1.0" encoding="UTF-8"?>
<Relationships xmlns="http://schemas.openxmlformats.org/package/2006/relationships"><Relationship Id="rId1" Type="http://schemas.openxmlformats.org/officeDocument/2006/relationships/slide" Target="../slides/slide297.xml"/><Relationship Id="rId2" Type="http://schemas.openxmlformats.org/officeDocument/2006/relationships/notesMaster" Target="../notesMasters/notesMaster1.xml"/>
</Relationships>
</file>

<file path=ppt/notesSlides/_rels/notesSlide298.xml.rels><?xml version="1.0" encoding="UTF-8"?>
<Relationships xmlns="http://schemas.openxmlformats.org/package/2006/relationships"><Relationship Id="rId1" Type="http://schemas.openxmlformats.org/officeDocument/2006/relationships/slide" Target="../slides/slide298.xml"/><Relationship Id="rId2" Type="http://schemas.openxmlformats.org/officeDocument/2006/relationships/notesMaster" Target="../notesMasters/notesMaster1.xml"/>
</Relationships>
</file>

<file path=ppt/notesSlides/_rels/notesSlide299.xml.rels><?xml version="1.0" encoding="UTF-8"?>
<Relationships xmlns="http://schemas.openxmlformats.org/package/2006/relationships"><Relationship Id="rId1" Type="http://schemas.openxmlformats.org/officeDocument/2006/relationships/slide" Target="../slides/slide29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00.xml.rels><?xml version="1.0" encoding="UTF-8"?>
<Relationships xmlns="http://schemas.openxmlformats.org/package/2006/relationships"><Relationship Id="rId1" Type="http://schemas.openxmlformats.org/officeDocument/2006/relationships/slide" Target="../slides/slide300.xml"/><Relationship Id="rId2" Type="http://schemas.openxmlformats.org/officeDocument/2006/relationships/notesMaster" Target="../notesMasters/notesMaster1.xml"/>
</Relationships>
</file>

<file path=ppt/notesSlides/_rels/notesSlide301.xml.rels><?xml version="1.0" encoding="UTF-8"?>
<Relationships xmlns="http://schemas.openxmlformats.org/package/2006/relationships"><Relationship Id="rId1" Type="http://schemas.openxmlformats.org/officeDocument/2006/relationships/slide" Target="../slides/slide301.xml"/><Relationship Id="rId2" Type="http://schemas.openxmlformats.org/officeDocument/2006/relationships/notesMaster" Target="../notesMasters/notesMaster1.xml"/>
</Relationships>
</file>

<file path=ppt/notesSlides/_rels/notesSlide302.xml.rels><?xml version="1.0" encoding="UTF-8"?>
<Relationships xmlns="http://schemas.openxmlformats.org/package/2006/relationships"><Relationship Id="rId1" Type="http://schemas.openxmlformats.org/officeDocument/2006/relationships/slide" Target="../slides/slide302.xml"/><Relationship Id="rId2" Type="http://schemas.openxmlformats.org/officeDocument/2006/relationships/notesMaster" Target="../notesMasters/notesMaster1.xml"/>
</Relationships>
</file>

<file path=ppt/notesSlides/_rels/notesSlide303.xml.rels><?xml version="1.0" encoding="UTF-8"?>
<Relationships xmlns="http://schemas.openxmlformats.org/package/2006/relationships"><Relationship Id="rId1" Type="http://schemas.openxmlformats.org/officeDocument/2006/relationships/slide" Target="../slides/slide303.xml"/><Relationship Id="rId2" Type="http://schemas.openxmlformats.org/officeDocument/2006/relationships/notesMaster" Target="../notesMasters/notesMaster1.xml"/>
</Relationships>
</file>

<file path=ppt/notesSlides/_rels/notesSlide304.xml.rels><?xml version="1.0" encoding="UTF-8"?>
<Relationships xmlns="http://schemas.openxmlformats.org/package/2006/relationships"><Relationship Id="rId1" Type="http://schemas.openxmlformats.org/officeDocument/2006/relationships/slide" Target="../slides/slide304.xml"/><Relationship Id="rId2" Type="http://schemas.openxmlformats.org/officeDocument/2006/relationships/notesMaster" Target="../notesMasters/notesMaster1.xml"/>
</Relationships>
</file>

<file path=ppt/notesSlides/_rels/notesSlide305.xml.rels><?xml version="1.0" encoding="UTF-8"?>
<Relationships xmlns="http://schemas.openxmlformats.org/package/2006/relationships"><Relationship Id="rId1" Type="http://schemas.openxmlformats.org/officeDocument/2006/relationships/slide" Target="../slides/slide305.xml"/><Relationship Id="rId2" Type="http://schemas.openxmlformats.org/officeDocument/2006/relationships/notesMaster" Target="../notesMasters/notesMaster1.xml"/>
</Relationships>
</file>

<file path=ppt/notesSlides/_rels/notesSlide306.xml.rels><?xml version="1.0" encoding="UTF-8"?>
<Relationships xmlns="http://schemas.openxmlformats.org/package/2006/relationships"><Relationship Id="rId1" Type="http://schemas.openxmlformats.org/officeDocument/2006/relationships/slide" Target="../slides/slide306.xml"/><Relationship Id="rId2" Type="http://schemas.openxmlformats.org/officeDocument/2006/relationships/notesMaster" Target="../notesMasters/notesMaster1.xml"/>
</Relationships>
</file>

<file path=ppt/notesSlides/_rels/notesSlide307.xml.rels><?xml version="1.0" encoding="UTF-8"?>
<Relationships xmlns="http://schemas.openxmlformats.org/package/2006/relationships"><Relationship Id="rId1" Type="http://schemas.openxmlformats.org/officeDocument/2006/relationships/slide" Target="../slides/slide307.xml"/><Relationship Id="rId2" Type="http://schemas.openxmlformats.org/officeDocument/2006/relationships/notesMaster" Target="../notesMasters/notesMaster1.xml"/>
</Relationships>
</file>

<file path=ppt/notesSlides/_rels/notesSlide308.xml.rels><?xml version="1.0" encoding="UTF-8"?>
<Relationships xmlns="http://schemas.openxmlformats.org/package/2006/relationships"><Relationship Id="rId1" Type="http://schemas.openxmlformats.org/officeDocument/2006/relationships/slide" Target="../slides/slide308.xml"/><Relationship Id="rId2" Type="http://schemas.openxmlformats.org/officeDocument/2006/relationships/notesMaster" Target="../notesMasters/notesMaster1.xml"/>
</Relationships>
</file>

<file path=ppt/notesSlides/_rels/notesSlide309.xml.rels><?xml version="1.0" encoding="UTF-8"?>
<Relationships xmlns="http://schemas.openxmlformats.org/package/2006/relationships"><Relationship Id="rId1" Type="http://schemas.openxmlformats.org/officeDocument/2006/relationships/slide" Target="../slides/slide30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10.xml.rels><?xml version="1.0" encoding="UTF-8"?>
<Relationships xmlns="http://schemas.openxmlformats.org/package/2006/relationships"><Relationship Id="rId1" Type="http://schemas.openxmlformats.org/officeDocument/2006/relationships/slide" Target="../slides/slide310.xml"/><Relationship Id="rId2" Type="http://schemas.openxmlformats.org/officeDocument/2006/relationships/notesMaster" Target="../notesMasters/notesMaster1.xml"/>
</Relationships>
</file>

<file path=ppt/notesSlides/_rels/notesSlide311.xml.rels><?xml version="1.0" encoding="UTF-8"?>
<Relationships xmlns="http://schemas.openxmlformats.org/package/2006/relationships"><Relationship Id="rId1" Type="http://schemas.openxmlformats.org/officeDocument/2006/relationships/slide" Target="../slides/slide311.xml"/><Relationship Id="rId2" Type="http://schemas.openxmlformats.org/officeDocument/2006/relationships/notesMaster" Target="../notesMasters/notesMaster1.xml"/>
</Relationships>
</file>

<file path=ppt/notesSlides/_rels/notesSlide312.xml.rels><?xml version="1.0" encoding="UTF-8"?>
<Relationships xmlns="http://schemas.openxmlformats.org/package/2006/relationships"><Relationship Id="rId1" Type="http://schemas.openxmlformats.org/officeDocument/2006/relationships/slide" Target="../slides/slide312.xml"/><Relationship Id="rId2" Type="http://schemas.openxmlformats.org/officeDocument/2006/relationships/notesMaster" Target="../notesMasters/notesMaster1.xml"/>
</Relationships>
</file>

<file path=ppt/notesSlides/_rels/notesSlide313.xml.rels><?xml version="1.0" encoding="UTF-8"?>
<Relationships xmlns="http://schemas.openxmlformats.org/package/2006/relationships"><Relationship Id="rId1" Type="http://schemas.openxmlformats.org/officeDocument/2006/relationships/slide" Target="../slides/slide313.xml"/><Relationship Id="rId2" Type="http://schemas.openxmlformats.org/officeDocument/2006/relationships/notesMaster" Target="../notesMasters/notesMaster1.xml"/>
</Relationships>
</file>

<file path=ppt/notesSlides/_rels/notesSlide314.xml.rels><?xml version="1.0" encoding="UTF-8"?>
<Relationships xmlns="http://schemas.openxmlformats.org/package/2006/relationships"><Relationship Id="rId1" Type="http://schemas.openxmlformats.org/officeDocument/2006/relationships/slide" Target="../slides/slide314.xml"/><Relationship Id="rId2" Type="http://schemas.openxmlformats.org/officeDocument/2006/relationships/notesMaster" Target="../notesMasters/notesMaster1.xml"/>
</Relationships>
</file>

<file path=ppt/notesSlides/_rels/notesSlide315.xml.rels><?xml version="1.0" encoding="UTF-8"?>
<Relationships xmlns="http://schemas.openxmlformats.org/package/2006/relationships"><Relationship Id="rId1" Type="http://schemas.openxmlformats.org/officeDocument/2006/relationships/slide" Target="../slides/slide315.xml"/><Relationship Id="rId2" Type="http://schemas.openxmlformats.org/officeDocument/2006/relationships/notesMaster" Target="../notesMasters/notesMaster1.xml"/>
</Relationships>
</file>

<file path=ppt/notesSlides/_rels/notesSlide316.xml.rels><?xml version="1.0" encoding="UTF-8"?>
<Relationships xmlns="http://schemas.openxmlformats.org/package/2006/relationships"><Relationship Id="rId1" Type="http://schemas.openxmlformats.org/officeDocument/2006/relationships/slide" Target="../slides/slide316.xml"/><Relationship Id="rId2" Type="http://schemas.openxmlformats.org/officeDocument/2006/relationships/notesMaster" Target="../notesMasters/notesMaster1.xml"/>
</Relationships>
</file>

<file path=ppt/notesSlides/_rels/notesSlide317.xml.rels><?xml version="1.0" encoding="UTF-8"?>
<Relationships xmlns="http://schemas.openxmlformats.org/package/2006/relationships"><Relationship Id="rId1" Type="http://schemas.openxmlformats.org/officeDocument/2006/relationships/slide" Target="../slides/slide317.xml"/><Relationship Id="rId2" Type="http://schemas.openxmlformats.org/officeDocument/2006/relationships/notesMaster" Target="../notesMasters/notesMaster1.xml"/>
</Relationships>
</file>

<file path=ppt/notesSlides/_rels/notesSlide318.xml.rels><?xml version="1.0" encoding="UTF-8"?>
<Relationships xmlns="http://schemas.openxmlformats.org/package/2006/relationships"><Relationship Id="rId1" Type="http://schemas.openxmlformats.org/officeDocument/2006/relationships/slide" Target="../slides/slide318.xml"/><Relationship Id="rId2" Type="http://schemas.openxmlformats.org/officeDocument/2006/relationships/notesMaster" Target="../notesMasters/notesMaster1.xml"/>
</Relationships>
</file>

<file path=ppt/notesSlides/_rels/notesSlide319.xml.rels><?xml version="1.0" encoding="UTF-8"?>
<Relationships xmlns="http://schemas.openxmlformats.org/package/2006/relationships"><Relationship Id="rId1" Type="http://schemas.openxmlformats.org/officeDocument/2006/relationships/slide" Target="../slides/slide31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20.xml.rels><?xml version="1.0" encoding="UTF-8"?>
<Relationships xmlns="http://schemas.openxmlformats.org/package/2006/relationships"><Relationship Id="rId1" Type="http://schemas.openxmlformats.org/officeDocument/2006/relationships/slide" Target="../slides/slide320.xml"/><Relationship Id="rId2" Type="http://schemas.openxmlformats.org/officeDocument/2006/relationships/notesMaster" Target="../notesMasters/notesMaster1.xml"/>
</Relationships>
</file>

<file path=ppt/notesSlides/_rels/notesSlide321.xml.rels><?xml version="1.0" encoding="UTF-8"?>
<Relationships xmlns="http://schemas.openxmlformats.org/package/2006/relationships"><Relationship Id="rId1" Type="http://schemas.openxmlformats.org/officeDocument/2006/relationships/slide" Target="../slides/slide321.xml"/><Relationship Id="rId2" Type="http://schemas.openxmlformats.org/officeDocument/2006/relationships/notesMaster" Target="../notesMasters/notesMaster1.xml"/>
</Relationships>
</file>

<file path=ppt/notesSlides/_rels/notesSlide322.xml.rels><?xml version="1.0" encoding="UTF-8"?>
<Relationships xmlns="http://schemas.openxmlformats.org/package/2006/relationships"><Relationship Id="rId1" Type="http://schemas.openxmlformats.org/officeDocument/2006/relationships/slide" Target="../slides/slide322.xml"/><Relationship Id="rId2" Type="http://schemas.openxmlformats.org/officeDocument/2006/relationships/notesMaster" Target="../notesMasters/notesMaster1.xml"/>
</Relationships>
</file>

<file path=ppt/notesSlides/_rels/notesSlide323.xml.rels><?xml version="1.0" encoding="UTF-8"?>
<Relationships xmlns="http://schemas.openxmlformats.org/package/2006/relationships"><Relationship Id="rId1" Type="http://schemas.openxmlformats.org/officeDocument/2006/relationships/slide" Target="../slides/slide323.xml"/><Relationship Id="rId2" Type="http://schemas.openxmlformats.org/officeDocument/2006/relationships/notesMaster" Target="../notesMasters/notesMaster1.xml"/>
</Relationships>
</file>

<file path=ppt/notesSlides/_rels/notesSlide324.xml.rels><?xml version="1.0" encoding="UTF-8"?>
<Relationships xmlns="http://schemas.openxmlformats.org/package/2006/relationships"><Relationship Id="rId1" Type="http://schemas.openxmlformats.org/officeDocument/2006/relationships/slide" Target="../slides/slide324.xml"/><Relationship Id="rId2" Type="http://schemas.openxmlformats.org/officeDocument/2006/relationships/notesMaster" Target="../notesMasters/notesMaster1.xml"/>
</Relationships>
</file>

<file path=ppt/notesSlides/_rels/notesSlide325.xml.rels><?xml version="1.0" encoding="UTF-8"?>
<Relationships xmlns="http://schemas.openxmlformats.org/package/2006/relationships"><Relationship Id="rId1" Type="http://schemas.openxmlformats.org/officeDocument/2006/relationships/slide" Target="../slides/slide325.xml"/><Relationship Id="rId2" Type="http://schemas.openxmlformats.org/officeDocument/2006/relationships/notesMaster" Target="../notesMasters/notesMaster1.xml"/>
</Relationships>
</file>

<file path=ppt/notesSlides/_rels/notesSlide326.xml.rels><?xml version="1.0" encoding="UTF-8"?>
<Relationships xmlns="http://schemas.openxmlformats.org/package/2006/relationships"><Relationship Id="rId1" Type="http://schemas.openxmlformats.org/officeDocument/2006/relationships/slide" Target="../slides/slide326.xml"/><Relationship Id="rId2" Type="http://schemas.openxmlformats.org/officeDocument/2006/relationships/notesMaster" Target="../notesMasters/notesMaster1.xml"/>
</Relationships>
</file>

<file path=ppt/notesSlides/_rels/notesSlide327.xml.rels><?xml version="1.0" encoding="UTF-8"?>
<Relationships xmlns="http://schemas.openxmlformats.org/package/2006/relationships"><Relationship Id="rId1" Type="http://schemas.openxmlformats.org/officeDocument/2006/relationships/slide" Target="../slides/slide327.xml"/><Relationship Id="rId2" Type="http://schemas.openxmlformats.org/officeDocument/2006/relationships/notesMaster" Target="../notesMasters/notesMaster1.xml"/>
</Relationships>
</file>

<file path=ppt/notesSlides/_rels/notesSlide328.xml.rels><?xml version="1.0" encoding="UTF-8"?>
<Relationships xmlns="http://schemas.openxmlformats.org/package/2006/relationships"><Relationship Id="rId1" Type="http://schemas.openxmlformats.org/officeDocument/2006/relationships/slide" Target="../slides/slide328.xml"/><Relationship Id="rId2" Type="http://schemas.openxmlformats.org/officeDocument/2006/relationships/notesMaster" Target="../notesMasters/notesMaster1.xml"/>
</Relationships>
</file>

<file path=ppt/notesSlides/_rels/notesSlide329.xml.rels><?xml version="1.0" encoding="UTF-8"?>
<Relationships xmlns="http://schemas.openxmlformats.org/package/2006/relationships"><Relationship Id="rId1" Type="http://schemas.openxmlformats.org/officeDocument/2006/relationships/slide" Target="../slides/slide329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30.xml.rels><?xml version="1.0" encoding="UTF-8"?>
<Relationships xmlns="http://schemas.openxmlformats.org/package/2006/relationships"><Relationship Id="rId1" Type="http://schemas.openxmlformats.org/officeDocument/2006/relationships/slide" Target="../slides/slide330.xml"/><Relationship Id="rId2" Type="http://schemas.openxmlformats.org/officeDocument/2006/relationships/notesMaster" Target="../notesMasters/notesMaster1.xml"/>
</Relationships>
</file>

<file path=ppt/notesSlides/_rels/notesSlide331.xml.rels><?xml version="1.0" encoding="UTF-8"?>
<Relationships xmlns="http://schemas.openxmlformats.org/package/2006/relationships"><Relationship Id="rId1" Type="http://schemas.openxmlformats.org/officeDocument/2006/relationships/slide" Target="../slides/slide331.xml"/><Relationship Id="rId2" Type="http://schemas.openxmlformats.org/officeDocument/2006/relationships/notesMaster" Target="../notesMasters/notesMaster1.xml"/>
</Relationships>
</file>

<file path=ppt/notesSlides/_rels/notesSlide332.xml.rels><?xml version="1.0" encoding="UTF-8"?>
<Relationships xmlns="http://schemas.openxmlformats.org/package/2006/relationships"><Relationship Id="rId1" Type="http://schemas.openxmlformats.org/officeDocument/2006/relationships/slide" Target="../slides/slide332.xml"/><Relationship Id="rId2" Type="http://schemas.openxmlformats.org/officeDocument/2006/relationships/notesMaster" Target="../notesMasters/notesMaster1.xml"/>
</Relationships>
</file>

<file path=ppt/notesSlides/_rels/notesSlide333.xml.rels><?xml version="1.0" encoding="UTF-8"?>
<Relationships xmlns="http://schemas.openxmlformats.org/package/2006/relationships"><Relationship Id="rId1" Type="http://schemas.openxmlformats.org/officeDocument/2006/relationships/slide" Target="../slides/slide333.xml"/><Relationship Id="rId2" Type="http://schemas.openxmlformats.org/officeDocument/2006/relationships/notesMaster" Target="../notesMasters/notesMaster1.xml"/>
</Relationships>
</file>

<file path=ppt/notesSlides/_rels/notesSlide334.xml.rels><?xml version="1.0" encoding="UTF-8"?>
<Relationships xmlns="http://schemas.openxmlformats.org/package/2006/relationships"><Relationship Id="rId1" Type="http://schemas.openxmlformats.org/officeDocument/2006/relationships/slide" Target="../slides/slide334.xml"/><Relationship Id="rId2" Type="http://schemas.openxmlformats.org/officeDocument/2006/relationships/notesMaster" Target="../notesMasters/notesMaster1.xml"/>
</Relationships>
</file>

<file path=ppt/notesSlides/_rels/notesSlide335.xml.rels><?xml version="1.0" encoding="UTF-8"?>
<Relationships xmlns="http://schemas.openxmlformats.org/package/2006/relationships"><Relationship Id="rId1" Type="http://schemas.openxmlformats.org/officeDocument/2006/relationships/slide" Target="../slides/slide335.xml"/><Relationship Id="rId2" Type="http://schemas.openxmlformats.org/officeDocument/2006/relationships/notesMaster" Target="../notesMasters/notesMaster1.xml"/>
</Relationships>
</file>

<file path=ppt/notesSlides/_rels/notesSlide336.xml.rels><?xml version="1.0" encoding="UTF-8"?>
<Relationships xmlns="http://schemas.openxmlformats.org/package/2006/relationships"><Relationship Id="rId1" Type="http://schemas.openxmlformats.org/officeDocument/2006/relationships/slide" Target="../slides/slide336.xml"/><Relationship Id="rId2" Type="http://schemas.openxmlformats.org/officeDocument/2006/relationships/notesMaster" Target="../notesMasters/notesMaster1.xml"/>
</Relationships>
</file>

<file path=ppt/notesSlides/_rels/notesSlide337.xml.rels><?xml version="1.0" encoding="UTF-8"?>
<Relationships xmlns="http://schemas.openxmlformats.org/package/2006/relationships"><Relationship Id="rId1" Type="http://schemas.openxmlformats.org/officeDocument/2006/relationships/slide" Target="../slides/slide337.xml"/><Relationship Id="rId2" Type="http://schemas.openxmlformats.org/officeDocument/2006/relationships/notesMaster" Target="../notesMasters/notesMaster1.xml"/>
</Relationships>
</file>

<file path=ppt/notesSlides/_rels/notesSlide338.xml.rels><?xml version="1.0" encoding="UTF-8"?>
<Relationships xmlns="http://schemas.openxmlformats.org/package/2006/relationships"><Relationship Id="rId1" Type="http://schemas.openxmlformats.org/officeDocument/2006/relationships/slide" Target="../slides/slide338.xml"/><Relationship Id="rId2" Type="http://schemas.openxmlformats.org/officeDocument/2006/relationships/notesMaster" Target="../notesMasters/notesMaster1.xml"/>
</Relationships>
</file>

<file path=ppt/notesSlides/_rels/notesSlide339.xml.rels><?xml version="1.0" encoding="UTF-8"?>
<Relationships xmlns="http://schemas.openxmlformats.org/package/2006/relationships"><Relationship Id="rId1" Type="http://schemas.openxmlformats.org/officeDocument/2006/relationships/slide" Target="../slides/slide33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40.xml.rels><?xml version="1.0" encoding="UTF-8"?>
<Relationships xmlns="http://schemas.openxmlformats.org/package/2006/relationships"><Relationship Id="rId1" Type="http://schemas.openxmlformats.org/officeDocument/2006/relationships/slide" Target="../slides/slide340.xml"/><Relationship Id="rId2" Type="http://schemas.openxmlformats.org/officeDocument/2006/relationships/notesMaster" Target="../notesMasters/notesMaster1.xml"/>
</Relationships>
</file>

<file path=ppt/notesSlides/_rels/notesSlide341.xml.rels><?xml version="1.0" encoding="UTF-8"?>
<Relationships xmlns="http://schemas.openxmlformats.org/package/2006/relationships"><Relationship Id="rId1" Type="http://schemas.openxmlformats.org/officeDocument/2006/relationships/slide" Target="../slides/slide341.xml"/><Relationship Id="rId2" Type="http://schemas.openxmlformats.org/officeDocument/2006/relationships/notesMaster" Target="../notesMasters/notesMaster1.xml"/>
</Relationships>
</file>

<file path=ppt/notesSlides/_rels/notesSlide342.xml.rels><?xml version="1.0" encoding="UTF-8"?>
<Relationships xmlns="http://schemas.openxmlformats.org/package/2006/relationships"><Relationship Id="rId1" Type="http://schemas.openxmlformats.org/officeDocument/2006/relationships/slide" Target="../slides/slide342.xml"/><Relationship Id="rId2" Type="http://schemas.openxmlformats.org/officeDocument/2006/relationships/notesMaster" Target="../notesMasters/notesMaster1.xml"/>
</Relationships>
</file>

<file path=ppt/notesSlides/_rels/notesSlide343.xml.rels><?xml version="1.0" encoding="UTF-8"?>
<Relationships xmlns="http://schemas.openxmlformats.org/package/2006/relationships"><Relationship Id="rId1" Type="http://schemas.openxmlformats.org/officeDocument/2006/relationships/slide" Target="../slides/slide343.xml"/><Relationship Id="rId2" Type="http://schemas.openxmlformats.org/officeDocument/2006/relationships/notesMaster" Target="../notesMasters/notesMaster1.xml"/>
</Relationships>
</file>

<file path=ppt/notesSlides/_rels/notesSlide344.xml.rels><?xml version="1.0" encoding="UTF-8"?>
<Relationships xmlns="http://schemas.openxmlformats.org/package/2006/relationships"><Relationship Id="rId1" Type="http://schemas.openxmlformats.org/officeDocument/2006/relationships/slide" Target="../slides/slide344.xml"/><Relationship Id="rId2" Type="http://schemas.openxmlformats.org/officeDocument/2006/relationships/notesMaster" Target="../notesMasters/notesMaster1.xml"/>
</Relationships>
</file>

<file path=ppt/notesSlides/_rels/notesSlide345.xml.rels><?xml version="1.0" encoding="UTF-8"?>
<Relationships xmlns="http://schemas.openxmlformats.org/package/2006/relationships"><Relationship Id="rId1" Type="http://schemas.openxmlformats.org/officeDocument/2006/relationships/slide" Target="../slides/slide345.xml"/><Relationship Id="rId2" Type="http://schemas.openxmlformats.org/officeDocument/2006/relationships/notesMaster" Target="../notesMasters/notesMaster1.xml"/>
</Relationships>
</file>

<file path=ppt/notesSlides/_rels/notesSlide346.xml.rels><?xml version="1.0" encoding="UTF-8"?>
<Relationships xmlns="http://schemas.openxmlformats.org/package/2006/relationships"><Relationship Id="rId1" Type="http://schemas.openxmlformats.org/officeDocument/2006/relationships/slide" Target="../slides/slide346.xml"/><Relationship Id="rId2" Type="http://schemas.openxmlformats.org/officeDocument/2006/relationships/notesMaster" Target="../notesMasters/notesMaster1.xml"/>
</Relationships>
</file>

<file path=ppt/notesSlides/_rels/notesSlide347.xml.rels><?xml version="1.0" encoding="UTF-8"?>
<Relationships xmlns="http://schemas.openxmlformats.org/package/2006/relationships"><Relationship Id="rId1" Type="http://schemas.openxmlformats.org/officeDocument/2006/relationships/slide" Target="../slides/slide347.xml"/><Relationship Id="rId2" Type="http://schemas.openxmlformats.org/officeDocument/2006/relationships/notesMaster" Target="../notesMasters/notesMaster1.xml"/>
</Relationships>
</file>

<file path=ppt/notesSlides/_rels/notesSlide348.xml.rels><?xml version="1.0" encoding="UTF-8"?>
<Relationships xmlns="http://schemas.openxmlformats.org/package/2006/relationships"><Relationship Id="rId1" Type="http://schemas.openxmlformats.org/officeDocument/2006/relationships/slide" Target="../slides/slide348.xml"/><Relationship Id="rId2" Type="http://schemas.openxmlformats.org/officeDocument/2006/relationships/notesMaster" Target="../notesMasters/notesMaster1.xml"/>
</Relationships>
</file>

<file path=ppt/notesSlides/_rels/notesSlide349.xml.rels><?xml version="1.0" encoding="UTF-8"?>
<Relationships xmlns="http://schemas.openxmlformats.org/package/2006/relationships"><Relationship Id="rId1" Type="http://schemas.openxmlformats.org/officeDocument/2006/relationships/slide" Target="../slides/slide34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50.xml.rels><?xml version="1.0" encoding="UTF-8"?>
<Relationships xmlns="http://schemas.openxmlformats.org/package/2006/relationships"><Relationship Id="rId1" Type="http://schemas.openxmlformats.org/officeDocument/2006/relationships/slide" Target="../slides/slide350.xml"/><Relationship Id="rId2" Type="http://schemas.openxmlformats.org/officeDocument/2006/relationships/notesMaster" Target="../notesMasters/notesMaster1.xml"/>
</Relationships>
</file>

<file path=ppt/notesSlides/_rels/notesSlide351.xml.rels><?xml version="1.0" encoding="UTF-8"?>
<Relationships xmlns="http://schemas.openxmlformats.org/package/2006/relationships"><Relationship Id="rId1" Type="http://schemas.openxmlformats.org/officeDocument/2006/relationships/slide" Target="../slides/slide351.xml"/><Relationship Id="rId2" Type="http://schemas.openxmlformats.org/officeDocument/2006/relationships/notesMaster" Target="../notesMasters/notesMaster1.xml"/>
</Relationships>
</file>

<file path=ppt/notesSlides/_rels/notesSlide352.xml.rels><?xml version="1.0" encoding="UTF-8"?>
<Relationships xmlns="http://schemas.openxmlformats.org/package/2006/relationships"><Relationship Id="rId1" Type="http://schemas.openxmlformats.org/officeDocument/2006/relationships/slide" Target="../slides/slide352.xml"/><Relationship Id="rId2" Type="http://schemas.openxmlformats.org/officeDocument/2006/relationships/notesMaster" Target="../notesMasters/notesMaster1.xml"/>
</Relationships>
</file>

<file path=ppt/notesSlides/_rels/notesSlide353.xml.rels><?xml version="1.0" encoding="UTF-8"?>
<Relationships xmlns="http://schemas.openxmlformats.org/package/2006/relationships"><Relationship Id="rId1" Type="http://schemas.openxmlformats.org/officeDocument/2006/relationships/slide" Target="../slides/slide353.xml"/><Relationship Id="rId2" Type="http://schemas.openxmlformats.org/officeDocument/2006/relationships/notesMaster" Target="../notesMasters/notesMaster1.xml"/>
</Relationships>
</file>

<file path=ppt/notesSlides/_rels/notesSlide354.xml.rels><?xml version="1.0" encoding="UTF-8"?>
<Relationships xmlns="http://schemas.openxmlformats.org/package/2006/relationships"><Relationship Id="rId1" Type="http://schemas.openxmlformats.org/officeDocument/2006/relationships/slide" Target="../slides/slide354.xml"/><Relationship Id="rId2" Type="http://schemas.openxmlformats.org/officeDocument/2006/relationships/notesMaster" Target="../notesMasters/notesMaster1.xml"/>
</Relationships>
</file>

<file path=ppt/notesSlides/_rels/notesSlide355.xml.rels><?xml version="1.0" encoding="UTF-8"?>
<Relationships xmlns="http://schemas.openxmlformats.org/package/2006/relationships"><Relationship Id="rId1" Type="http://schemas.openxmlformats.org/officeDocument/2006/relationships/slide" Target="../slides/slide355.xml"/><Relationship Id="rId2" Type="http://schemas.openxmlformats.org/officeDocument/2006/relationships/notesMaster" Target="../notesMasters/notesMaster1.xml"/>
</Relationships>
</file>

<file path=ppt/notesSlides/_rels/notesSlide356.xml.rels><?xml version="1.0" encoding="UTF-8"?>
<Relationships xmlns="http://schemas.openxmlformats.org/package/2006/relationships"><Relationship Id="rId1" Type="http://schemas.openxmlformats.org/officeDocument/2006/relationships/slide" Target="../slides/slide356.xml"/><Relationship Id="rId2" Type="http://schemas.openxmlformats.org/officeDocument/2006/relationships/notesMaster" Target="../notesMasters/notesMaster1.xml"/>
</Relationships>
</file>

<file path=ppt/notesSlides/_rels/notesSlide357.xml.rels><?xml version="1.0" encoding="UTF-8"?>
<Relationships xmlns="http://schemas.openxmlformats.org/package/2006/relationships"><Relationship Id="rId1" Type="http://schemas.openxmlformats.org/officeDocument/2006/relationships/slide" Target="../slides/slide357.xml"/><Relationship Id="rId2" Type="http://schemas.openxmlformats.org/officeDocument/2006/relationships/notesMaster" Target="../notesMasters/notesMaster1.xml"/>
</Relationships>
</file>

<file path=ppt/notesSlides/_rels/notesSlide358.xml.rels><?xml version="1.0" encoding="UTF-8"?>
<Relationships xmlns="http://schemas.openxmlformats.org/package/2006/relationships"><Relationship Id="rId1" Type="http://schemas.openxmlformats.org/officeDocument/2006/relationships/slide" Target="../slides/slide358.xml"/><Relationship Id="rId2" Type="http://schemas.openxmlformats.org/officeDocument/2006/relationships/notesMaster" Target="../notesMasters/notesMaster1.xml"/>
</Relationships>
</file>

<file path=ppt/notesSlides/_rels/notesSlide359.xml.rels><?xml version="1.0" encoding="UTF-8"?>
<Relationships xmlns="http://schemas.openxmlformats.org/package/2006/relationships"><Relationship Id="rId1" Type="http://schemas.openxmlformats.org/officeDocument/2006/relationships/slide" Target="../slides/slide35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60.xml.rels><?xml version="1.0" encoding="UTF-8"?>
<Relationships xmlns="http://schemas.openxmlformats.org/package/2006/relationships"><Relationship Id="rId1" Type="http://schemas.openxmlformats.org/officeDocument/2006/relationships/slide" Target="../slides/slide360.xml"/><Relationship Id="rId2" Type="http://schemas.openxmlformats.org/officeDocument/2006/relationships/notesMaster" Target="../notesMasters/notesMaster1.xml"/>
</Relationships>
</file>

<file path=ppt/notesSlides/_rels/notesSlide361.xml.rels><?xml version="1.0" encoding="UTF-8"?>
<Relationships xmlns="http://schemas.openxmlformats.org/package/2006/relationships"><Relationship Id="rId1" Type="http://schemas.openxmlformats.org/officeDocument/2006/relationships/slide" Target="../slides/slide361.xml"/><Relationship Id="rId2" Type="http://schemas.openxmlformats.org/officeDocument/2006/relationships/notesMaster" Target="../notesMasters/notesMaster1.xml"/>
</Relationships>
</file>

<file path=ppt/notesSlides/_rels/notesSlide362.xml.rels><?xml version="1.0" encoding="UTF-8"?>
<Relationships xmlns="http://schemas.openxmlformats.org/package/2006/relationships"><Relationship Id="rId1" Type="http://schemas.openxmlformats.org/officeDocument/2006/relationships/slide" Target="../slides/slide362.xml"/><Relationship Id="rId2" Type="http://schemas.openxmlformats.org/officeDocument/2006/relationships/notesMaster" Target="../notesMasters/notesMaster1.xml"/>
</Relationships>
</file>

<file path=ppt/notesSlides/_rels/notesSlide363.xml.rels><?xml version="1.0" encoding="UTF-8"?>
<Relationships xmlns="http://schemas.openxmlformats.org/package/2006/relationships"><Relationship Id="rId1" Type="http://schemas.openxmlformats.org/officeDocument/2006/relationships/slide" Target="../slides/slide363.xml"/><Relationship Id="rId2" Type="http://schemas.openxmlformats.org/officeDocument/2006/relationships/notesMaster" Target="../notesMasters/notesMaster1.xml"/>
</Relationships>
</file>

<file path=ppt/notesSlides/_rels/notesSlide364.xml.rels><?xml version="1.0" encoding="UTF-8"?>
<Relationships xmlns="http://schemas.openxmlformats.org/package/2006/relationships"><Relationship Id="rId1" Type="http://schemas.openxmlformats.org/officeDocument/2006/relationships/slide" Target="../slides/slide364.xml"/><Relationship Id="rId2" Type="http://schemas.openxmlformats.org/officeDocument/2006/relationships/notesMaster" Target="../notesMasters/notesMaster1.xml"/>
</Relationships>
</file>

<file path=ppt/notesSlides/_rels/notesSlide365.xml.rels><?xml version="1.0" encoding="UTF-8"?>
<Relationships xmlns="http://schemas.openxmlformats.org/package/2006/relationships"><Relationship Id="rId1" Type="http://schemas.openxmlformats.org/officeDocument/2006/relationships/slide" Target="../slides/slide365.xml"/><Relationship Id="rId2" Type="http://schemas.openxmlformats.org/officeDocument/2006/relationships/notesMaster" Target="../notesMasters/notesMaster1.xml"/>
</Relationships>
</file>

<file path=ppt/notesSlides/_rels/notesSlide366.xml.rels><?xml version="1.0" encoding="UTF-8"?>
<Relationships xmlns="http://schemas.openxmlformats.org/package/2006/relationships"><Relationship Id="rId1" Type="http://schemas.openxmlformats.org/officeDocument/2006/relationships/slide" Target="../slides/slide366.xml"/><Relationship Id="rId2" Type="http://schemas.openxmlformats.org/officeDocument/2006/relationships/notesMaster" Target="../notesMasters/notesMaster1.xml"/>
</Relationships>
</file>

<file path=ppt/notesSlides/_rels/notesSlide367.xml.rels><?xml version="1.0" encoding="UTF-8"?>
<Relationships xmlns="http://schemas.openxmlformats.org/package/2006/relationships"><Relationship Id="rId1" Type="http://schemas.openxmlformats.org/officeDocument/2006/relationships/slide" Target="../slides/slide367.xml"/><Relationship Id="rId2" Type="http://schemas.openxmlformats.org/officeDocument/2006/relationships/notesMaster" Target="../notesMasters/notesMaster1.xml"/>
</Relationships>
</file>

<file path=ppt/notesSlides/_rels/notesSlide368.xml.rels><?xml version="1.0" encoding="UTF-8"?>
<Relationships xmlns="http://schemas.openxmlformats.org/package/2006/relationships"><Relationship Id="rId1" Type="http://schemas.openxmlformats.org/officeDocument/2006/relationships/slide" Target="../slides/slide368.xml"/><Relationship Id="rId2" Type="http://schemas.openxmlformats.org/officeDocument/2006/relationships/notesMaster" Target="../notesMasters/notesMaster1.xml"/>
</Relationships>
</file>

<file path=ppt/notesSlides/_rels/notesSlide369.xml.rels><?xml version="1.0" encoding="UTF-8"?>
<Relationships xmlns="http://schemas.openxmlformats.org/package/2006/relationships"><Relationship Id="rId1" Type="http://schemas.openxmlformats.org/officeDocument/2006/relationships/slide" Target="../slides/slide369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70.xml.rels><?xml version="1.0" encoding="UTF-8"?>
<Relationships xmlns="http://schemas.openxmlformats.org/package/2006/relationships"><Relationship Id="rId1" Type="http://schemas.openxmlformats.org/officeDocument/2006/relationships/slide" Target="../slides/slide370.xml"/><Relationship Id="rId2" Type="http://schemas.openxmlformats.org/officeDocument/2006/relationships/notesMaster" Target="../notesMasters/notesMaster1.xml"/>
</Relationships>
</file>

<file path=ppt/notesSlides/_rels/notesSlide371.xml.rels><?xml version="1.0" encoding="UTF-8"?>
<Relationships xmlns="http://schemas.openxmlformats.org/package/2006/relationships"><Relationship Id="rId1" Type="http://schemas.openxmlformats.org/officeDocument/2006/relationships/slide" Target="../slides/slide371.xml"/><Relationship Id="rId2" Type="http://schemas.openxmlformats.org/officeDocument/2006/relationships/notesMaster" Target="../notesMasters/notesMaster1.xml"/>
</Relationships>
</file>

<file path=ppt/notesSlides/_rels/notesSlide372.xml.rels><?xml version="1.0" encoding="UTF-8"?>
<Relationships xmlns="http://schemas.openxmlformats.org/package/2006/relationships"><Relationship Id="rId1" Type="http://schemas.openxmlformats.org/officeDocument/2006/relationships/slide" Target="../slides/slide372.xml"/><Relationship Id="rId2" Type="http://schemas.openxmlformats.org/officeDocument/2006/relationships/notesMaster" Target="../notesMasters/notesMaster1.xml"/>
</Relationships>
</file>

<file path=ppt/notesSlides/_rels/notesSlide373.xml.rels><?xml version="1.0" encoding="UTF-8"?>
<Relationships xmlns="http://schemas.openxmlformats.org/package/2006/relationships"><Relationship Id="rId1" Type="http://schemas.openxmlformats.org/officeDocument/2006/relationships/slide" Target="../slides/slide373.xml"/><Relationship Id="rId2" Type="http://schemas.openxmlformats.org/officeDocument/2006/relationships/notesMaster" Target="../notesMasters/notesMaster1.xml"/>
</Relationships>
</file>

<file path=ppt/notesSlides/_rels/notesSlide374.xml.rels><?xml version="1.0" encoding="UTF-8"?>
<Relationships xmlns="http://schemas.openxmlformats.org/package/2006/relationships"><Relationship Id="rId1" Type="http://schemas.openxmlformats.org/officeDocument/2006/relationships/slide" Target="../slides/slide374.xml"/><Relationship Id="rId2" Type="http://schemas.openxmlformats.org/officeDocument/2006/relationships/notesMaster" Target="../notesMasters/notesMaster1.xml"/>
</Relationships>
</file>

<file path=ppt/notesSlides/_rels/notesSlide375.xml.rels><?xml version="1.0" encoding="UTF-8"?>
<Relationships xmlns="http://schemas.openxmlformats.org/package/2006/relationships"><Relationship Id="rId1" Type="http://schemas.openxmlformats.org/officeDocument/2006/relationships/slide" Target="../slides/slide375.xml"/><Relationship Id="rId2" Type="http://schemas.openxmlformats.org/officeDocument/2006/relationships/notesMaster" Target="../notesMasters/notesMaster1.xml"/>
</Relationships>
</file>

<file path=ppt/notesSlides/_rels/notesSlide376.xml.rels><?xml version="1.0" encoding="UTF-8"?>
<Relationships xmlns="http://schemas.openxmlformats.org/package/2006/relationships"><Relationship Id="rId1" Type="http://schemas.openxmlformats.org/officeDocument/2006/relationships/slide" Target="../slides/slide376.xml"/><Relationship Id="rId2" Type="http://schemas.openxmlformats.org/officeDocument/2006/relationships/notesMaster" Target="../notesMasters/notesMaster1.xml"/>
</Relationships>
</file>

<file path=ppt/notesSlides/_rels/notesSlide377.xml.rels><?xml version="1.0" encoding="UTF-8"?>
<Relationships xmlns="http://schemas.openxmlformats.org/package/2006/relationships"><Relationship Id="rId1" Type="http://schemas.openxmlformats.org/officeDocument/2006/relationships/slide" Target="../slides/slide377.xml"/><Relationship Id="rId2" Type="http://schemas.openxmlformats.org/officeDocument/2006/relationships/notesMaster" Target="../notesMasters/notesMaster1.xml"/>
</Relationships>
</file>

<file path=ppt/notesSlides/_rels/notesSlide378.xml.rels><?xml version="1.0" encoding="UTF-8"?>
<Relationships xmlns="http://schemas.openxmlformats.org/package/2006/relationships"><Relationship Id="rId1" Type="http://schemas.openxmlformats.org/officeDocument/2006/relationships/slide" Target="../slides/slide378.xml"/><Relationship Id="rId2" Type="http://schemas.openxmlformats.org/officeDocument/2006/relationships/notesMaster" Target="../notesMasters/notesMaster1.xml"/>
</Relationships>
</file>

<file path=ppt/notesSlides/_rels/notesSlide379.xml.rels><?xml version="1.0" encoding="UTF-8"?>
<Relationships xmlns="http://schemas.openxmlformats.org/package/2006/relationships"><Relationship Id="rId1" Type="http://schemas.openxmlformats.org/officeDocument/2006/relationships/slide" Target="../slides/slide379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80.xml.rels><?xml version="1.0" encoding="UTF-8"?>
<Relationships xmlns="http://schemas.openxmlformats.org/package/2006/relationships"><Relationship Id="rId1" Type="http://schemas.openxmlformats.org/officeDocument/2006/relationships/slide" Target="../slides/slide380.xml"/><Relationship Id="rId2" Type="http://schemas.openxmlformats.org/officeDocument/2006/relationships/notesMaster" Target="../notesMasters/notesMaster1.xml"/>
</Relationships>
</file>

<file path=ppt/notesSlides/_rels/notesSlide381.xml.rels><?xml version="1.0" encoding="UTF-8"?>
<Relationships xmlns="http://schemas.openxmlformats.org/package/2006/relationships"><Relationship Id="rId1" Type="http://schemas.openxmlformats.org/officeDocument/2006/relationships/slide" Target="../slides/slide381.xml"/><Relationship Id="rId2" Type="http://schemas.openxmlformats.org/officeDocument/2006/relationships/notesMaster" Target="../notesMasters/notesMaster1.xml"/>
</Relationships>
</file>

<file path=ppt/notesSlides/_rels/notesSlide382.xml.rels><?xml version="1.0" encoding="UTF-8"?>
<Relationships xmlns="http://schemas.openxmlformats.org/package/2006/relationships"><Relationship Id="rId1" Type="http://schemas.openxmlformats.org/officeDocument/2006/relationships/slide" Target="../slides/slide382.xml"/><Relationship Id="rId2" Type="http://schemas.openxmlformats.org/officeDocument/2006/relationships/notesMaster" Target="../notesMasters/notesMaster1.xml"/>
</Relationships>
</file>

<file path=ppt/notesSlides/_rels/notesSlide383.xml.rels><?xml version="1.0" encoding="UTF-8"?>
<Relationships xmlns="http://schemas.openxmlformats.org/package/2006/relationships"><Relationship Id="rId1" Type="http://schemas.openxmlformats.org/officeDocument/2006/relationships/slide" Target="../slides/slide383.xml"/><Relationship Id="rId2" Type="http://schemas.openxmlformats.org/officeDocument/2006/relationships/notesMaster" Target="../notesMasters/notesMaster1.xml"/>
</Relationships>
</file>

<file path=ppt/notesSlides/_rels/notesSlide384.xml.rels><?xml version="1.0" encoding="UTF-8"?>
<Relationships xmlns="http://schemas.openxmlformats.org/package/2006/relationships"><Relationship Id="rId1" Type="http://schemas.openxmlformats.org/officeDocument/2006/relationships/slide" Target="../slides/slide384.xml"/><Relationship Id="rId2" Type="http://schemas.openxmlformats.org/officeDocument/2006/relationships/notesMaster" Target="../notesMasters/notesMaster1.xml"/>
</Relationships>
</file>

<file path=ppt/notesSlides/_rels/notesSlide385.xml.rels><?xml version="1.0" encoding="UTF-8"?>
<Relationships xmlns="http://schemas.openxmlformats.org/package/2006/relationships"><Relationship Id="rId1" Type="http://schemas.openxmlformats.org/officeDocument/2006/relationships/slide" Target="../slides/slide385.xml"/><Relationship Id="rId2" Type="http://schemas.openxmlformats.org/officeDocument/2006/relationships/notesMaster" Target="../notesMasters/notesMaster1.xml"/>
</Relationships>
</file>

<file path=ppt/notesSlides/_rels/notesSlide386.xml.rels><?xml version="1.0" encoding="UTF-8"?>
<Relationships xmlns="http://schemas.openxmlformats.org/package/2006/relationships"><Relationship Id="rId1" Type="http://schemas.openxmlformats.org/officeDocument/2006/relationships/slide" Target="../slides/slide386.xml"/><Relationship Id="rId2" Type="http://schemas.openxmlformats.org/officeDocument/2006/relationships/notesMaster" Target="../notesMasters/notesMaster1.xml"/>
</Relationships>
</file>

<file path=ppt/notesSlides/_rels/notesSlide387.xml.rels><?xml version="1.0" encoding="UTF-8"?>
<Relationships xmlns="http://schemas.openxmlformats.org/package/2006/relationships"><Relationship Id="rId1" Type="http://schemas.openxmlformats.org/officeDocument/2006/relationships/slide" Target="../slides/slide387.xml"/><Relationship Id="rId2" Type="http://schemas.openxmlformats.org/officeDocument/2006/relationships/notesMaster" Target="../notesMasters/notesMaster1.xml"/>
</Relationships>
</file>

<file path=ppt/notesSlides/_rels/notesSlide388.xml.rels><?xml version="1.0" encoding="UTF-8"?>
<Relationships xmlns="http://schemas.openxmlformats.org/package/2006/relationships"><Relationship Id="rId1" Type="http://schemas.openxmlformats.org/officeDocument/2006/relationships/slide" Target="../slides/slide388.xml"/><Relationship Id="rId2" Type="http://schemas.openxmlformats.org/officeDocument/2006/relationships/notesMaster" Target="../notesMasters/notesMaster1.xml"/>
</Relationships>
</file>

<file path=ppt/notesSlides/_rels/notesSlide389.xml.rels><?xml version="1.0" encoding="UTF-8"?>
<Relationships xmlns="http://schemas.openxmlformats.org/package/2006/relationships"><Relationship Id="rId1" Type="http://schemas.openxmlformats.org/officeDocument/2006/relationships/slide" Target="../slides/slide389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390.xml.rels><?xml version="1.0" encoding="UTF-8"?>
<Relationships xmlns="http://schemas.openxmlformats.org/package/2006/relationships"><Relationship Id="rId1" Type="http://schemas.openxmlformats.org/officeDocument/2006/relationships/slide" Target="../slides/slide390.xml"/><Relationship Id="rId2" Type="http://schemas.openxmlformats.org/officeDocument/2006/relationships/notesMaster" Target="../notesMasters/notesMaster1.xml"/>
</Relationships>
</file>

<file path=ppt/notesSlides/_rels/notesSlide391.xml.rels><?xml version="1.0" encoding="UTF-8"?>
<Relationships xmlns="http://schemas.openxmlformats.org/package/2006/relationships"><Relationship Id="rId1" Type="http://schemas.openxmlformats.org/officeDocument/2006/relationships/slide" Target="../slides/slide391.xml"/><Relationship Id="rId2" Type="http://schemas.openxmlformats.org/officeDocument/2006/relationships/notesMaster" Target="../notesMasters/notesMaster1.xml"/>
</Relationships>
</file>

<file path=ppt/notesSlides/_rels/notesSlide392.xml.rels><?xml version="1.0" encoding="UTF-8"?>
<Relationships xmlns="http://schemas.openxmlformats.org/package/2006/relationships"><Relationship Id="rId1" Type="http://schemas.openxmlformats.org/officeDocument/2006/relationships/slide" Target="../slides/slide392.xml"/><Relationship Id="rId2" Type="http://schemas.openxmlformats.org/officeDocument/2006/relationships/notesMaster" Target="../notesMasters/notesMaster1.xml"/>
</Relationships>
</file>

<file path=ppt/notesSlides/_rels/notesSlide393.xml.rels><?xml version="1.0" encoding="UTF-8"?>
<Relationships xmlns="http://schemas.openxmlformats.org/package/2006/relationships"><Relationship Id="rId1" Type="http://schemas.openxmlformats.org/officeDocument/2006/relationships/slide" Target="../slides/slide393.xml"/><Relationship Id="rId2" Type="http://schemas.openxmlformats.org/officeDocument/2006/relationships/notesMaster" Target="../notesMasters/notesMaster1.xml"/>
</Relationships>
</file>

<file path=ppt/notesSlides/_rels/notesSlide394.xml.rels><?xml version="1.0" encoding="UTF-8"?>
<Relationships xmlns="http://schemas.openxmlformats.org/package/2006/relationships"><Relationship Id="rId1" Type="http://schemas.openxmlformats.org/officeDocument/2006/relationships/slide" Target="../slides/slide394.xml"/><Relationship Id="rId2" Type="http://schemas.openxmlformats.org/officeDocument/2006/relationships/notesMaster" Target="../notesMasters/notesMaster1.xml"/>
</Relationships>
</file>

<file path=ppt/notesSlides/_rels/notesSlide395.xml.rels><?xml version="1.0" encoding="UTF-8"?>
<Relationships xmlns="http://schemas.openxmlformats.org/package/2006/relationships"><Relationship Id="rId1" Type="http://schemas.openxmlformats.org/officeDocument/2006/relationships/slide" Target="../slides/slide395.xml"/><Relationship Id="rId2" Type="http://schemas.openxmlformats.org/officeDocument/2006/relationships/notesMaster" Target="../notesMasters/notesMaster1.xml"/>
</Relationships>
</file>

<file path=ppt/notesSlides/_rels/notesSlide396.xml.rels><?xml version="1.0" encoding="UTF-8"?>
<Relationships xmlns="http://schemas.openxmlformats.org/package/2006/relationships"><Relationship Id="rId1" Type="http://schemas.openxmlformats.org/officeDocument/2006/relationships/slide" Target="../slides/slide396.xml"/><Relationship Id="rId2" Type="http://schemas.openxmlformats.org/officeDocument/2006/relationships/notesMaster" Target="../notesMasters/notesMaster1.xml"/>
</Relationships>
</file>

<file path=ppt/notesSlides/_rels/notesSlide397.xml.rels><?xml version="1.0" encoding="UTF-8"?>
<Relationships xmlns="http://schemas.openxmlformats.org/package/2006/relationships"><Relationship Id="rId1" Type="http://schemas.openxmlformats.org/officeDocument/2006/relationships/slide" Target="../slides/slide397.xml"/><Relationship Id="rId2" Type="http://schemas.openxmlformats.org/officeDocument/2006/relationships/notesMaster" Target="../notesMasters/notesMaster1.xml"/>
</Relationships>
</file>

<file path=ppt/notesSlides/_rels/notesSlide398.xml.rels><?xml version="1.0" encoding="UTF-8"?>
<Relationships xmlns="http://schemas.openxmlformats.org/package/2006/relationships"><Relationship Id="rId1" Type="http://schemas.openxmlformats.org/officeDocument/2006/relationships/slide" Target="../slides/slide398.xml"/><Relationship Id="rId2" Type="http://schemas.openxmlformats.org/officeDocument/2006/relationships/notesMaster" Target="../notesMasters/notesMaster1.xml"/>
</Relationships>
</file>

<file path=ppt/notesSlides/_rels/notesSlide399.xml.rels><?xml version="1.0" encoding="UTF-8"?>
<Relationships xmlns="http://schemas.openxmlformats.org/package/2006/relationships"><Relationship Id="rId1" Type="http://schemas.openxmlformats.org/officeDocument/2006/relationships/slide" Target="../slides/slide39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00.xml.rels><?xml version="1.0" encoding="UTF-8"?>
<Relationships xmlns="http://schemas.openxmlformats.org/package/2006/relationships"><Relationship Id="rId1" Type="http://schemas.openxmlformats.org/officeDocument/2006/relationships/slide" Target="../slides/slide40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DAAF-733D-4424-A155-C643F01DFD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F837-9167-4C8E-A32F-0C57BA1581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1C7B-5A82-42FF-A992-83588017B1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E4AA-AE6C-432A-9718-77A7574A39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BD38-279F-482B-9FB0-A508FD5681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8B4C-8FAA-48B4-857D-14C3E6EAE21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A780-8A09-48A0-A736-811FA3C7B5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B746-6379-4E57-BC0F-CF8F71B91D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ACC7-6DF1-4C64-A134-3B4B572EEC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DDD8-6B6B-4665-9C9E-1DE0E2802F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4753-7DD8-4187-82B0-DE9740963D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0520-75E9-498B-8D05-55A3C4E226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FAF6-DB6A-4CEF-82C3-9F71D6E97F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F963-7890-4281-A98A-E190424E42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1F27-58B7-43E9-98D3-78BD5E58C5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769E-60F7-4697-9DA8-D34B30BCCF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77C3-AD7C-4247-ADA5-61A7D57530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DA91-2068-41D6-87DF-19A609D50E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BBF9-81AD-4829-88B9-D5AE638723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54C9-AE5C-4FCA-8AFB-28877977DD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97FB-1EB2-43AC-8C52-99630AF927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6F97-555F-4143-A8A5-81CF28120F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91DE-E402-48DF-9CFC-C5DF5473D5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1D56-6DD7-4806-BDBF-1D55659C7B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8AF6-C308-45D6-A765-ED725CFA8B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A2C4-B193-4C52-AC17-63827EFBE7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9585-0F1B-4F1D-BE36-42E27A0292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3D7D-FE97-42A2-8EF3-1CBDF06904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9F0B-4949-4988-B764-8807D9D93E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7969-BFA9-49B3-B195-BE408F81ACB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53A8-80F3-4AFA-94FB-A3944806FC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E7AD-98D4-4C19-8D06-C6C7BEC1A6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B7E8-38ED-4451-9326-DC732BF755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5DA9-A46B-4D7A-B9A0-E2551B21BB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5AE6-4E23-4510-BB8E-5597EEA382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CD8E-D4F2-4CC2-89B8-6EBF358C56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5F62-9FB0-4C27-96F7-0AEACE8368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4B4A-4104-469D-BDFF-BA8C01ED42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896D-71E3-498C-8A4E-2D0A07C9FC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C7DA-02AD-44C8-B286-AF80B20B7F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A4D6-8DB3-4EE3-87D0-894991DAB2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9842-BE0F-47E2-9A8D-E54AFC7B99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AC2C-214C-4582-BEDB-FCE7E64219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6836-4CE8-44F5-B962-7EF913921E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76D9-C186-49C4-808C-956827AB33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499F-5A2B-4CA1-ACB3-E2650A7AB7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89B8-074B-447B-AB64-EF503E3497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C50A-A5CA-4264-98F2-AAB928566A9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5E02-54CF-43BA-8AD2-3A83105F2D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D612-7D19-43A1-8F64-D0D65AB3CB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D32A-CD10-4E6C-9B6F-10C906EB73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D1E4-B111-446A-A793-494E239077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3BB5-A48B-4EFF-AAEC-913DC75148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D73A-B52C-4EDE-A795-062F7B39E1B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EC03-7866-4D7C-B772-97529250C0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B29C-C5E1-4F39-A872-7D5290D245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FA9E-1306-4027-AF15-782CF9CEDE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92F8-E86A-4A1D-8049-C3884B3DFC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0D65-A6AA-4412-90B4-63560ED5A3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E657-9815-4D98-A134-BC08BFF9E3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FB75-FD40-40AF-B927-EECA45595F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8A09-FA04-4702-9C0E-9BB53DF808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4138-0B1B-4139-84BB-905CE1BB24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2D1C-2C79-4372-8432-D8E5384339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AEF0-7D2C-47EE-A77F-E0D7C22D8D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B974-FE89-44D7-A961-FA66B97D44F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C42A-6819-4339-AE4C-57F9D6D86E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ED6E-27BF-4BD5-B98D-1B40409A05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2121-98D6-41B2-8F26-82609E8674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7A56-44DE-4C24-8AC6-4063DD957E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8F79-D6E5-4198-A397-1EAB24C05B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74D2-E229-413B-B402-105F6B5A16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3FC9-8D33-4B43-932C-665FD1170C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8A83-381F-426D-8237-4043D2CA100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310B-64CE-4188-8183-737C73A5BF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D1C9-DC2D-465F-BBEA-F6CFD17F7A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2AF7-9164-430B-9885-C2364AEFE8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7C2C-7B75-41DD-9DDA-FCDF9F767F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4BE9-1D5C-4D1B-8D93-932C3FA866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9FCA-FEAE-4938-9D51-F8684FAC94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6D8C-0571-4CDD-AB80-3434CB571D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A6C3-40F3-4659-B607-56810B2ACB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5F6D-E6CB-4A1D-84C4-A2704200A1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B965-717E-4045-931D-872A281B15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12B9-89F5-41B7-96D2-39F86160D3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73D6-26DA-4CDE-B897-11268C6162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4E91-50EF-4A56-B70D-D22DF0EDCA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31D1-8633-49E9-9EFF-E5E96082D9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A0DC-D983-4665-A840-3C19AF093F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37F1-CC0E-4AA4-895D-9984C38D0A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7BA9-6A65-4218-A9F9-83E8BD3240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6270-2174-4497-AB63-B7FE84724CD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5374-B4B7-4DC6-9B6B-43E8EA1D2D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D457-6AA9-44BE-BA42-13717B6C0CB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1903-2908-4C4C-8FB5-EA156A73BE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BD7D-63B3-44A8-BA35-56F1EEC397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31E1-F3D9-480C-B471-AD9950A221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5929-0560-40F5-83B5-F18E56AC0F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2590-F514-4CFA-85AF-169944EC30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97FE-4AC9-496E-8AAD-96FEE1302C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B850-25A2-4CBB-AA30-BF624B9E3C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DCB5-146D-482A-A01B-38CC85EA87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DC20-9293-41C1-B7F4-487FCA80B3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8457-7521-4578-BB09-3C96CB1E04F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8B83-4C1D-4666-8969-33ED0E5799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3889-8398-48A6-B093-80DAC35505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C010-608F-429F-88CA-BF5A151650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670F-1163-40F2-A12C-348F4F924A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7538-C5A8-472C-9BE9-52DDFB2F6A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B5EF-FBF1-4B82-AD46-42F43D7A6A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8DAD-48C9-435C-ADFD-59F526E668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39B2-CD22-4A0A-A2E7-6BA17F0D6A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77CF-3A74-40BB-825F-49CCB208A3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F12A-7A97-4F1E-8881-7157BFC844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EFDF-0C47-4427-9D81-65C5D728BD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D1CE-D221-40C7-9424-C9E2210F3A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15D4-5025-4573-8E3C-CB1ECDB851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83DC-9AC8-487E-8B47-97E7980A89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AE40-B6EA-4B28-A1A4-782895F311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F9A4-E757-4DE5-A481-BAAD861AA1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C633-253B-41AA-B59F-F71D2D6BAF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93D3-AF73-4BA9-8519-096F0F55FA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A380-DA5F-4AFF-8B23-9033E56912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E787-679E-48E4-96C2-A488CFA5F4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7860-B702-4C64-9626-2815D4B606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7D25-B30E-4040-BECC-4A175A7D7F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81A3-68E4-43B6-8F0A-0AA8E1AC9A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CE8B-FA8F-4B23-88E1-F1BD01257C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C12B-8927-4FD0-A559-16184D59FD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C7E3-9455-4B14-AD8C-C3A121BED4F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BCF7-41EB-4343-8977-C049D2EF9B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BA55-FB3D-43D5-BB0A-E8327C13FC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41C0-7005-46D9-B222-A82434CD65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D678-64D7-4601-B9FB-7C2324ECD6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0CE9-7312-4B93-AE0B-9FB3B6C930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E429-1470-4C42-9F20-E8A4C7B047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03AC-BD01-4950-B623-64953E5E13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03D5-5949-45E1-A596-B0EBAF4024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843A-4A7B-46A8-8765-693F05A175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722E-227E-43CC-AA0C-C6DBC6C986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54D4-73EF-4399-8405-5909F5DC72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B2F1-6D04-4996-929A-5DE22F611A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02DB-1442-4361-8CEF-0E82581855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380A-ADDA-47EA-A286-20B11A467F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3FB2-835E-42BE-A5DF-B498D64774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F757-FBD1-49DC-9636-E35D39E260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1A1C-947A-4183-831E-EF4965EB2C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AFFA-978C-41A1-A6AF-CCCCC4AC87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FE19-FB0D-4529-A253-D892324406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4047-E6EB-404A-BB1A-456C6C31FE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08B4-F0FB-49EB-BE64-FC5A228F15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FE82-E605-4548-B30E-A737F25439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FF99-4719-49E1-BB2D-4B944A3927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AE50-F7D8-4E55-B892-B7572185F2D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896D-AA3C-4221-BCB2-D8B2D9E689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D6F1-7F93-4239-9E74-CD8916A744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28EA-1E65-427C-B1CC-3EE42EE362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4E34-00B9-4A03-90C9-3F2716F7C3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123E-5DDC-44A5-B302-7BCB9D5BBA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0F9C-8443-42C1-972B-245F95EE7C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CF0A-786F-4CB4-803B-20540F00A1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962F-9E95-41EB-B8CF-D19740B955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A3CC-0749-4E79-A697-F4424A60BD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0422-BDB6-4274-BA0B-51D70EF219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0E26-EFFC-4700-969D-6B724E91F8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164B-381B-4670-97B5-013B0F420D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5D7C-6CCD-47C1-8952-233EA81932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6EFF-2656-473D-868D-84DE620B8F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DB60-F589-44AF-83C4-79CA2475F9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4110-9893-4F03-93FB-BAAAB0FD49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C41C-E8D4-41C3-8769-C98F68E864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9FD2-FF67-4F27-BC76-760F5C8F95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AC90-FE9D-4279-AEDD-6F73D41E6D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1AB4-64DD-4947-AA4D-41ECAE1F39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9863-2FFD-473D-ADA4-A2F82727C2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80D1-0CCB-4D18-81A3-EF6FC3A15C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F724-FAE6-4E64-BD73-AD8D9DD95A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DD2F-47B8-48D1-AA7F-C98344D60D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24D5-E5A5-42A8-9059-0489CBD210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8A27-90F3-4DEE-B498-4166EE9886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DEFF-E2F8-426B-8804-F1E6E7277B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442A-AF95-4FA3-8FB6-B08A98FA7D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E864-E6E7-4603-86D4-175F16A32C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A03F-452C-4717-BC94-901A6ECAD6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4408-7AB1-4AF6-AC2B-D6C4D55805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8F4F-E1B0-4AF5-8784-33C9FC7870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736E-FC28-4B83-AF58-E1D57ED54E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35BF-8608-4363-8133-4EA1931CF2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6CC3-B191-4BC7-A4A5-160B406DD4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C9BD-A2E9-4E54-A235-CE24E4BF3E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63F2-812A-4488-9995-7CA6BEAD3F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C70B-4770-4E8E-BE15-22BADCE9A9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0048-293D-4825-920E-2816322EF1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F307-B007-4AF1-BA13-D825FD10D6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7A3E-17FB-4702-9D05-3D6F3C7DF9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897F-05F2-4926-8A34-D4847F0020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913D-FBB7-41B7-BDFB-D570E3CCB9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0320-0075-45BC-92DD-0DB25CAC6B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4B7E-86C2-4739-B000-DCE0E37145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8D30-B15F-46E7-A24F-3BB7C61ED4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E672-E254-49EB-9CF6-AE4E27CD20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1675-0B8F-48A7-9A77-C1CEC682D3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0FC9-D3CB-440C-AE35-78B13F528C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2DEF-EAFF-4A6C-8FA9-E238E24E0E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9A96-C13C-4433-B325-C80BC4DBA7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C32D-13A2-4F18-B9BC-428702731FB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A005-31CF-47E4-95BA-AAD979795A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44EB-7493-4F84-86F6-950E5FC2AF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EE6B-2966-4649-B991-95D4626171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69E9-1CD5-426D-B702-2FC7B6CCD1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A982-B97A-4813-AD99-38D4C777B0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22C1-2B83-4FBC-A5F8-0BA64B412B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D0B0-46DE-4365-BA0F-DAAD0F5C75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6389-3B8E-4335-8D0F-DDEE187241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3489-5599-4AB7-99C5-DB9A7BF38F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98AB-A531-4751-AA3A-CC12A2E43C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A5BE-8CFB-4AEE-B6D4-5B816ED3B6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660D-7E65-4AD9-9FF3-50E60B580F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64AF-BA00-4762-8D99-047AB42BD7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CB52-0FFD-4824-A84C-976A365907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F792-7B7B-47AB-B3FD-4BD685DFB1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D33B-D069-4D8E-A114-0A7C1CB48F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C54D-984F-40D3-9491-F0B915DFBD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99BC-4D51-4BBF-BC3B-C0D3C9675A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CD70-3E38-4868-AEE5-D22021367A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11B7-7110-4D2D-B23E-FF1C07C0FB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8CDF-22E0-4673-B14C-30E198000A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4D33-3E77-4ACA-A23E-C74F217F74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4432-E0AA-490A-ACD1-522D9BDB47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C14F-077F-452E-86FE-B307D715D5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10C3-1DB9-4C44-A6B7-A26EAED04C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0067-71F5-4D09-9AF2-9DEF726FB7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4AE7-D03F-47C6-9EE3-4E5DF4F534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DB94-F4FE-4AE8-8393-2690489FCD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36A0-90A2-4DD1-A2AC-DCD2C6E803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58E2-CF87-4628-8F0C-CACACEF5A9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9B60-9903-49DE-9F43-9C7B8025C7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8F7F-2862-4565-8197-A0818612E4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0C89-B2B7-42A6-B3F9-5BD350DD63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0454-4585-4369-96EA-E6DF3DD46A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4395-A65B-4082-9BB2-E07D5A35BC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8C71-D534-4FC5-A300-45CD295603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7237-8702-43D8-BED7-7DB0B4BA57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0C15-252A-475E-8FFF-178B11B723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0AED-7723-430A-B6C6-A214A349D5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B097-6EAB-4033-A65D-CE00061147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2D25-DCBC-4638-BBC3-9B775258A8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D7F4-AD8B-4A16-ACEC-D213327D11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CB15-82FC-4971-8B30-8ADD303197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ABA5-EC17-408A-B7FE-641B96F9DB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5034-B31F-41CC-9EC0-EC44E97744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CAE2-2CFE-4498-9BE1-4E672FD3F0E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3C5B-594D-47AF-831F-9AB27A9251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29A0-F6AC-45A5-838E-DA835166CB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7192-F48E-4F45-A8D6-E7F8A5FBE5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27B4-DB5F-485D-BD8F-030BC8D5CB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11FC-9F52-4D06-BD7F-F43351BD3F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BB3F-1C6B-4A52-A203-3E8CA0CEAD9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B988-F951-4A20-91CC-6C701C1FC6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B946-03A4-4A52-92AE-C10F8BCB57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47CE-064A-4328-9BED-5641A894D2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1DB5-FAAF-45BD-9501-8D402D5043F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9243-E2E6-4428-A142-FC06626B90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AD7B-3E10-4CE4-98B9-DF9BAB7CBFB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0CBC-4997-4087-B476-F490A2E166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0795-4AE5-4FCA-ABE5-6A35BAD7C25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26B7-F86A-4844-95A0-5EFF8AE43A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6C63-B8B3-42CA-94BF-F1D9ADDDB6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847E-4073-4C20-9A2A-698DF017F3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EBE3-7646-4F8E-A03F-187CBBC8BA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740C-B5D3-4A71-A638-2B8CAC0F6C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A313-F7AB-4767-9E65-EDB893FC84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2691-D05E-461E-BBF8-0695340AE1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A8A9-B9BC-43FD-90BD-F5BCCCC4A2E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486B-2DAA-4B0A-B663-DE32CD7D8E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1675-C7AD-4041-A0D5-01FCB0B1EA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3250-A4D8-42A2-AB39-DBB3F2E334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FE65-3445-44E9-93DC-14AF3D3EAA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0C27-77D8-41F7-9F39-AAF857A2E0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C3FE-6378-438B-9B09-76F5FDED4A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7619-BDE1-4751-83F3-CD03615D34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CAB8-918B-4AA3-B551-483335EBBF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7415-C498-4AB3-9886-BECEB97CAA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6150-CD24-4A1E-8B97-9CA9D614B2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26AD-08BB-47D7-92A3-36868E4D54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9960-CEA6-47B0-A69A-4750E0A8B1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CCCE-F572-4C66-83F3-43FACE82CA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FDC5-92B0-4128-8E25-B9399DE294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0F86-C8DD-497F-AC12-25747904BE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816B-4CBD-4F0B-AFFA-F6B542F6FB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0C37-5BD2-4B38-98B3-612E2D851D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2BD0-F55B-4DFB-B3EC-36FBF7350D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C03D-A101-40E8-A6DF-EBC268D15A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AEC3-7347-476B-94A2-E9592E4C37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A7C4-DDBD-4238-9376-FA1CDC4846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FBBB-0CB8-4B2C-A90C-FB67C4443F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4A57-BCEC-44DD-9A14-5DE7B2A74E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052C-FBC8-4B31-AB28-C3A586F0CA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DA06-5324-43B6-A83C-2F829464DA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3373-E5E5-4A17-A2AD-317583CDD1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C5C4-7C8A-4920-B120-7FD551DDC8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46E7-268D-4379-9923-6C4662F082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14E0-C540-468A-868A-30FEB5018F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9DE6-8A2A-462F-8230-AD0180BB41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9386-2B71-45B8-9F01-F7235A37EF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98E4-6811-40B9-B140-7F2D0A7BC2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88AC-7C9B-4E2E-8E75-DEDB8AD11A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AD2D-C2CC-44AB-B06A-0DC1ABCAC8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8743-8D32-49B3-A1E0-ACF0BC2E52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AAC3-AF5F-4D02-B890-19659E75C9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81A6-C43A-4C96-A2F9-D93233D9F0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BFF3-B4DA-4539-8BDD-48C735912E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C97F-68F9-4A3D-A9A7-3C1CB8176F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4BDF-3889-4065-982D-79086343DA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850E-DDB6-4331-B135-9004D93EB7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21C3-BD5C-44B2-8A3A-C8BE5B2770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0142-0891-4785-BC7C-FEE08588CF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E0D5-0926-49AB-8CC0-10A9F95A35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089B-830A-4A23-8275-4613D42CE0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6AC4-8E79-4858-8108-095C22A12D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9DBC-AA34-46A3-82E1-F979AC6958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23F7-BE9D-44B9-AE9D-5604F83371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7870-43AD-45F9-AEFE-8219ED2633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4E6C-B43A-47CD-8A8D-42EE358A62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2C14-C5DA-4EE2-B9A8-A9B9522E55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4F5C-E990-4F9A-AC89-9CE38DF628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2A72-E692-4FA6-A644-7145E24A9E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6203-01B5-40D3-9A8A-C5F6ED6621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249B-7820-4CB0-8052-F6A9A5B0D6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2B68-5CDA-477A-AAC5-22CA1207E0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4212-D035-4BAD-95F4-328BE3A4D0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6CCE-C1C4-402C-B264-3E132A25D7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3271-2183-49D1-9A2F-05F9E02A29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898E-8AB3-4DB5-AF89-BD20253559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AD8C-0AF9-4588-B85A-904E803DE2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A78E-2A0A-4424-BFB8-287818EF46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C617-A58F-49F3-86F3-FA5DAD3758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9128-B755-4F5F-8E8E-0C753BB3DF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0CBB-A10C-4136-94A3-DC2C94E1FB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C7F3-663B-4B5E-AE0B-B3662AF3C4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C004-B71E-4F62-B7DF-D83BC235E8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93CB-58A3-48E1-A811-454DF5B2E9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D797-0F63-4293-A2A4-6BEEDFE83C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43CD-7DD4-4E8F-9F47-F3CA0D4817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9358-6C8D-4D5C-B2B6-C4E3AD1B0F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3BF9-1A75-49DE-BAEC-739A448529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58CB-99CB-4B82-B199-D14DD4E47B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0DE3-65C0-4C3F-B9CA-0A6ACA41BA8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A5AB-96CC-4E65-BD81-98453BA047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8E94-80F3-4DC9-B47F-93A31E82C8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D4D7-0034-4A82-8C06-4485432E27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3ABE-30BF-4B5D-84D2-F2F9E27C09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2B8D-2BCD-4B66-B73C-21FBFBFD43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333B-B5FF-4992-951B-9C4F110E63F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96DC-405A-4C43-B3E4-06C46A69AC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B0A4-0E8B-4A29-8E3A-90EBB1FF37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640A-DEF0-4649-A6F3-1C8A95AF4B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A2F1-C506-42E8-8566-94E3A7B1A7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9402-3632-44F6-91EA-62F481CA38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A5AF-201F-453D-97B1-9EA99AD402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E23B-E2DB-411D-A57A-0BF078E21F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B0FE-4933-49E7-8CC7-7EE2620AC3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B9A6-0342-4833-B362-5DB132F12B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9B7C-A322-4B1F-9580-C0CBC383F8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0284-B56F-4A2F-8603-F2F20735CC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8BC4-BEBA-48FD-81A3-E08B1E3E50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CDEE-8C3C-4363-A492-DB44CB56A1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0B9F-4E28-456C-B199-E06A7B2258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E874-CA87-4C48-B044-71FD4E9294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8C14-C8A3-46C3-9C7F-9D728C4CC4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20AF-2381-492B-99B9-4A1B191AF7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CCFA-DA65-4CAB-B8A8-AD64817ABE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1819-4B84-473C-84F2-4B6CEAEE41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EE7F-6725-40B0-965E-452487BD4D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2BE7-D0F8-4C05-A88A-65F173727E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D0B9-07C0-4B92-A727-258882E475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72C8-B6FC-4F4E-9DC3-E4FFA279E3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AF4E-08F8-45C3-A569-DD69B5061B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AD17-7CA4-4223-A44E-A6FE3A0B05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2373-EA96-4B99-B97E-30F36C4529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19B6-DF0E-4ACE-AC03-E89AAA9E2F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E358-6983-43B5-BECC-7D745FCD4B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74E6-A4C6-4CB6-AA01-EF497DA5B8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882C-2260-428F-94AE-2A43678B90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BE87-9E7C-419F-9823-97C650243D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E4A2-5B0A-4DE2-A05E-859FAB449E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5556-2839-4766-98E6-5B5ADCF579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122E-BDF6-4C6A-B968-C0B891FE83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26CA-C678-4B0C-857F-2CD0DF721E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20C0-FDC5-48E1-ABE5-ED6274A3E0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ED7D-3B63-482D-B9E4-5D9B3664FE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BABB-FEBE-494B-B5E3-464489504B5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BCC7-8CC4-4762-AF19-4E87836259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1746-3655-4233-8989-7516AB9823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8916-CB80-481D-93BE-773505C58A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215D-7D4D-4C34-A416-DD62548114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7209-EB09-4A39-B0B7-1A082514B2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106D-8CF9-464F-BDC7-AA9FB378CF8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F3FB-55D4-42E4-A81A-0C7B9111AE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D58E-3E9E-4106-9B17-D718715254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DF40-79F0-4187-8369-794DB6D01C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DF7E-41CA-4B34-8D3C-7036338290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C5A1-FC27-4664-A74F-946AE91FE6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DF9B-FB93-4E84-AD4D-8EC80BA71DB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B883-28C6-49CA-A4FB-147465BD1B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00C6-CB1D-4663-8565-5854FA3F29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39FF-81FA-4AF5-9EAA-8940B25E0B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716D-0E16-488D-AF91-A4CD427B67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AFB9-7C10-4A4D-80B4-C7C4A183A9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C8EE-AA33-4BB8-AF3A-2700394435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63ED-22E4-4675-8DEC-BF6BB5D96C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E6EE-EB69-43FA-AD06-8C0E6E07CA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592B-2953-49DF-99B3-52A39F879F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6E83-41DB-48D6-AD5D-C1160A00CD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3966-DD48-4D46-A00A-67A3D942CE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FA00-CE7C-459A-9D99-A858B54CCE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570A-3CA6-4D65-9E84-33091FB01F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8139-D42C-48C9-BD3A-7BEB47DC13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7474-2645-47E7-BDC6-C6DF6B3226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7E41-40FD-40B5-AC71-0C9D81FA7AA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DA29-2B1A-49CB-92CE-D9C66EDC51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7EE8-73B1-45E6-83EA-858C2B22BA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7210-6968-49F4-9E4A-396A776DB0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61C9-0778-44C5-9DB7-AB6FDD08ED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F2EC-E068-4E59-A028-F7DB0C034B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9564-841A-42F8-95C6-44E9ABBBA4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87CC-8D9C-4DCA-B6B0-80970B7FC6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F84C-0FBD-46AA-B408-76FA1473C7F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9C4B-7486-43EF-A586-7141BE1A6E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A1CF-8712-4C38-8305-26BCB96855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9117-4C5E-46EB-91A0-D896409ED7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EAE1-1647-42ED-9B82-871A341431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5A21-3789-4A65-AB9F-2EF934FE53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51E3-DB80-4C5B-BBC2-9198603DC34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32BF-7B21-45C0-A96E-E883E458CF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E7E9-1D78-49B3-B240-F0CB35EE89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9C45-C4FB-4068-AD04-2F43EA25EE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BC92-EC70-4520-9F8F-5F1F6A1EB6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58DA-2B38-48F0-87B2-00C3ACF50E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9EEC-2891-46CB-BAD4-6CB5209A42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E628-E48F-40AC-AF54-DFF1BD4DDB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311E-15F3-408E-9B36-B3D08C6384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E183-9459-4AF9-B2E1-EE457D9533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D385-6AAC-4290-88FB-480B39269F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7331-BF0C-4BD5-93FB-F595D12EA7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5069-E471-4180-8E4D-74E3A37861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DE7A-0937-4FDA-BB31-3B20E484C7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773D-8F42-4DD0-BAF6-9B745DAAE9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7985-8EB6-40CC-A8F5-1BFAFC66D6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7389-E8C5-404D-AB42-1DFF5C03FE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9A94-EA30-48C4-B3EC-F04F279F7F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9517-68CD-4236-9A1D-834996FC84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87B5-3FEB-4E51-A92C-0ECF52F1FF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FD6B-3F54-4FF3-B4FC-A1A9F747A9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A742-0D0A-49AC-B085-75C57A4494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97CC-49EF-4E39-9779-352BECD950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8B72-8AC3-4915-9B3D-10EA292260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6419-78F0-42DF-ABFC-2D3A820EACD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2CCB-A425-4B25-911C-0851D0ED3D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B2FF-13F9-4476-B67F-C237A62B4D8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CE65-0CFA-44BF-B4ED-11B0875B8B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7CFB-DD45-4D75-955F-48B0649F919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B254-272C-4B02-9C28-91C7AD66AA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4BFF-FA64-4FCC-9102-9B970A5ACF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797E-E097-4033-8918-8F7C0EA822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47B4-7B17-48A8-BA85-751F06025C9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C795-8314-47F6-93D9-86006F4E7B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D14F-C7A6-4D92-9D70-13FC172D9DA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A888-4C69-4EFD-B8B1-D61B70A3C1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8AC8-AE81-4997-B11B-B37C27424A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0D70-4377-402D-BCFD-CAAE21BEEB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629A-F120-48DB-851B-6CAC93BD1F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ED9C-D29E-4912-A8C5-4DDC494FB6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38EB-A508-4529-B511-B0755FDC80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9554-E12E-433E-BFCF-211BF4391A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00E6-8785-44A8-8DE7-09D212966A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AC22-E7F8-4855-BE51-F95F4ECB33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0FDA-670B-4606-B1B4-0344C04D01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BA52-7FBA-40F6-988E-50FFD81C43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5AAF-2883-4A31-9D0D-D7C6E3BF395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6829-4267-486D-B1FA-5FD595C92B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5983-E288-4270-9FB9-0A6F55B845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821A-B564-41A2-BA3F-076B8FCD4D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81D7-B404-4796-B8D1-3E366D2FFD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D6FA-110F-4DB7-BDE5-EB17E72528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F587-C526-4020-A8DB-F6408808339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478D-AD23-4094-BEF6-8251924ECB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9F00-490E-40D0-B8E3-B489095C49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3C90-F34E-4488-B579-3A9006DD42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8FE5-A20E-4588-9D76-76CB245CAD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FB71-C748-441B-A6E2-CDF5914A9D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8FEC-6913-475A-A6CB-35BFB6680BE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E6E2-C705-4E80-B451-79FF16B960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27CD-EFF6-42EE-A60F-EDB0FCA5875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7970-A1D7-4A46-A355-5BFF3A984B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2AC0-FFE5-439A-B921-AC60F036AFB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E9E9-D3AD-4D88-945C-3F5D6C731E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835C-0FC9-4CEA-A8A4-062BDF25B58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9EB7-B9B7-4BC1-971E-7F580B8F1D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C1A9-5C2B-4418-8589-50195334CB2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AC81-5D47-48BE-9F2D-EDE481DE2F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455B-A98C-4CCD-BC98-DD58C23D79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2F0A-0731-4E75-9AEC-4B999FB8CC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E0D4-89BA-4ECF-A39B-3F0DA8098B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2357-9E29-407C-AE51-B857E41A07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7A09-9938-4B5D-9F73-130D2BFA94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1381-7477-4352-914C-0BE3ECFE64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5849-7D91-4024-A0F7-3339CCA7F6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6CC7-E493-44A6-9679-E6D51574FF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E611-D86C-4B81-A9CB-100857ABFF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3D77-68D6-4C04-AE6A-61B0BEF63D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A291-8AD3-45A1-A9D0-7A17438F056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F009-8268-4DAA-ABA8-8F825806AE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0272-0859-456C-84E1-328AC96131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4356-2A85-43A3-8BB0-170734FD7A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40CC-D355-415A-893D-516B93A155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4E42-A17A-40C6-BF5A-AED65166C6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6B43-4EAA-4FE7-9016-52FFC180EC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C53C-C798-47DB-897D-633381862A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D544-314E-4DFC-B577-9B3CC90E7E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11D3-481C-472A-8642-83CC830017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3567-3849-47D8-9CCB-5495E88F84D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E1AD-88D8-47BA-9DA3-F526AAD511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2550-3DA4-47EB-BFB5-62A2378B0E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8A39-E346-462C-883F-97A04064A3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C9D7-7174-4200-A79C-B91A84EA97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D77A-F6DD-4D0F-BD6E-38D28DC9B4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F7D1-C47E-4C47-82AF-CC742EFC41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EF9C-ECA7-441B-974E-D26E99C0B6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D9FA-0425-4B92-99D8-61ABA8B3424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B5F9-C048-49D2-B81A-825118A5EF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F7F3-4E2A-4F1A-B631-68538AAA53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971B-D367-4C19-A5FC-F423CA6ECF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2DF8-C673-4015-8019-495188D64C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7881-28CC-4C2F-BD29-B42478C16C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B39E-81C8-4E4F-9FD1-E983E95970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9DFB-3DC2-44CA-859F-9325B2AE55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6C10-9A44-44AF-A90D-7A939E2DEA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6B0C-CED5-40C9-8095-3587432928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A065-5E21-4BAE-ACFF-1131D0944D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BA50-8743-4E0C-BB3C-F3698BBE71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98E1-C2A9-4960-BF49-9F250B57F5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1F84-8356-4D4D-BD17-FA6A7E2B4C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2F2C-0B24-4281-A5FA-C8F3199EF5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355F-B275-49EE-B8E9-5EF38425C9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67D8-CF66-4F23-AF0A-E19C272256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BEF3-05CB-4C0D-9B1A-7319B43AFA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4754-88CE-427B-B2F3-E3265E753B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3F8F-493F-464A-8187-469BB532A6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CD3F-BE77-4372-B863-1B474E9DD2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D12B-BDE7-431C-9270-8EFBDC38B8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DD63-F625-49CF-AD62-53F09B7081B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4852-5142-491F-BBCD-51D83BAC79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2166-0D9D-414C-AF6D-BB8913D1EE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26B2-FB69-435D-B0A0-5CC94BB667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E960-7356-4E3A-A8E3-6A18B37716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A714-BFF7-446D-AB60-009366B1D2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A91C-226E-4C57-90C2-B53505C35B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5B95-B2E4-4485-85CB-F7DA72498D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CD2E-E938-496B-8B25-F427C68074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597A-BFE4-4B93-A590-BA12C91D04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9E03-3D05-4C0F-BE6F-0A6E7C18F4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28DA-1A9A-47C5-B2C5-50D92D33EF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33D3-E1BD-4DCE-A041-2095D2D041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213D-30AF-4428-9241-821D55609E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9D5D-0CB5-4065-8677-4751BD480D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4297-7DEA-44EB-8D83-029326BC7A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9179-6D5F-41FD-A671-0AFC0DA103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A79B-4AEC-4A20-B371-0A5BE9A425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652C-DDFF-4BF8-8BF0-8AE9BD32A0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1972-F0D1-41A7-8A69-711DDDF87E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87E3-617E-44D6-9B53-35A24C4507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192E-AD96-4A2B-8F27-23B8340ADA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2408-CF1B-43CC-B7DA-030A44CCB7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C68E-1789-4EE1-B0FB-C98302B1FC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1283-7BF8-46B7-8D73-837DC3CF2E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C18E-2761-435D-9D6A-D3AAC69713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F800-39A0-475D-A3BA-40905575448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70A0-8095-4301-94BA-6BCB3FF6E3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49DE-282E-418D-9149-3934EB58B6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4E20-659B-4523-B67B-FD12D4B534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DFE0-4DAA-459B-BBE3-422FC29422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0888-3C9A-42AA-927E-ED7EFB950F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4052-C15F-4315-9634-F628A4E88B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F7C6-E903-4C7F-AACA-216B041B48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5A21-5AEB-44CB-850C-F1FBC8763F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A2D1-0BCE-45D6-A4CF-9AADD0D6E2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6C61-872C-46C4-AB11-E917138FC7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F26A-B329-4EE4-A77B-0B53C9896E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3DD3-C65E-4A41-B326-F57A301CAD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F0D1-D1DA-4A3F-A1D4-E873A26CDC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6ADA-7823-40E3-ADC5-985358E47D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6922-1C03-4FE4-817D-D20D99A4C3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E550-5CFA-4363-8996-C33027EC52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0D8C-535A-4A0B-A66D-AAFF88B3C4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6235-90D5-473E-BD62-30E4410589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70D6-B2E5-4CAE-BCE5-1A37F12551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1BF1-A821-48E8-A542-6DA277F53F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E042-AD4D-42B6-B5B2-CB6BFC10C6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3376-4635-4BA7-89E7-8CC1A7FAF9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AE49-A890-48D5-B550-B255FE9930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4B92-7D13-4433-867D-5BBF514388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12FD-51FB-479D-A522-71366621E9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A374-874E-472E-981A-67F51488AE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C17F-9436-49EC-BA50-0093324A28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0156-C741-4B74-9BCC-3491FFBA22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2A38-8C07-4392-8969-0FBA0B46EA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5E93-5879-4FDA-9351-5BDB42CDB74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183D-86C8-4E4A-BC4C-5B928C65CF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5D33-B1E7-48CC-86B6-B17A94E301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E3B2-2AAD-429B-B738-5BB63E4F77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4D6D-02B8-47B9-96A5-BCF32A10AB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0A2F-5830-48F6-9D56-78DFAD9F86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B1E0-2310-4236-A9A5-F8BA729C69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2642-5396-4A6F-9CAC-1ED68528D0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B1A7-402E-4F18-99AA-99624147CF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D308-64D2-4849-8900-4F16CD7F95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0457-4780-4124-AD35-019E92CEA4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FAE8-3E29-4691-8E9F-939E1F76BB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4BEB-5ED1-4868-A704-AD62F0EFE3D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5F17-6357-4681-A6FF-36B2BA9AFC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AB00-5E18-4D37-8424-AF9C373C69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D0EE-7DFB-4D51-A6FD-2B02134776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4245-350D-430A-AC32-86F86562E8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CA4A-44D5-4CEB-A869-9CCEEC6F3D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5873-EDDB-443D-8B1B-94D04A3F26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BC82-5B9A-42B1-82EF-FEE15410B0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C6A5-F2C9-4889-915D-54D8FC1B6A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804F-B618-407E-966D-3C95DA2CCD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B001-9A3F-4C60-A208-E20E5C2BA7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6CFC-70BB-4A80-8F6D-5DB12A1BF9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2490-F8FB-4C26-A9A4-13D25E3AFA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AA06-A3A3-4490-95A5-8B806A5E74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87F1-1E2C-47B8-813A-0A4DAA4779E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3D74-2CAF-4DDC-AB2E-4E81FB5F84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F4B5-5D8F-4690-B5D0-7771350C58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80AD-1694-44B6-8641-5B6B37E243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2D5B-6BC6-4F2D-8105-B3B025FEE0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2C14-9782-4C70-86D4-3EEB4D239B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5890-20D1-4B11-ABCB-ACD9FDAB1D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9E00-3C11-4C8B-92C9-683D55EDF8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7B94-CFF0-4894-9D78-617B1C2774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D6FC-AD98-4E6B-89BA-AC7EDCA772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75CB-C1E2-42B3-9F4F-F1EE0E042D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99C3-C576-436B-84D9-18DC66B65F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1AB5-8B98-47F4-A5BF-9632370A76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10FD-B68F-4676-8ECA-67D663DA1F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5CF2-904A-40BD-9A4F-22E975D2C1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CCF9-9BAC-4CF6-949D-F89277AF5A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D1D5-60A1-47BF-A15E-198318CEBE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854B-D28E-4BD8-BCFA-C896ADD73D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EF8E-350E-49F9-9D12-6038BBF3D2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84DB-9EB0-42A1-8BC1-7D68321694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91DA-B159-4D82-83A6-A6A6AE6095D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DEC0-B612-4880-8790-F45A26BF0E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EFDB-1FEB-48E6-B2E0-A4F8B5AAB9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A2D8-7ED1-4AF3-A2D9-3F0E039C1F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28C3-89DD-4100-9DE8-6CA3BB9B578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A35B-C0EA-4AD7-8E34-7977145E94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818D-EC31-4663-A8DD-52BFF66A602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581F-4A73-4E17-9890-49E6E73C48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3BA6-21DD-4959-B7F7-BED939CB52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DDAC-83E1-421B-9EAA-3D85A88666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4A73-00A8-4B17-A581-38EE2FEF9F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B6D8-016D-43C4-8793-DAB7D84FFF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01D1-A6A4-480C-A2E9-F3054735E2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02BC-2324-4762-A52B-A143A29B3A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C623-DB36-47B4-A0CA-85460B137B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9B22-D6F2-444C-A446-CB49C65822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0B76-1FEE-473F-AD91-5E06C2434C3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9F5C-BB46-48C5-8555-284691170E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F832-1076-4FC6-AA28-A3B64F8884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351B-E1ED-426D-8360-EBF880FA1E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E0C5-F138-443F-A1EB-93F5CFD60D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4059-588B-4524-8032-5F5B80C253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F952-C408-4305-BB28-85295433AD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4E2D-DFC5-4703-94C2-8193C4031E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5F98-9603-43B1-B185-EDFF2C2B6F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73C5-8760-454A-A9BE-E345948E1C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5856-67CA-4907-BAE1-F708D7472C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AB41-F2CC-43B5-827A-F12112A892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FBA0-7E47-4A05-BF61-57D791752B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3974-AC7A-46BC-ACE6-92187E9AD5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586A-CF21-4080-9BFA-241FE68488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E649-A0C8-4280-8F57-A0CEF5497D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34CF-CE19-47EC-9C54-6501AF4E60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8CC5-4147-43D7-84C8-139F7686BA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ECDE-8E52-4068-8161-38B9BB9282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1B37-28F0-4BBD-AB7F-4AE119E41F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C35C-69E9-4445-9D50-A31CFE3C4A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B255-4E2A-4CC8-8173-13CA9009D0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8B97-DBCF-45E1-A829-E130ED16EC2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FB8D-5DE3-4086-9B6A-BEF6103060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384E-A5BD-4FA3-95EC-9BAEB8CB9E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C5EA-CC82-449B-903D-014C7E472D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B6B3-DC52-4449-BB49-44F3071326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11EC-CE68-48A2-A704-257312EC47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63C5-4159-4D73-A891-5317F5712A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FCA9-90F6-47F2-8A8B-A7FCDC0076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F819-7469-4042-A1ED-8DD600236A3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AF34-5F87-438D-9229-D9BD1A0A03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D3B2-8419-4F33-ACE9-5B82534822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DC3E-393E-450E-BA69-7FE04B55EF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0859-707C-4EB5-8841-971D5F283B8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EC9D-49D3-4D5A-9893-5567DCB58B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A0F2-6D09-40F7-8404-3164413627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DD5E-7AD5-47F7-8C64-12ECBE2F8A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92D6-3AC0-454E-8A6C-9EECE4D6B7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C514-A1AC-44D9-AE8D-739E0AF1B8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58E8-2AD4-46BA-860E-DC82A557489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FA1C-EB93-4636-A980-803F0428ED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4F39-9E73-444A-8DDA-6048F2FE67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F526-85B0-4F16-A930-D95D5D8F17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6CB3-8487-4388-BA5B-B93463DCCB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F33B-D110-4255-84A6-C9D9E87182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1EEB-E5AB-477F-BD6A-5655578732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0A53-B08C-41D0-9976-B9092FF7DE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6218-EF7E-4F0D-9143-B8948861DD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C4E0-8437-44E1-9230-B13F6F0060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3D12-2E2F-41D7-AE87-D44878690A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3D58-32E6-4A90-867C-D9797DB061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7BE0-BDD5-426C-83AE-9DCD4CB200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6150-19AD-4FAE-8339-372F3E09EC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3E88-238A-451A-9466-790D46E31A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E5B0-6477-4E54-9141-F7DE58B508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2BB0-E788-496A-BD56-C329C64554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84E5-623A-4B71-A030-B8B61BAEE8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521B-FC8B-4CB3-BA37-443B846A71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2D3F-1283-459C-9744-D6300ACDF0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CEE5-17F8-4AFD-93CE-838E709A42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9A87-1D72-47BC-9975-5CD3100781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EC6B-A4E6-42FD-9B21-992242D836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008E-289D-4E44-8400-1652A9A358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3A7A-0A87-4BBA-951B-2F2CFF1B31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0465-D17C-4637-A42E-43DE883935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4B2F-F980-4772-937B-36FB2C308D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CE2D-E830-4BF4-8F65-CF6C015348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DD03-6628-4F8F-B9A5-3A38598724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4A7D-132D-4AF3-9AEE-D918F1935F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43E4-1E39-488C-B6CD-6665CDF408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B60F-EB47-4A43-B686-7C050EF37C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D588-D8EB-4D65-A4F6-077A3F77EA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46B7-93A2-447F-A5E2-EF5C9B5779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6EEC-4D9A-4592-9BA2-31898098D1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48C9-2B33-4B16-A80C-EC82D67BFD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CF29-55AC-4253-9221-5F8038C6AF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FFFD-136B-49FA-9896-509BDB9415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1E4E-B3C0-47AD-B70A-0357285AD6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BC93-4F17-4FB2-8C00-EB5E784B14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8341-B8E2-447A-B453-3C0B8D8972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B9A5-4E28-427C-AF47-68F9597694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CC35-07AB-40D7-A046-E48544B30E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6ADD-395B-4BD5-99CB-EB9185189A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AA46-5E49-4340-8DBA-35E1C1A204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5728-600C-48D0-84B2-C5F3C829C0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E941-9E62-4520-915A-F98418C666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C240-6549-45A0-BF66-8E654153F9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7375-59B0-45DA-A6C0-B0A00AB6DA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DB4C-165F-4010-AEDD-EE634A6C24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B1B9-B211-4DFB-BD94-E20CD7CFEB8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ED99-ABBE-4B76-9503-7F27B4308D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D3C3-BCE9-463B-BA68-E545AD5A7E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3E32-599D-4454-9DDE-2DB6D6C4FF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477A-74E7-42B1-97FB-5E2CE74F47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0673-8ABA-499C-8DF2-018146DF09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6E9C-F40B-4671-BFDC-9C322453B0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2F44-13F1-4255-9012-77E3BDE45F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6D61-18E3-4E63-BF96-AC37420EAC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7AE6-8F91-4290-8486-D5B18BC92B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F444-DEAF-4B07-91C1-4A110F25DA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9CF9-20AC-4CDD-B830-5519A380CB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77B0-C5A8-4273-818D-40E4F718C25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CFBC-B899-4FF9-A574-81FF2DB29F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EA98-3E0F-4868-84B1-F25B04D94D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57AC-1BD1-420A-90C6-997C8F8D18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D3DE-C09B-4FF5-A94B-28C4F803AA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FCCD-7735-4283-8E80-8EE672E58B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05FB-ACFF-452C-94D5-73697F91F1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5693-097D-4D06-867E-6949BD5B78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61F3-1A48-4BEF-B9A3-62A8C3B5D0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1BCD-1CE4-4FC0-9B1C-03CCC80FAA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E1F1-5BAD-43E8-B053-EE59FDD74A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93DA-7E15-4052-BB81-D05F43E92B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2723-0259-4ADD-A58B-EC778E7A7FF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A150-80A6-4C92-A895-00A3D2E762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B5DC-C0D6-4802-8A52-27C1D0B491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B90A-5CB0-460C-B53F-A6F9C771F5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BEF8-E323-42B8-B2B9-39C756F511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2B86-E9D0-454D-A354-8A2518FBA1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0B35-2B71-4BD6-8637-039DFD8AF6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CF51-49B2-4C14-9F1A-6D6449AD39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DB73-9959-4B3B-9317-C2EBFAF199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E598-8646-4C59-9FFD-DC016A38AC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C29E-AD58-45B8-8D50-96FF929CBF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4AD8-99EC-40EC-9AF9-19FBD32E0A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B368-E1AB-4C37-AC3A-7D8E97C2FA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913C-7EB8-474B-91BE-8DE62F039A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2120-F8F0-42C7-A598-3AC7C54A61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0F65-8EB9-4F51-948D-86ED09ECCC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4F3E-991C-4B45-BE95-FC2DA686959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953-F004-4034-B49B-A62221FD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452-ADC1-4C53-A15E-978A3EEA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70B-D135-4AE7-89C4-CAAFFCFA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92F-813F-4AD0-8DDC-6FA1616F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CC66-ED62-4DA4-B169-B2983D23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3A5D-4763-4BCB-8DDB-08C9EF4A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6BD5-8EEC-469C-A55B-4D0B8CF5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16CB-D273-4B66-A19E-40884072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A8BD-F758-4847-A2C8-27687D8F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52CE-2E6B-4870-9CF2-CB8FB67B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A982-D5C9-4BB5-B367-287390B2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226-059B-4678-86ED-664D362A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E7D2-2E16-4E61-828F-EBE361D2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A776-8293-40C5-81A3-6202BBCB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5735-02B7-481F-9A4B-992E20E6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B4D6-E2B3-4F87-B9BA-48124EAA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3F8D-7750-4986-B7BF-5588EEB5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377-3F7C-4B97-B896-07E20799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CCB0-0A1C-488E-9ECE-67B706E5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C3C-2B73-4880-BFC4-8E1B33FB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93E-3F0F-495A-8A51-C811CC83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DB2-4F0E-4253-BAA4-D2432187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5DF2-4B52-4D39-92B7-9135FA0B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70F3-8BCF-4C6A-A085-544CE281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349"/>
              </a:spcBef>
              <a:buSzPct val="176403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349"/>
              </a:spcBef>
              <a:buSzPct val="146906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349"/>
              </a:spcBef>
              <a:buSzPct val="146906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349"/>
              </a:spcBef>
              <a:buSzPct val="146906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7114-82C4-42B7-9251-11A27C75A97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F321-012D-4293-BA79-25AB795C308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6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7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8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0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4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5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6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7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8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0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2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4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5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6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7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8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0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2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4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5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6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7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8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0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1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2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4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5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6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7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8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0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1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2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4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5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6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7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8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0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2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4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5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6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7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8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0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2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4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5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6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7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8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0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2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4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5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6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7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8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0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2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4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5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6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7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8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0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2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4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5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6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7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8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0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2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4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5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6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7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8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0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1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2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4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5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6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7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8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0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1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2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3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4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5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6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7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8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0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1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2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3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4.xml"/>
</Relationships>
</file>

<file path=ppt/slides/_rels/slide3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5.xml"/>
</Relationships>
</file>

<file path=ppt/slides/_rels/slide3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6.xml"/>
</Relationships>
</file>

<file path=ppt/slides/_rels/slide3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7.xml"/>
</Relationships>
</file>

<file path=ppt/slides/_rels/slide3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8.xml"/>
</Relationships>
</file>

<file path=ppt/slides/_rels/slide3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0.xml"/>
</Relationships>
</file>

<file path=ppt/slides/_rels/slide3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1.xml"/>
</Relationships>
</file>

<file path=ppt/slides/_rels/slide3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2.xml"/>
</Relationships>
</file>

<file path=ppt/slides/_rels/slide3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3.xml"/>
</Relationships>
</file>

<file path=ppt/slides/_rels/slide3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4.xml"/>
</Relationships>
</file>

<file path=ppt/slides/_rels/slide3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5.xml"/>
</Relationships>
</file>

<file path=ppt/slides/_rels/slide3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6.xml"/>
</Relationships>
</file>

<file path=ppt/slides/_rels/slide3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7.xml"/>
</Relationships>
</file>

<file path=ppt/slides/_rels/slide3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8.xml"/>
</Relationships>
</file>

<file path=ppt/slides/_rels/slide3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0.xml"/>
</Relationships>
</file>

<file path=ppt/slides/_rels/slide3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1.xml"/>
</Relationships>
</file>

<file path=ppt/slides/_rels/slide3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2.xml"/>
</Relationships>
</file>

<file path=ppt/slides/_rels/slide3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3.xml"/>
</Relationships>
</file>

<file path=ppt/slides/_rels/slide3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4.xml"/>
</Relationships>
</file>

<file path=ppt/slides/_rels/slide3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5.xml"/>
</Relationships>
</file>

<file path=ppt/slides/_rels/slide3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6.xml"/>
</Relationships>
</file>

<file path=ppt/slides/_rels/slide3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7.xml"/>
</Relationships>
</file>

<file path=ppt/slides/_rels/slide3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8.xml"/>
</Relationships>
</file>

<file path=ppt/slides/_rels/slide3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0.xml"/>
</Relationships>
</file>

<file path=ppt/slides/_rels/slide3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1.xml"/>
</Relationships>
</file>

<file path=ppt/slides/_rels/slide3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2.xml"/>
</Relationships>
</file>

<file path=ppt/slides/_rels/slide3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3.xml"/>
</Relationships>
</file>

<file path=ppt/slides/_rels/slide3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4.xml"/>
</Relationships>
</file>

<file path=ppt/slides/_rels/slide3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5.xml"/>
</Relationships>
</file>

<file path=ppt/slides/_rels/slide3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6.xml"/>
</Relationships>
</file>

<file path=ppt/slides/_rels/slide3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7.xml"/>
</Relationships>
</file>

<file path=ppt/slides/_rels/slide3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8.xml"/>
</Relationships>
</file>

<file path=ppt/slides/_rels/slide3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0.xml"/>
</Relationships>
</file>

<file path=ppt/slides/_rels/slide3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1.xml"/>
</Relationships>
</file>

<file path=ppt/slides/_rels/slide3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2.xml"/>
</Relationships>
</file>

<file path=ppt/slides/_rels/slide3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3.xml"/>
</Relationships>
</file>

<file path=ppt/slides/_rels/slide3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4.xml"/>
</Relationships>
</file>

<file path=ppt/slides/_rels/slide3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5.xml"/>
</Relationships>
</file>

<file path=ppt/slides/_rels/slide3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6.xml"/>
</Relationships>
</file>

<file path=ppt/slides/_rels/slide3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7.xml"/>
</Relationships>
</file>

<file path=ppt/slides/_rels/slide3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8.xml"/>
</Relationships>
</file>

<file path=ppt/slides/_rels/slide3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3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0.xml"/>
</Relationships>
</file>

<file path=ppt/slides/_rels/slide3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1.xml"/>
</Relationships>
</file>

<file path=ppt/slides/_rels/slide3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2.xml"/>
</Relationships>
</file>

<file path=ppt/slides/_rels/slide3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3.xml"/>
</Relationships>
</file>

<file path=ppt/slides/_rels/slide3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4.xml"/>
</Relationships>
</file>

<file path=ppt/slides/_rels/slide3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5.xml"/>
</Relationships>
</file>

<file path=ppt/slides/_rels/slide3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6.xml"/>
</Relationships>
</file>

<file path=ppt/slides/_rels/slide3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7.xml"/>
</Relationships>
</file>

<file path=ppt/slides/_rels/slide3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8.xml"/>
</Relationships>
</file>

<file path=ppt/slides/_rels/slide3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0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7"/>
          <p:cNvSpPr/>
          <p:nvPr/>
        </p:nvSpPr>
        <p:spPr>
          <a:xfrm>
            <a:off x="857160" y="42876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. The recommended activity levels for adults (CDHAC)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bining short sessions of different activities for a total of 60 minutes every day of the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bining short sessions of different activities for a total of 30 minutes five days per week (minimu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rticipating in vigorous activity that makes you “huff &amp; puff” for 30 minutes three to four days per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rticipating in vigorous activity that makes you “huff &amp; puff” for 60 minutes five days per week (minimu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Combining short sessions of different activities for a total of 30 minutes five days per week (minimu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MacOS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7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0. At rest, most of our energy comes fro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a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rbohydra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tei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combination of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a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00.  An example of a medico-legal issue being raised by athletes taking legal performance enhancers such as creatine monohydrate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hletes suffering an allergic reaction to the sub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hletes being admitted to hospit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hletes suing the administrative body for a “botched up” Series A samp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hletes suffering an allergic reaction to the sub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01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dolescents are considered to have participated in adequate physical activity if the complete the following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ctivities that use 3.5 ml/kg/min on at least 5 days of the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ctivities that use 3.5 ml/kg/min for at least 30 minutes on at least 5 days of the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3.5 hours of moderate-intensity activity over at least 5 sessions in a normal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3.5 hours of moderate-intensity activity over at least 5 sessions in a normal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MacOS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6" dur="1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7"/>
          <p:cNvSpPr/>
          <p:nvPr/>
        </p:nvSpPr>
        <p:spPr>
          <a:xfrm>
            <a:off x="928800" y="857160"/>
            <a:ext cx="7377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02.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The recommended activity levels for children and youth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60 minutes, every day of moderate to vigorous intensity across a wide range of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60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minutes, every second day of moderate intensity across a wide range of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90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minutes, every day of moderate to vigorous intensity across a wide range of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90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minutes, every second day of moderate intensity across a wide range of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TextBox 8"/>
          <p:cNvSpPr/>
          <p:nvPr/>
        </p:nvSpPr>
        <p:spPr>
          <a:xfrm>
            <a:off x="923760" y="4952880"/>
            <a:ext cx="71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60 minutes ,every day of moderate to vigorous intensity across a wide range of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7"/>
          <p:cNvSpPr/>
          <p:nvPr/>
        </p:nvSpPr>
        <p:spPr>
          <a:xfrm>
            <a:off x="785880" y="100008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03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For older people, to achieve improved muscle strength and mobility, it is recommended that they participate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weight training 3 times per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-weight baring activities such as swimming, cycling, water aerobics at least 5 times per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veryday lifestyle activities such as garde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TextBox 8"/>
          <p:cNvSpPr/>
          <p:nvPr/>
        </p:nvSpPr>
        <p:spPr>
          <a:xfrm>
            <a:off x="785880" y="464328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Everyday lifestyle activities such as gardening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7"/>
          <p:cNvSpPr/>
          <p:nvPr/>
        </p:nvSpPr>
        <p:spPr>
          <a:xfrm>
            <a:off x="71424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04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ccelerometers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xpensive to use with large popula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-invas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05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terventions designed to engage “at risk” children and youth requi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mmunity suppo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mprehensive tailoring of progr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n understanding of the target grou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06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Reminder systems (on phones, computers, post-its on walls, etc.) are essential strategi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nly when at the maintenance st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For anyone contemplating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ny stage up to the action st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Any stage up to the action stag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07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following is an example of an environmental intervention aimed at increasing physical activity level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nstructing bike trails and walking track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viding playground facil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stalling showers and change facilities at workpla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7"/>
          <p:cNvSpPr/>
          <p:nvPr/>
        </p:nvSpPr>
        <p:spPr>
          <a:xfrm>
            <a:off x="857160" y="42876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08.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“Travelsmart” aims to increase physical activity across the settings of school, community and workplace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ncouraging walking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 preference to motor vehi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ncouraging the riding of bicycles in preference to moto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vehi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ncouraging the use of public transpo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7"/>
          <p:cNvSpPr/>
          <p:nvPr/>
        </p:nvSpPr>
        <p:spPr>
          <a:xfrm>
            <a:off x="857160" y="4287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09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71424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1. The ATP-PC system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Anaerob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Quick to supply ener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mited by the amount of available phosphocreat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10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Hypoglycaemi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eads to fatigue as a result of excessive muscle “shivering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s quickly reversed by taking in soluble sucro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ccurs when athletes call upon proteins as a fuel sour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ccurs when fat solubility is reduced as exercise intensity in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Is quickly reversed by taking in soluble sucro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11.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Aerobic glycolys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duces energy faster than an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an occur in the absence of oxy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akes over from anaerobic glycolysis when athletes hit the wall in events such as the marath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reaks down pyruvic acid to carbon dioxide and more energy via the Kreb’s Cyc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Breaks down pyruvic acid to carbon dioxide and more energy via the Kreb’s Cyc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12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predominant energy system used in the 400m sprint (athletics) is the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A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C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actacid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erobic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LA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13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Swimmers use more energy than runners to complete the same distances becaus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y use more muscles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re energy is required to remain afloat (buoyant) than it i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o maintain an upright pos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ater provides greater resistance than air to forward mov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14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oxygen deficit occurs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erformers have had time to reach a “steady state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 ATP is broken down anaerobicall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amount of oxygen demanded is less than that able to be supplied by the cardiovascular &amp; respiratory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erformers train at high altitude and the air is “thin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ATP is broken down anaerobically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15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Dehydration may lead to fatigue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sulting in an elevated body tempera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blood pressure and heart ra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lowing down the transmission of nervous impulses through motor neur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16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n active recovery is how many times faster than a passive recovery at removing LA and restoring muscle pH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wi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ree ti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Five ti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n Ti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Twic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17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gility is “made up” of the following component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peed and Strengt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ower and Strengt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peed &amp; Flexi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alance &amp;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Speed &amp; Flexibility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18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erobic capacity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same as cardio-respiratory endur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same as VO2 ma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same as cardio vascular endur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The same as VO2 max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19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 terms of data analysis, observation is not as good as using GPS data becaus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t is objec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t is subjec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t is opera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It is subjec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2. The energy system interplay is best described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released from the ATP-PC system, then the LA system and lastly the aerobic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released from all 3 energy systems, but one contributing more than the other two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three energy systems are used during play rather than r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three energy systems collectively supply  ATP to working muscles in a sequential patter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released from all 3 energy systems, but one contributing more than the other two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20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When collecting data, the best parameter to reflect energy system usage would b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kill Frequenc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Heart Rate Patter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:R Inform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ocomotor Patter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Heart Rate Patterns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21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Fitness “norms”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eople called Norm who have high levels of fitness compared to the rest of the pop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good indicator of areas that need to be improv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sults considered to be typical for a particular population grou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Results considered to be typical for a particular population grou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22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most relevant test to assess the speed of a netball centre player would b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anding 55m spri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anding 15m spri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anding 40m spri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unning 40m spri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Standing 15m sprint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23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17 year old PE student (male) who gets a score of 14 cm in the sit and reach test would rate a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Fa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Aver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Goo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xcell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Excellent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24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principle of specificity aims to be specific to the following aspects observed in the gam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nergy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Fitness compon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uscles groups and actions us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7"/>
          <p:cNvSpPr/>
          <p:nvPr/>
        </p:nvSpPr>
        <p:spPr>
          <a:xfrm>
            <a:off x="857160" y="428760"/>
            <a:ext cx="7500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25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following example best highlights the training principle of “specificity”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road cyclist experiencing gains as a result of aerobic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raining completed on a stationary bicyc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sprint cyclist experiencing gains as a result of aerobic training completed on a stationary bicyc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shot putter experiencing gains as a result of anaerobic training completed using plyometric bound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1,500 m runner experiencing gains as a result of aerobic training completed on a stationary bicyc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A road cyclist experiencing gains as a result of aerobic training completed on a stationary bicycl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26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best example of short interval training listed below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2 x 2 x 1,000 m runs with a w:r ratio of 1: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2 x 4 x 1,000 m runs with a w:r ratio of 1: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2 x 2 x 1,000 m runs with a w:r ratio of 1: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None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27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Overload in a Fartlek session can be achieved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ecreasing the intake of low GI foods immediately following the training ses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earing a backpack weighing 4 kilogr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unning the same distance in a faster time (under 10 minute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Wearing a backpack weighing 4 kilograms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28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Sensible / feasible overload likely to bring about improvements should be in the range of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0-2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2- 4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8-10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&gt;20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8-10%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29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dividual load circuit training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etter than individual time circuit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impler to use than fixed load circuit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Highly specific to a person’s fitness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Highly specific to a person’s fitness level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3. Once the lactate threshold is exceeded, the following occurs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LA system becomes the major energy suppli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PC system is able to replenish energy stores now that it is not being used and “rested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st ATP resynthesis occurs as a result of an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n active recovery should commence immediatel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 Most ATP resynthesis occurs as a result of an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30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 the following resistance training ~ 4 x 3RM x 80kg, which component would primarily be developed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uscular Endur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rengt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Power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31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Pilates primarily aims to improv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Flexi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 Core st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Core stability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19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32.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A catabolic training effect results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destructive effect on body tissu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rebuilding effect on body tissu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isqualification due to use of illegal practi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eight being gained via increased water absorp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A destructive effect on body tissues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33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“SAID” principle refer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pecially Adapted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ternal Driv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pecific Adaptive Imposition Dema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pecific Adaptation Imposed Dema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aches saying “I told you so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Specific Adaptation Imposed Demands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34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Plyometrics will result in the following chang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ittle change to lactate threshol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glycolytic enzy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PC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35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Lactic acid tolerance results after 6+ months of anaerobic training due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s in the ventricle thickne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the muscle’s alkaline production / reserv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OBL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Increasing the muscle’s alkaline production / reserv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36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 following is most likely to result from participation in continuous training progra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atrium si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plasma volu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maximal heart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Increased plasma volu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37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arterio-venous oxygen difference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Greater at sub-maximal levels when compared to resting lev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comparison of arterial oxygen levels compared to venous oxygen lev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direct measure of how much oxygen muscles are us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38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Plyometric training will result in the following adaptations to fast twitch muscle fib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“whiteness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antioxidative enzym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PC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triglycerid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Increased PC stores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39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erobic training will lead to the following changes to a person’s lactate threshold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ecre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Inve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Increas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4. Steady state occurs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consumption reaches a maximum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Cori cycle starts to break down built up lactic acid and convert it to glycogen to be reus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heart and lungs have had sufficient time to supply working muscles with oxy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supply is equal to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supply is equal to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40.</a:t>
            </a:r>
            <a:r>
              <a:rPr b="1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Psychological symptom(s) of overtraining includ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isturbed slee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od swin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ecreased “drive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41.</a:t>
            </a:r>
            <a:r>
              <a:rPr b="1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Risk management includ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ppointing a manager who is prepared to take risk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nducting regular evacuation dril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owing players to take “calculated risks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ducing the likelihood of “things going wrong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TextBox 8"/>
          <p:cNvSpPr/>
          <p:nvPr/>
        </p:nvSpPr>
        <p:spPr>
          <a:xfrm>
            <a:off x="64296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Reducing the likelihood of “things going wrong”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42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oaches might contribute to risks associated with the team they are training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dopting an authoritarian approach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ttending regular re-accreditation meetin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Using unqualified support staff that might be friends eve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is saves money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Using unqualified support staff that might be friends even this saves money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43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following is a practical example of risk management to reduce injuri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t allowing spectators to sit within a 2 m proximity of the playing are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adding placed on goal pos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stricting the amount of players allowed in certain parts of a playing area or fiel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0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44.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Risk management procedures extend beyond team management to facilities and equipment. The following must be taken into consideration in this are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vacuation/emergency procedu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ccess for all including disabled peop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Sign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45.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Mental imagery can b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udito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act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Kinaesthet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46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Ethical considerations related to performance enhancement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set of moral valu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ut in place to ensure fair participation exists for al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olicies that must be strictly adhered to by all athle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A set of moral values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47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affeine enhances performance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epressing cardiac output and “saving energy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cting as a diuret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moting glycogen sparing via increased release of free fatty aci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Promoting glycogen sparing via increased release of free fatty acids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48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Ethical performers try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rive to achieve personal health as well as personal best performan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eek equa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void dop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49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olostrum provides performance enhancing properties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the amount of anaerobic power that can be generat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mproving the body’s immune system and protein synthesis mechanis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mproving the rate of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viding a quicker mechanism for catabolic reactions to occu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Improving the body’s immune system and protein synthesis mechanis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5. The most likely cause of fatigue for a 100m sprinter (athletics)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C deple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owered muscle P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ccumulation of iron(s) – Fe, Ph, Al, et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ctic Acid accum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C deple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50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following foods are all suitable to be taken as part of a carbohydrate loading meal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rdial; low fat muffins; fried fis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akes; nuts; lenti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ggs, bacon; tomato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ereal; Low fat yoghurt; past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Cereal; Low fat yoghurt; pasta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Box 7"/>
          <p:cNvSpPr/>
          <p:nvPr/>
        </p:nvSpPr>
        <p:spPr>
          <a:xfrm>
            <a:off x="857160" y="42876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51. The recommended activity levels for adults (CDHAC)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bining short sessions of different activities for a total of 60 minutes every day of the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bining short sessions of different activities for a total of 30 minutes five days per week (minimu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rticipating in vigorous activity that makes you “huff &amp; puff” for 30 minutes three to four days per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rticipating in vigorous activity that makes you “huff &amp; puff” for 60 minutes five days per week (minimu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2" name="MacOS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9" dur="1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7"/>
          <p:cNvSpPr/>
          <p:nvPr/>
        </p:nvSpPr>
        <p:spPr>
          <a:xfrm>
            <a:off x="928800" y="857160"/>
            <a:ext cx="5786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52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When monitoring physical activity levels among populations, pedometers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Very accurate and very practic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Very practical but not highly accu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Very accurate but not very practic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derately practical and highly accu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TextBox 8"/>
          <p:cNvSpPr/>
          <p:nvPr/>
        </p:nvSpPr>
        <p:spPr>
          <a:xfrm>
            <a:off x="1000080" y="4429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Very practical but not highly accurat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7"/>
          <p:cNvSpPr/>
          <p:nvPr/>
        </p:nvSpPr>
        <p:spPr>
          <a:xfrm>
            <a:off x="785880" y="100008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53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When considering the dimensions of physical activity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Verdana"/>
              </a:rPr>
              <a:t>context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refer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set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ho the person under consideration is with at the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here the physical activity is taking pla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TextBox 8"/>
          <p:cNvSpPr/>
          <p:nvPr/>
        </p:nvSpPr>
        <p:spPr>
          <a:xfrm>
            <a:off x="785880" y="464328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7"/>
          <p:cNvSpPr/>
          <p:nvPr/>
        </p:nvSpPr>
        <p:spPr>
          <a:xfrm>
            <a:off x="714240" y="428760"/>
            <a:ext cx="7500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54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“Active Kids, Healthy Kids” strategy has six components which aim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 the number of children and youth accumulating at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east 30 minutes of daily moderate-vigorous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 the number of children and youth accumulating at least 60 minutes of daily moderate-vigorous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 the number of children and youth accumulating at least 60 minutes of daily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ecrease the number of children and youth accumulating at least 120 minutes of daily electronic media for entertain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Increase the number of children and youth accumulating at least 60 minutes of daily moderate-vigorous physical activity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55.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 The following is an example of an intervention aimed at promoting physical activit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uilding bike tracks away from roa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mployer subsidised health club membership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Having ads at cinemas that promote involvement in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56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person who is in the “Action” stage will be likely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articipate in moderate intensity activity most (five) day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nd follow an activity/exercise pl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articipate in physical activity 3 times per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eet the physical activity guidelines for at least 5 yea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nly need to be involved in physical activity twice per week to maintain their fitness lev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Participate in moderate intensity activity most (five) days and follow an activity/exercise plan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57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“Go for your Life” program aim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mprove eating habi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 levels of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mote involvement in community based progr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0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58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Many people are using pedometers to monitor their physical activity. Recommended totals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10,000 steps per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100,000 steps per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10,000 steps dail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1,000 steps before breakfast followed by 2,000 steps before lunch and then 3,000 steps before din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10,000 steps dail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59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f students do not participate in physical activity at sch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y are more likely to participate in physical activity outside sch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are less likely to join sporting clubs outside sch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y are more likely to join sporting clubs outside sch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y are less likely to participate in physical activity outside sch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TextBox 8"/>
          <p:cNvSpPr/>
          <p:nvPr/>
        </p:nvSpPr>
        <p:spPr>
          <a:xfrm>
            <a:off x="71424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They are less likely to participate in physical activity outside sch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0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6. Following a 10 second interval sprint (max intensity) how long would it take to replenish fuel stores used in the work period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0 seconds (1: 1 work : rest ratio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8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4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0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18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60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creased protein intak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eads to increased water loss via urin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isplaces carbohydrates from the di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s often associated with increased fat intake via animal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ased foo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0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61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aerobic energy syste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eaks at approx 70 seconds when athletes work maximally from the outset of exerci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eferentially uses fats as a fuel sour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s the predominant energy supplier in a 400 m sprint i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thletic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an only operate if exercise intensity remains between 70- 85% maximum heart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Peaks at approx 70 seconds when athletes work maximally from the outset of exerci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0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62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When considering the energy system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aerobic system is the slowest to contribute to ATP resynthesis, but 40-50 times more powerful than the two combined anaerobic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C is adversely affected by the low pH caused when the LA system takes over energy produ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LA system produces 5 times as much energy as the PC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The aerobic system is the slowest to contribute to ATP resynthesis, but 40-50 times more powerful than the two combined anaerobic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0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63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aerobic system preferentially uses CHO’s because the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ccur in a higher abundance in our bod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quire less oxygen than fats to release ener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reak down quicker than the CHO’s used by the PC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Require less oxygen than fats to release energy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0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64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oxygen deb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s always equal to the oxygen deficit in terms of oxygen quant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Should be wiped out by G8 count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ccurs at the commencement of exercise when insufficient oxygen to provide energy aerobically is availa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ees PC being restored and LA being broken dow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Sees PC being restored and LA being broken down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65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organic phosphates that result when PC is broken down to supply energy cause fatigue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ducing maximum cross-bridge forming for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locking the sarcoplamic reticulum mechanism and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eventing muscular contrac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terfering with the Ca+ producing mechanism found in th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Reducing maximum cross-bridge forming forces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Box 7"/>
          <p:cNvSpPr/>
          <p:nvPr/>
        </p:nvSpPr>
        <p:spPr>
          <a:xfrm>
            <a:off x="857160" y="428760"/>
            <a:ext cx="7500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66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disruption to glycolytic enzymes will lead to fatigue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the reliance on fats as a fuel sour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the amount of LA that is produced due to an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imiting the breakdown on glycogen to glucose and then resynthesis of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Limiting the breakdown on glycogen to glucose and then resynthesis of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0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67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Flexibility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n overall body phenomen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Joint specif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when muscles short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ffected by bone den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Joint specif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68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tennis player standing between the service line and net waiting to volley would need the following fitness component in trying try move quickly to get to a ball that clips, and just falls over the ne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Ag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Flexi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sychological Refractory Speed (PR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Ag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69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following data would give the best indication of energy system interplay during an analysed game of netball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kill frequenc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vement Patter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Heart Rate / Tra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:R rati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Heart Rate / Tra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0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7. Males exhibit greater muscular strength than females due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eater participation in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ing more unipennate mus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ing a higher percentage of fast-twitch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ross sectional are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ross sectional are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70.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Identify the energy system primarily responsible for delivery ATP during the 3rd High intensity effo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Aerobic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lactacid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alactacid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The lactacid system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0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71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When compared to maximal testing, sub-maximal testing is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re accu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ess accu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re expens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re time consum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Less accurat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0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72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RAST (running based anaerobic sprint test) is a good indicator of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C restoration / Fatigu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PC restoration / Fatiguability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0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73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17 year old VCE P.E. student (male) who scores an 8% decrement in the PC recovery test would be rated a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o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elow Aver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ver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Very Goo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Very Goo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0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74.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The 20 m shuttle run (beep test) favour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eople who aren’t dea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thletes who run rather than cycle as their main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eople who have a high PC depletion toler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eople who are agile and able to turn around at the end of 20m quicker than everyone el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Athletes who run rather than cycle as their main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0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75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Overload can be achieved by increasing the quality of training ~ this refers to increasing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quality of the venue training occurs 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the training intensity but still being specific to the game dema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raining with an accredited coa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Increasing the training intensity but still being specific to the game dema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0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7"/>
          <p:cNvSpPr/>
          <p:nvPr/>
        </p:nvSpPr>
        <p:spPr>
          <a:xfrm>
            <a:off x="857160" y="42876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76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“law of diminishing returns” states th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more training an athlete does the quicker improvements will occu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nce a meso-cycle has been completed, an athlete needs to diminish training loa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s fitness gains are made, athletes need to train at diminished intens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s an athlete improves as a result of training the gains will become smaller and small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s an athlete improves as a result of training the gains will become smaller and small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0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77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best example of a correct short interval training listed below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8 x 3 x 80 m runs with a w:r ratio of 1: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10 x 4 x 100 m runs with a w:r ratio of 1: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3 x 8 x 100 m runs with a w:r ratio of 1: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8 x 3 x 80 m runs with a w:r ratio of 1: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78. “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Overload in a Fartlek session can be achieved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the frequency of the intense burs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the distance cover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unning the same distance but with more hills included (in the same tim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0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79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Fixed load circuit training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etter than individual time circuit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impler to use than individual load circuit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Highly specific to a person’s fitness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Simpler to use than individual load circuit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8. Anaerobic power is a measure of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PC system’s ability to produce ener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LA system’s ability to produce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bility of the anaerobic systems to provide energy via their pathway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bility of the anaerobic systems to provide energy via their pathway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80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allistic stretching is often used by gymnasts becaus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vements are highly specific to the demands of competi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y are highly train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y perform on shock absorbing floo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Movements are highly specific to the demands of competition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81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 the following exercise / resistance prescription training ~ 4 x 3RM x 80kg, the 3RM represents th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pet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sistance Modu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eight that can only be worked with 3 times during a particular exercise / mov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Weight that can only be worked with 3 times during a particular exercise / mov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0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9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82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Swiss ball training primarily develop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Flexi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re st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Core st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83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warm-up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s muscle tempera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epares players for the activity they are about to participate in (physically &amp; mentally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s flow of blood and fuels to working mus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84.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To achieve maximum fitness gains, increased work / loading needs to occur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highest point in the undercompensation ph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lowest point in the overcompensation ph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highest point in the overcompensation ph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lowest point in the undercompensation ph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The highest point in the overcompensation phas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85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When no training adaptations result the athlete will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eed to carefully consider using illegal performanc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nhancing practi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xperience a platea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eed to taper and reduce training loa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st likely look for another coach or train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Experience a platea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0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86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erobic training results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capillar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oxidative enzy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numbers of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87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 following is most likely to result from participation in an aerobic training program lasting 12+ month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ventricle si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ecreased plasma volu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ecreased maximal heart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ecreased a-VO2 differ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Increased ventricle siz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0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88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arterio-venous oxygen difference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Greater at sub-maximal levels when compared to maximal lev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n indirect measure of how much oxygen muscles are us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direct measure of how much oxygen muscles are us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A direct measure of how much oxygen muscles are us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0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89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erobic training has the following effect on tidal volum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e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mains relatively unchang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Increases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0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9. The most important fitness component for a 1,500m swimmer performing a tumble turn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action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g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Bal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erobic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g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90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Long interval training will result in the following chronic changes to slow twitch muscle fib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“redness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oxidative enzy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contraction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myosin ATP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Increased oxidative enzymes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0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91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Overtraining can be treated by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earning self-regulation skil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generative strategies such as massage and breathing techniqu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owing adequate recovery/rest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TextBox 8"/>
          <p:cNvSpPr/>
          <p:nvPr/>
        </p:nvSpPr>
        <p:spPr>
          <a:xfrm>
            <a:off x="64296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9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92. Risk management includ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isk Identifi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isk Redu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isk Avoid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93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Risk management includ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ppointing a manager who is prepared to take risk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the risk so the rewards are potentially great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dentifying hazards and controlling associated ris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stablishing  contextual problem solving approa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Identifying hazards and controlling associated risk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0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94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oaches might avoid risks associated with the team they are training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nsuring all players are involved in warm-up and warm-down sess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ttending regular re-accreditation meetin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Using qualified support staff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0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7"/>
          <p:cNvSpPr/>
          <p:nvPr/>
        </p:nvSpPr>
        <p:spPr>
          <a:xfrm>
            <a:off x="857160" y="42876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95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following is an example of risk management to reduce injuri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dopting a “no pain no gain” understanding amongst all players to build un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Having mixed ability levels playing together in an open competition to encourage improv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Codes of behaviour and conduct for players, coaches and official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ncouraging immediate return to playing to avoid losing conditioning following an inju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Codes of behaviour and conduct for players, coaches and official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0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96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Stress inoculation training enhances performance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moting arous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ducing arous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nhancing arous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Reducing arousal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0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97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reatine supplementation enhances performance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PC resynthesis during recove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uffering H+ ions under anaerobic exercise cond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moting DVT ( Dilated Venous Transferral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Increasing PC resynthesis during recovery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0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98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sotonic drinks are favoured by many athletes because the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vide the body with better muscle t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re absorbed quicker than wat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vide a balance between rehydration and refuell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Provide a balance between rehydration and refuell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99.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“Choking” leads to performance deterioration due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ecreased ability to shift attention foc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hifting focus to internal and narro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egative self-tal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0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7"/>
          <p:cNvSpPr/>
          <p:nvPr/>
        </p:nvSpPr>
        <p:spPr>
          <a:xfrm>
            <a:off x="928800" y="857160"/>
            <a:ext cx="5786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. The physical activity pyramid encourages people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rticipate most in Level 2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rticipate most in Level 3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rticipate least in Level 1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rticipate least in Level 4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1000080" y="4429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rticipate least in Level 4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0. The purpose of conducting a games analysis i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ork out the important fitness compon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sider the interplay of energy systems during the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ide on how to best prepare / train for the actual g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00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way of reducing future risks and injuries occurring in sports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Using the SIPP strategy (Sports Injury Prevention Progra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dopting injury surveillance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Focussing more on skill develop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Adopting injury surveillance systems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0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01. School settings-based programs for promoting physical activity are superior to workplace and community settings because the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Use a combination of social influen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e a captive audience – i.e. schooling is compulsory until 15 years of 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n incorporate policy into any promotion strateg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TextBox 8"/>
          <p:cNvSpPr/>
          <p:nvPr/>
        </p:nvSpPr>
        <p:spPr>
          <a:xfrm>
            <a:off x="457200" y="487692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_x001a_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3" name="MacOS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0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2" dur="1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Box 7"/>
          <p:cNvSpPr/>
          <p:nvPr/>
        </p:nvSpPr>
        <p:spPr>
          <a:xfrm>
            <a:off x="928800" y="857160"/>
            <a:ext cx="578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02. Aerobic glycolys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ould be very important to a 200m runn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synthesizes ATP quicker than anaerobic glycolysi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witches to fats when carbohydrates are     running lo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oesn’t result in harmful by-produ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TextBox 8"/>
          <p:cNvSpPr/>
          <p:nvPr/>
        </p:nvSpPr>
        <p:spPr>
          <a:xfrm>
            <a:off x="1000080" y="4429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oesn’t result in harmful by-produ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7"/>
          <p:cNvSpPr/>
          <p:nvPr/>
        </p:nvSpPr>
        <p:spPr>
          <a:xfrm>
            <a:off x="785880" y="100008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03. The following is an example of an objective measure of physical activit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GPS unit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irect observatio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Physical Activity Dia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TextBox 8"/>
          <p:cNvSpPr/>
          <p:nvPr/>
        </p:nvSpPr>
        <p:spPr>
          <a:xfrm>
            <a:off x="785880" y="464328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. A GPS un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0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Box 7"/>
          <p:cNvSpPr/>
          <p:nvPr/>
        </p:nvSpPr>
        <p:spPr>
          <a:xfrm>
            <a:off x="71424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04. An athlete with low levels of fitness will experience proportionately greater gains in fitness than an athlete who is fitter can be explained by: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law of proportional retur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law of inverse proportiona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law of diminishing retur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law of proportional retur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The law of diminishing retur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0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05. Stage 6 of the “Stages of Change” model is known as the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Termination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stage which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ees performers meet the NPAG guidelines for a minimum of 24 month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ees performers being physically active most nights of the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ees performers reduce the amount of physical activity to maintain fitness gai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ees performers involved in regular physical activity for a period of more than 5 yea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es performers involved in regular physical activity for a period of more than 5 yea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0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06. The following is an example of a “constructed environment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walking track around a school ov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playgrou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skate bowl and ram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All of the abov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All of the abov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fill="hold">
                      <p:stCondLst>
                        <p:cond delay="0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07. The following would occur after 12 months of plyometrics training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glycolytic capac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muscle buffering 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energy substrat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0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08. Biofeedback is used to enhance performance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moting improved foc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ducing arous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arous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reating life-like imag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ducing arous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0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09. Creatine supplementation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s the rate of PC resynthe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s the rate of PC split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s phosphory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sults is osmotic efflux at the mus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TextBox 8"/>
          <p:cNvSpPr/>
          <p:nvPr/>
        </p:nvSpPr>
        <p:spPr>
          <a:xfrm>
            <a:off x="71424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s the rate of PC resynthe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0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1. The most appropriate fitness tests on offer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lia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Val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leva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10. At sub-maximal intensity, most of our energy comes fro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Gluco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arbohydra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dipo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Gluco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fill="hold">
                      <p:stCondLst>
                        <p:cond delay="0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11. The ATP-PC system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duces more ATP than the aerobic energy system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Has a greater yield of ATP than the LA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duces ATP at a slower rate than the glycoltyic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None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None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0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12. The energy system interplay is best described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three systems work in a sequential mann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TP is interdependent of ADP rele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xygen supply can meet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_x0016_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released from all 3 energy systems, but one contributing more than the other two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released from all 3 energy systems, but one contributing more than the other two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93" dur="indefinite" restart="never" nodeType="tmRoot">
          <p:childTnLst>
            <p:seq>
              <p:cTn id="1494" dur="indefinite" nodeType="mainSeq">
                <p:childTnLst>
                  <p:par>
                    <p:cTn id="1495" fill="hold">
                      <p:stCondLst>
                        <p:cond delay="0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13. Once the lactate threshold is exceeded, the following occurs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_x0016_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st ATP resynthesis occurs as a result of an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IP balances with BL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Ventilation decreases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 Most ATP resynthesis occurs as a result of an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fill="hold">
                      <p:stCondLst>
                        <p:cond delay="0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14. Steady state occurs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deficit is greater than oxygen deb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demand is greater than oxygen suppl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consumption equal carbon dioxide produ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supply is equal to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supply is equal to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0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15. The most likely cause of fatigue for a 400m sprinter (athletics)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H+ accum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Pi+ accum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Na+ accum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+ accumulation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fill="hold">
                      <p:stCondLst>
                        <p:cond delay="0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16. Following a 10 second interval sprint (max intensity) how long would it take to replenish fuel stores used in the work period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1 minu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2 minu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3 minu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4 minu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3 minu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17. Protein is mainly used fo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ATP resynthe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Repair of hair follicle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Athletes who have depleted their PC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Muscle growth and repa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Muscle growth and repa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28" dur="indefinite" restart="never" nodeType="tmRoot">
          <p:childTnLst>
            <p:seq>
              <p:cTn id="1529" dur="indefinite" nodeType="mainSeq">
                <p:childTnLst>
                  <p:par>
                    <p:cTn id="1530" fill="hold">
                      <p:stCondLst>
                        <p:cond delay="0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18. Anaerobic capacity is a measure of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How much glycogen is used in the Kreb’s cyc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The infinite amount of energy the lactic acid system can produ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The finite amount of energy  the anaerobic systems can prov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finite amount of energy  the anaerobic systems can prov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0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19. The most important fitness component for a 1,500m swimmer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Flexi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Local Muscular Endur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Local Muscular Endur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2. The most specific test to assess the agility of a tennis player would be th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llinois Agility R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mo Agility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rvard Twist Touch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rgarita Agility R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mo Agility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20. The purpose of conducting a games analysis i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Determine which components of fitness are importa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Identify areas for improv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Design a series of fitness tests to be undertak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0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5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21. The most appropriate fitness tests on offer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Norm referenc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Val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Activity specif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0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22. The most specific test to assess the agility of a pole vaulter would be th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The Semo agility tes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_x0016_Bend Twist Touch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The Illinois agility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The shoulder hyperextension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Bend Twist Touch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23. Males would be expected to score better in  beep test than females because the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Have bigger hear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Have higher lung capac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Have more bloo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0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24. A training year can be broken down into smaller sections such as “pre-season”, “competition” and “off-season”. These are examples of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Period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Privatisatio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Local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iod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0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25. The recommended frequency for athletes seeking aerobic training improvements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4-5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3-4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2-3 times / week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1-2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-5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0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26. Any “plateau” during a training program indicat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Steady st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A period of adap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Over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Specific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period of adap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fill="hold">
                      <p:stCondLst>
                        <p:cond delay="0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27. The modified pull up tests is useful to measure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: Alactacid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Strengt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Local muscular endur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Local muscular endur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fill="hold">
                      <p:stCondLst>
                        <p:cond delay="0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28. “Fartlek” training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Was named after the Swedish cross country champion Sven Far Tl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_x0016_Trains both aerobic and anaerobic energy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Has a work to rest ratio larger than long interval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Trains both aerobic and anaerobic energy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0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29. Plyometrics are exemplified by the following group of activiti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Dodges, weaves and directional chang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Depth Jumps, clap push-ups, bound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Maximal contractions applied over a period of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pth Jumps, clap push-ups, bound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0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8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3. Males would be expected to score better on the vertical jump test than females because the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e greater cross sectional area in the quadriceps/hamstring reg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ain more than fema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ssess greater ankle flexibility and can generate greater push off as a result of th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y more football than girls and this is an action specific to the g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Have greater cross sectional area in the quadriceps/hamstring reg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30. Plyometrics can be overloaded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Increasing the height and depth of jump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Increasing the number of repetitions perform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Jumping whilst wearing a back pack filled with 5kg s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31. In the following exercise prescription for resistance training ~ 4 x 8 x 80kg, the 80 represent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The weight of the perform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The resi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The overlo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The repli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The resi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fill="hold">
                      <p:stCondLst>
                        <p:cond delay="0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2" dur="19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32. The following is most likely to result from participation in an aerobic training program lasting 12+ mth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Increased anabolic enzy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Increased catabolic proces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Increased catalytic enzy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None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0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33. Increased myoglobin levels resulting from aerobic conditioning / training assists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Moving more oxygen away from the intercostals to working mus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_x0016_Moving more oxygen from cell membranes to th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Moving more carbon dioxide from the right ventricle to the lun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Moving arteriovenous oxygenated blood back to the alveo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ving more oxygen from cell membranes to th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fill="hold">
                      <p:stCondLst>
                        <p:cond delay="0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34. Shin splints are an example of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Over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Overload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Overcompensa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Overarching princip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Over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47" dur="indefinite" restart="never" nodeType="tmRoot">
          <p:childTnLst>
            <p:seq>
              <p:cTn id="1648" dur="indefinite" nodeType="mainSeq">
                <p:childTnLst>
                  <p:par>
                    <p:cTn id="1649" fill="hold">
                      <p:stCondLst>
                        <p:cond delay="0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35. Aerobic training has the following effect on muscle oxygen deliver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De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In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Absorbs mo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In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54" dur="indefinite" restart="never" nodeType="tmRoot">
          <p:childTnLst>
            <p:seq>
              <p:cTn id="1655" dur="indefinite" nodeType="mainSeq">
                <p:childTnLst>
                  <p:par>
                    <p:cTn id="1656" fill="hold">
                      <p:stCondLst>
                        <p:cond delay="0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36. Short interval training will result in the following chronic changes to fast twitch muscle fib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Increased FFA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Increased capillar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Increased glycolytic enzy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Increased oxidative enzy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Increased glycolytic enzy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0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37. Continuous training will result in the following chronic changes to slow twitch muscle fib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Increased nervous transmis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Increased contraction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Increased PC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_x0016_Increased capillar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Increased capillar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0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4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38. Short interval training will result in the following adaptations to the LIP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Regul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Remain the s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Decre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Incre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75" dur="indefinite" restart="never" nodeType="tmRoot">
          <p:childTnLst>
            <p:seq>
              <p:cTn id="1676" dur="indefinite" nodeType="mainSeq">
                <p:childTnLst>
                  <p:par>
                    <p:cTn id="1677" fill="hold">
                      <p:stCondLst>
                        <p:cond delay="0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1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39. Training with high intensity/loads and low repetitions will generally result in greater changes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Fast twitch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Slow twitch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Medium twitch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Fast twitch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0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8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4. A training year can be broken down into smaller sections such as “pre-season”, “competition” and “off-season”. These are examples of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iod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socy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icrocy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i-cy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iod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40. Massage assists recovery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Increasing blood flo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Preventing venous pool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Facilitating removal of metabolic by-produ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89" dur="indefinite" restart="never" nodeType="tmRoot">
          <p:childTnLst>
            <p:seq>
              <p:cTn id="1690" dur="indefinite" nodeType="mainSeq">
                <p:childTnLst>
                  <p:par>
                    <p:cTn id="1691" fill="hold">
                      <p:stCondLst>
                        <p:cond delay="0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5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41. The most effective way of monitoring training responses i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Listen carefully to your personal train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Conduct post tes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Video your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Keep a training 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TextBox 8"/>
          <p:cNvSpPr/>
          <p:nvPr/>
        </p:nvSpPr>
        <p:spPr>
          <a:xfrm>
            <a:off x="64296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Keep a training 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96" dur="indefinite" restart="never" nodeType="tmRoot">
          <p:childTnLst>
            <p:seq>
              <p:cTn id="1697" dur="indefinite" nodeType="mainSeq">
                <p:childTnLst>
                  <p:par>
                    <p:cTn id="1698" fill="hold">
                      <p:stCondLst>
                        <p:cond delay="0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42. The following is a strategy that can be used for 1:1 counselling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Contrac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Identifying opportunities to be ac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Enlisting social suppo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0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9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43. Groups most at risk of being physically inactive inclu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White collar work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Racial and ethnic minor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High SES group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Racial and ethnic minor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0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44. Relapse is most likely to occur at the following stag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A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Precontemp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Termin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Prepa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Prepa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0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3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45 Someone suffering from pre-game “jitters” should use the following strategy to get to a better psychological state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Progressive muscle relo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Elevated breathing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Energising muscle contrac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Progressive muscle relo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24" dur="indefinite" restart="never" nodeType="tmRoot">
          <p:childTnLst>
            <p:seq>
              <p:cTn id="1725" dur="indefinite" nodeType="mainSeq">
                <p:childTnLst>
                  <p:par>
                    <p:cTn id="1726" fill="hold">
                      <p:stCondLst>
                        <p:cond delay="0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46. Caffeine is often taken by endurance performers to enhance their performances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Promoting glycogen spar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Providing an acid-base bal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Being a diuret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ssisting thermoreg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Promoting glycogen spar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fill="hold">
                      <p:stCondLst>
                        <p:cond delay="0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47. A psychlogical sign of overtraining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Loss of competitive dr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Loss of appeti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Loss of muscle t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Loss of competitive dr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0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48. Direct observatio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Is most effective in the workplace set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Allows for collection of contextual inform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Is time effici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Is unobtrus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llows for collection of contextual inform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fill="hold">
                      <p:stCondLst>
                        <p:cond delay="0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49. EPO is often taken by endurance athletes despite being banned by WADA. Side-effects inclu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Decreased blood press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Anaem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Hyperten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Flatul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ten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52" dur="indefinite" restart="never" nodeType="tmRoot">
          <p:childTnLst>
            <p:seq>
              <p:cTn id="1753" dur="indefinite" nodeType="mainSeq">
                <p:childTnLst>
                  <p:par>
                    <p:cTn id="1754" fill="hold">
                      <p:stCondLst>
                        <p:cond delay="0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5. The recommended frequency for athletes seeking aerobic training improvements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-5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7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-5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50.  An example of a medico-legal issue being raised by athletes taking legal performance enhancers such as creatine monohydrate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thletes suffering an allergic reaction to the sub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A doctor being removed from the medical practitioner’s boar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Athlete’s not knowing what they were being given and the side effe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0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Box 7"/>
          <p:cNvSpPr/>
          <p:nvPr/>
        </p:nvSpPr>
        <p:spPr>
          <a:xfrm>
            <a:off x="857160" y="42876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51. The recommended activity levels for adults (CDHAC)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mbining long sessions of different activities for a total of 60 minutes five days per week (minimu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mbining short sessions of different activities for a total of 30 minutes five days per week (minimu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mbining short sessions of different activities for a total of 60 minutes five days per week (minimu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mbining continuous sessions of different activities for a total of 30 minutes five days per week (minimu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Combining short sessions of different activities for a total of 30 minutes five days per week (minimu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4" name="MacOS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fill="hold">
                      <p:stCondLst>
                        <p:cond delay="0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2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5" dur="1" fill="hold"/>
                                        <p:tgtEl>
                                          <p:spTgt spid="6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7"/>
          <p:cNvSpPr/>
          <p:nvPr/>
        </p:nvSpPr>
        <p:spPr>
          <a:xfrm>
            <a:off x="928800" y="857160"/>
            <a:ext cx="5786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52. The physical activity pyramid encourages people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articipate most in Level 1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articipate least in Level 1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articipate most in Level 4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articipate least in Level 4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TextBox 8"/>
          <p:cNvSpPr/>
          <p:nvPr/>
        </p:nvSpPr>
        <p:spPr>
          <a:xfrm>
            <a:off x="1000080" y="4429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rticipate least in Level 4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fill="hold">
                      <p:stCondLst>
                        <p:cond delay="0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Box 7"/>
          <p:cNvSpPr/>
          <p:nvPr/>
        </p:nvSpPr>
        <p:spPr>
          <a:xfrm>
            <a:off x="785880" y="100008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53. The following is an example of an objective measure of physical activit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OPL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NOW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CIS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TextBox 8"/>
          <p:cNvSpPr/>
          <p:nvPr/>
        </p:nvSpPr>
        <p:spPr>
          <a:xfrm>
            <a:off x="785880" y="464328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. SOPL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fill="hold">
                      <p:stCondLst>
                        <p:cond delay="0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9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Box 7"/>
          <p:cNvSpPr/>
          <p:nvPr/>
        </p:nvSpPr>
        <p:spPr>
          <a:xfrm>
            <a:off x="71424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54. For overweight and obese individuals, to prevent weight regain once weight is los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60 minutes of physical activity accumulated in as many sessions as possi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30-60 minutes of physical activity is recommended per d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60-90 minutes of physical activity is recommended per d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90-120 minutes of physical activity is recommended per d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60-90 minutes of physical activity is recommended per d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0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55 Oxygen deficit occurs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Only occurs at the beginning of an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Equals oxygen deb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When the aerobic system kicks 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When oxygen supply is less than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 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When oxygen supply is less than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97" dur="indefinite" restart="never" nodeType="tmRoot">
          <p:childTnLst>
            <p:seq>
              <p:cTn id="1798" dur="indefinite" nodeType="mainSeq">
                <p:childTnLst>
                  <p:par>
                    <p:cTn id="1799" fill="hold">
                      <p:stCondLst>
                        <p:cond delay="0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7"/>
          <p:cNvSpPr/>
          <p:nvPr/>
        </p:nvSpPr>
        <p:spPr>
          <a:xfrm>
            <a:off x="826920" y="40464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56 EPOC allows for the following to occur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Lactate to be converted to glyco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Thermogenic reg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Kreb’s cycle phosphory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Lactate to be converted to glyco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0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0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57. The aerobic energy system has th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Greatest yield of ATP produ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Highest rate of ATP produ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Greatest reliance on ATP gene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Highest oxygen cost per mole of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Greatest yield of ATP produ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fill="hold">
                      <p:stCondLst>
                        <p:cond delay="0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58. The fitness components are mainly reliant upon th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ATP-PC energy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LA energy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Aerobic energy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PC-ATP energy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TP-PC energy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18" dur="indefinite" restart="never" nodeType="tmRoot">
          <p:childTnLst>
            <p:seq>
              <p:cTn id="1819" dur="indefinite" nodeType="mainSeq">
                <p:childTnLst>
                  <p:par>
                    <p:cTn id="1820" fill="hold">
                      <p:stCondLst>
                        <p:cond delay="0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59. Maximal testing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Is highly accu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Involves a lengthy recovery perio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Is conducted until physiological failure / fatigu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TextBox 8"/>
          <p:cNvSpPr/>
          <p:nvPr/>
        </p:nvSpPr>
        <p:spPr>
          <a:xfrm>
            <a:off x="71424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25" dur="indefinite" restart="never" nodeType="tmRoot">
          <p:childTnLst>
            <p:seq>
              <p:cTn id="1826" dur="indefinite" nodeType="mainSeq">
                <p:childTnLst>
                  <p:par>
                    <p:cTn id="1827" fill="hold">
                      <p:stCondLst>
                        <p:cond delay="0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1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6. Any “plateau” during a training program indicat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thlete needs to be thinking about “tapering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period of adap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“steady State” has been achiev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period of adap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60. Underload occurs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Overload is applied and then “backed off” a little bit later in the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Training intensity is reduced leading up to competi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A workload becomes easier and fails to produce further improvem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Training become painful and recoveries take long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 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workload becomes easier and fails to produce further improvem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32" dur="indefinite" restart="never" nodeType="tmRoot">
          <p:childTnLst>
            <p:seq>
              <p:cTn id="1833" dur="indefinite" nodeType="mainSeq">
                <p:childTnLst>
                  <p:par>
                    <p:cTn id="1834" fill="hold">
                      <p:stCondLst>
                        <p:cond delay="0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8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61. Swiss ball training is used to develop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Wrist extenso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Hip flexo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More st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Core st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Core st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39" dur="indefinite" restart="never" nodeType="tmRoot">
          <p:childTnLst>
            <p:seq>
              <p:cTn id="1840" dur="indefinite" nodeType="mainSeq">
                <p:childTnLst>
                  <p:par>
                    <p:cTn id="1841" fill="hold">
                      <p:stCondLst>
                        <p:cond delay="0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5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Box 7"/>
          <p:cNvSpPr/>
          <p:nvPr/>
        </p:nvSpPr>
        <p:spPr>
          <a:xfrm>
            <a:off x="857160" y="42876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62. The energy system interplay is best described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LIP is increas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TP is released from the anaerobic energy systems and then the aerobic system kicks 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TP is released from all 3 energy systems, but only when the previous one has run o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TP is released from all 3 energy systems, but one contributing more than the other two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released from all 3 energy systems, but one contributing more than the other two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46" dur="indefinite" restart="never" nodeType="tmRoot">
          <p:childTnLst>
            <p:seq>
              <p:cTn id="1847" dur="indefinite" nodeType="mainSeq">
                <p:childTnLst>
                  <p:par>
                    <p:cTn id="1848" fill="hold">
                      <p:stCondLst>
                        <p:cond delay="0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63. Once the lactate threshold is exceeded, the following occurs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LIP remains above aerobic threshol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ATP is resynthesised from available fu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LIP cannot remove excess H+ 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st ATP resynthesis occurs as a result of an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 Most ATP resynthesis occurs as a result of an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0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9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64. Steady state occurs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Respiratory levels equal ventilatory lev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Oxygen demand meets L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EPOC occurs during a warm-dow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xygen supply is equal to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supply is equal to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fill="hold">
                      <p:stCondLst>
                        <p:cond delay="0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65. The most likely cause of fatigue for a 200m butterfly swimmer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Neuro muscular block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Depletion of fa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Accumulation of H+ 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Depletion of NaCl 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Accumulation of H+ 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67" dur="indefinite" restart="never" nodeType="tmRoot">
          <p:childTnLst>
            <p:seq>
              <p:cTn id="1868" dur="indefinite" nodeType="mainSeq">
                <p:childTnLst>
                  <p:par>
                    <p:cTn id="1869" fill="hold">
                      <p:stCondLst>
                        <p:cond delay="0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3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66. The following practice could potentially lead to injuries during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Inappropriate choice of training metho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Allowing players to train whilst injur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Inadequate maintenance of equip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74" dur="indefinite" restart="never" nodeType="tmRoot">
          <p:childTnLst>
            <p:seq>
              <p:cTn id="1875" dur="indefinite" nodeType="mainSeq">
                <p:childTnLst>
                  <p:par>
                    <p:cTn id="1876" fill="hold">
                      <p:stCondLst>
                        <p:cond delay="0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67. Keeping a training log ensu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Goals can be reviewed and revis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Injuries can be linked to specific events or behaviou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Careful monitoring of training progress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0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68. Athletes take illegal performance enhancing drugs becaus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They want to push the limi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A win: win mindset exis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They believe they can get away with 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Testing is rand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They believe they can get away with 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88" dur="indefinite" restart="never" nodeType="tmRoot">
          <p:childTnLst>
            <p:seq>
              <p:cTn id="1889" dur="indefinite" nodeType="mainSeq">
                <p:childTnLst>
                  <p:par>
                    <p:cTn id="1890" fill="hold">
                      <p:stCondLst>
                        <p:cond delay="0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4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69. Low GI foods are best consumed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After each station in a circu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Before a 2 hour endurance ev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After a 2 hour endurance ev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Before an event requiring quick release of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efore a 2 hour endurance ev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95" dur="indefinite" restart="never" nodeType="tmRoot">
          <p:childTnLst>
            <p:seq>
              <p:cTn id="1896" dur="indefinite" nodeType="mainSeq">
                <p:childTnLst>
                  <p:par>
                    <p:cTn id="1897" fill="hold">
                      <p:stCondLst>
                        <p:cond delay="0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1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7. The best example of long interval training listed below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0 x 2 x 10 m runs with a w:r ratio of 1: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x 20 x 100 m runs with a w:r ratio of 1: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x 2 x 1,000 m runs with a w:r ratio of 1: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x 20 x 10,000m runs with a w:r ratio of 1: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x 2 x 1,000 m runs with a w:r ratio of 1: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70. The purpose of conducting a games analysis i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ork out the important fitness compon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sider the interplay of energy systems during the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ide on how to best prepare / train for the actual g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71. The most appropriate fitness tests on offer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lia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Val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leva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09" dur="indefinite" restart="never" nodeType="tmRoot">
          <p:childTnLst>
            <p:seq>
              <p:cTn id="1910" dur="indefinite" nodeType="mainSeq">
                <p:childTnLst>
                  <p:par>
                    <p:cTn id="1911" fill="hold">
                      <p:stCondLst>
                        <p:cond delay="0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5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72. The most specific test to assess the agility of a tennis player would be th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llinois Agility R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mo Agility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rvard Twist Touch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rgarita Agility R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mo Agility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16" dur="indefinite" restart="never" nodeType="tmRoot">
          <p:childTnLst>
            <p:seq>
              <p:cTn id="1917" dur="indefinite" nodeType="mainSeq">
                <p:childTnLst>
                  <p:par>
                    <p:cTn id="1918" fill="hold">
                      <p:stCondLst>
                        <p:cond delay="0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73. Males would be expected to score better on the vertical jump test than females because the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e greater cross sectional area in the quadriceps/hamstring reg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ain more than fema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ssess greater ankle flexibility and can generate greater push off as a result of th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y more football than girls and this is an action specific to the g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Have greater cross sectional area in the quadriceps/hamstring reg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23" dur="indefinite" restart="never" nodeType="tmRoot">
          <p:childTnLst>
            <p:seq>
              <p:cTn id="1924" dur="indefinite" nodeType="mainSeq">
                <p:childTnLst>
                  <p:par>
                    <p:cTn id="1925" fill="hold">
                      <p:stCondLst>
                        <p:cond delay="0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9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74. A training year can be broken down into smaller sections such as “pre-season”, “competition” and “off-season”. These are examples of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iod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socy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icrocy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i-cy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iod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30" dur="indefinite" restart="never" nodeType="tmRoot">
          <p:childTnLst>
            <p:seq>
              <p:cTn id="1931" dur="indefinite" nodeType="mainSeq">
                <p:childTnLst>
                  <p:par>
                    <p:cTn id="1932" fill="hold">
                      <p:stCondLst>
                        <p:cond delay="0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75. The recommended frequency for athletes seeking aerobic training improvements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-5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7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-5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37" dur="indefinite" restart="never" nodeType="tmRoot">
          <p:childTnLst>
            <p:seq>
              <p:cTn id="1938" dur="indefinite" nodeType="mainSeq">
                <p:childTnLst>
                  <p:par>
                    <p:cTn id="1939" fill="hold">
                      <p:stCondLst>
                        <p:cond delay="0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76. Any “plateau” during a training program indicat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Training needs to tap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period of adap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A rest perio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 period of hyperplas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period of adap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44" dur="indefinite" restart="never" nodeType="tmRoot">
          <p:childTnLst>
            <p:seq>
              <p:cTn id="1945" dur="indefinite" nodeType="mainSeq">
                <p:childTnLst>
                  <p:par>
                    <p:cTn id="1946" fill="hold">
                      <p:stCondLst>
                        <p:cond delay="0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77. The best example of circuit training listed below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Fixed lo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Individual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Individual lo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Fixed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Individual lo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0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7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78. “Fartlek” training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Heavily calls up fa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Mainly works the LA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Is primarily aerobic bas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Means “fart” play and adds variety to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 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s primarily aerobic bas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58" dur="indefinite" restart="never" nodeType="tmRoot">
          <p:childTnLst>
            <p:seq>
              <p:cTn id="1959" dur="indefinite" nodeType="mainSeq">
                <p:childTnLst>
                  <p:par>
                    <p:cTn id="1960" fill="hold">
                      <p:stCondLst>
                        <p:cond delay="0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4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79. When returning to injury following an injury it is important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Think posi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Conduct a functional assessment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Place athletes under game cond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onduct a functional assessment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65" dur="indefinite" restart="never" nodeType="tmRoot">
          <p:childTnLst>
            <p:seq>
              <p:cTn id="1966" dur="indefinite" nodeType="mainSeq">
                <p:childTnLst>
                  <p:par>
                    <p:cTn id="1967" fill="hold">
                      <p:stCondLst>
                        <p:cond delay="0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8. “Fartlek” training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n be overloaded by completing the same distance in a slower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s also knows as “playing with speed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quires rest periods to restore P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bines continuous activity with short bursts of intense work at regular interv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bines continuous activity with short bursts of intense work at regular interv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80. Plyometrics can be overloaded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Increasing the number of reps by  about 1/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Increasing the number of repetitions up to 10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Decreasing the inten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Decreasing the rest in between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creasing the number of repetitions up to 10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8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81. In the following exercise prescription for resistance training ~ 4 x 8 x 80kg, the 8 represent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Resi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Se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pet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R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pet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79" dur="indefinite" restart="never" nodeType="tmRoot">
          <p:childTnLst>
            <p:seq>
              <p:cTn id="1980" dur="indefinite" nodeType="mainSeq">
                <p:childTnLst>
                  <p:par>
                    <p:cTn id="1981" fill="hold">
                      <p:stCondLst>
                        <p:cond delay="0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5" dur="19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82. The following is most likely to result from participation in an aerobic training program lasting 12+ mth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Increased oxygen production by the diaphrag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Increased respiratory quotient (RQ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Decreased maximal heart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Decreased sub maximal heart 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Decreased sub maximal heart 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86" dur="indefinite" restart="never" nodeType="tmRoot">
          <p:childTnLst>
            <p:seq>
              <p:cTn id="1987" dur="indefinite" nodeType="mainSeq">
                <p:childTnLst>
                  <p:par>
                    <p:cTn id="1988" fill="hold">
                      <p:stCondLst>
                        <p:cond delay="0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2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83. Increased myoglobin levels resulting from aerobic conditioning / training assists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ving more oxygen from cell membranes to th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Moving more oxygen from the lungs to the capilla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Moving more oxygen from the alveolar capsules to the tribronchial sac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ving more oxygen from cell membranes to th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fill="hold">
                      <p:stCondLst>
                        <p:cond delay="0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9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84. An increased stroke volume will lead to 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Increased cardiac outp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Increased gaseous exchan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Increased arterial elastic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Increased a-VO2 dif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creased cardiac outp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00" dur="indefinite" restart="never" nodeType="tmRoot">
          <p:childTnLst>
            <p:seq>
              <p:cTn id="2001" dur="indefinite" nodeType="mainSeq">
                <p:childTnLst>
                  <p:par>
                    <p:cTn id="2002" fill="hold">
                      <p:stCondLst>
                        <p:cond delay="0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85. Cross training will allow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A  5000m runner to become a good 100m sprint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A 100m sprinter to become a good 5000m runn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A 1500m swimmer becoming a good springboard div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 springboard diver becoming a good 1500m swimm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2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100m sprinter to become a good 5000 runn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07" dur="indefinite" restart="never" nodeType="tmRoot">
          <p:childTnLst>
            <p:seq>
              <p:cTn id="2008" dur="indefinite" nodeType="mainSeq">
                <p:childTnLst>
                  <p:par>
                    <p:cTn id="2009" fill="hold">
                      <p:stCondLst>
                        <p:cond delay="0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3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86. Short interval training will result in the following chronic changes to fast twitch muscle fib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contraction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Increased contractil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Increased w:r rati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Increased fatigue resi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ontraction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14" dur="indefinite" restart="never" nodeType="tmRoot">
          <p:childTnLst>
            <p:seq>
              <p:cTn id="2015" dur="indefinite" nodeType="mainSeq">
                <p:childTnLst>
                  <p:par>
                    <p:cTn id="2016" fill="hold">
                      <p:stCondLst>
                        <p:cond delay="0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0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87. To determine the effectiveness of intervention programs it is important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Conduct pre-intervention and post-intervention tes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Conduct surveys after the intervention has been in pla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Use appropriate PA measu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Measure objectives and perceived benefi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onduct pre-intervention and post-intervention tes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0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88. Choking can best be overcome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Stress inoculation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Shifting focus from external to internal stimu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Positive self-tal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0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89. Reactivity considers how much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A behaviour is changed due to an assessment being undertak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Someone’s personal space is affect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Contextual change results from observ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A behaviour is changed due to an assessment being undertak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0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1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9. Plyometrics are exemplified by the following group of activiti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kipping, max push ups in 60 seconds, running on the spot for 30 seconds (max intensity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pth Jumps, clap push-ups, bound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0 x 20 m sprints every 45 seconds followed by 15 x 15m sprints every 3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pth Jumps, clap push-ups, bound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90. The amount of physical activity occurring in a sport education class would best be measured by using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SA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SOSPO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SOPL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SOF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Sof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42" dur="indefinite" restart="never" nodeType="tmRoot">
          <p:childTnLst>
            <p:seq>
              <p:cTn id="2043" dur="indefinite" nodeType="mainSeq">
                <p:childTnLst>
                  <p:par>
                    <p:cTn id="2044" fill="hold">
                      <p:stCondLst>
                        <p:cond delay="0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91. The most effective way of monitoring training responses i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Keep a training 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Use doubly labelled wat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Conduct post-tes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Validate the training protoc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TextBox 8"/>
          <p:cNvSpPr/>
          <p:nvPr/>
        </p:nvSpPr>
        <p:spPr>
          <a:xfrm>
            <a:off x="64296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Keep a training 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49" dur="indefinite" restart="never" nodeType="tmRoot">
          <p:childTnLst>
            <p:seq>
              <p:cTn id="2050" dur="indefinite" nodeType="mainSeq">
                <p:childTnLst>
                  <p:par>
                    <p:cTn id="2051" fill="hold">
                      <p:stCondLst>
                        <p:cond delay="0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92. Relapse is best described a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Receding during action st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Stage 4 in the Transtheoretical mod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Losing self-efficac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Moving back to another st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Moving back to another st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56" dur="indefinite" restart="never" nodeType="tmRoot">
          <p:childTnLst>
            <p:seq>
              <p:cTn id="2057" dur="indefinite" nodeType="mainSeq">
                <p:childTnLst>
                  <p:par>
                    <p:cTn id="2058" fill="hold">
                      <p:stCondLst>
                        <p:cond delay="0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93. Coaches might contribute to risks associated with the team they are training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Not listening to the assistant coach(e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Encouraging players to play with “niggling injuries” for the benefit of the te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Dividing team players into positional play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Forcing players to take pain kill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Encouraging players to play with “niggling injuries” for the benefit of the te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63" dur="indefinite" restart="never" nodeType="tmRoot">
          <p:childTnLst>
            <p:seq>
              <p:cTn id="2064" dur="indefinite" nodeType="mainSeq">
                <p:childTnLst>
                  <p:par>
                    <p:cTn id="2065" fill="hold">
                      <p:stCondLst>
                        <p:cond delay="0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94. Risk management procedures extend beyond team management to facilities and equipment. The following must be taken into consideration in this are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Providing mentors for players when away from the sporting aren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Minimising the risk of the club being su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Care of spectato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70" dur="indefinite" restart="never" nodeType="tmRoot">
          <p:childTnLst>
            <p:seq>
              <p:cTn id="2071" dur="indefinite" nodeType="mainSeq">
                <p:childTnLst>
                  <p:par>
                    <p:cTn id="2072" fill="hold">
                      <p:stCondLst>
                        <p:cond delay="0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95. The following is a practical example of how AFL football teams try to prevent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Random drug tes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Greater emphasis on strengthening hamstring muscles during training to avoid knee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Mandatory 1 game breaks following concus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2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 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77" dur="indefinite" restart="never" nodeType="tmRoot">
          <p:childTnLst>
            <p:seq>
              <p:cTn id="2078" dur="indefinite" nodeType="mainSeq">
                <p:childTnLst>
                  <p:par>
                    <p:cTn id="2079" fill="hold">
                      <p:stCondLst>
                        <p:cond delay="0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3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96. Community setting based program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Increase access to affordable exercise/recreational facil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Encourage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Support physical activity media campaig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84" dur="indefinite" restart="never" nodeType="tmRoot">
          <p:childTnLst>
            <p:seq>
              <p:cTn id="2085" dur="indefinite" nodeType="mainSeq">
                <p:childTnLst>
                  <p:par>
                    <p:cTn id="2086" fill="hold">
                      <p:stCondLst>
                        <p:cond delay="0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0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97. The following drink allows quickest absorption and hydratio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Hypo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Hyper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Hyperchlor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Gatora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o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fill="hold">
                      <p:stCondLst>
                        <p:cond delay="0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98. Dehydration will cause fatigue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Increasing blood press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Increasing heart ra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Redistributing blood away from working mus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98" dur="indefinite" restart="never" nodeType="tmRoot">
          <p:childTnLst>
            <p:seq>
              <p:cTn id="2099" dur="indefinite" nodeType="mainSeq">
                <p:childTnLst>
                  <p:par>
                    <p:cTn id="2100" fill="hold">
                      <p:stCondLst>
                        <p:cond delay="0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99. EPO is often taken by endurance athletes despite being banned by WADA. Side-effects inclu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Blood borne disease transmis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Air embolism (bubble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Increased blood press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05" dur="indefinite" restart="never" nodeType="tmRoot">
          <p:childTnLst>
            <p:seq>
              <p:cTn id="2106" dur="indefinite" nodeType="mainSeq">
                <p:childTnLst>
                  <p:par>
                    <p:cTn id="2107" fill="hold">
                      <p:stCondLst>
                        <p:cond delay="0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1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7"/>
          <p:cNvSpPr/>
          <p:nvPr/>
        </p:nvSpPr>
        <p:spPr>
          <a:xfrm>
            <a:off x="785880" y="100008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. The following is an example of an objective measure of physical activit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art rate monitor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lf-report lo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hysical activity dia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785880" y="464328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 Heart rate monitor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0. Plyometrics can be overloaded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king the muscles to contract more forcefully by jumping higher or performing at a higher inten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ing the weight and increasing the repet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rest and decreasing the inten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king the muscles to contract more forcefully by jumping higher or performing at a higher inten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00. Carbohydrate loading would most benefit the following athlet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1500 m swimm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3000m runn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Triathle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Pole vault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Triathle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12" dur="indefinite" restart="never" nodeType="tmRoot">
          <p:childTnLst>
            <p:seq>
              <p:cTn id="2113" dur="indefinite" nodeType="mainSeq">
                <p:childTnLst>
                  <p:par>
                    <p:cTn id="2114" fill="hold">
                      <p:stCondLst>
                        <p:cond delay="0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01. Reactivity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here physical activity is undertak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level at which a measure influences physical activity behaviou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pleting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igorous activity that makes you “huff &amp; puff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level at which a measure influences physical activity behaviou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5" name="MacOS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9" dur="indefinite" restart="never" nodeType="tmRoot">
          <p:childTnLst>
            <p:seq>
              <p:cTn id="2120" dur="indefinite" nodeType="mainSeq">
                <p:childTnLst>
                  <p:par>
                    <p:cTn id="2121" fill="hold">
                      <p:stCondLst>
                        <p:cond delay="0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5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8" dur="1" fill="hold"/>
                                        <p:tgtEl>
                                          <p:spTgt spid="7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Box 7"/>
          <p:cNvSpPr/>
          <p:nvPr/>
        </p:nvSpPr>
        <p:spPr>
          <a:xfrm>
            <a:off x="928800" y="857160"/>
            <a:ext cx="7388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02. Validity refer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sts/measures that aren’t affected by memory limita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ow accurate a measure 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bility of a test/measure to be repeated under similar cond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degree to which a test/measurement measures what it sets out to measu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TextBox 8"/>
          <p:cNvSpPr/>
          <p:nvPr/>
        </p:nvSpPr>
        <p:spPr>
          <a:xfrm>
            <a:off x="1000080" y="4429080"/>
            <a:ext cx="767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degree to which a test/measurement measures what it sets out to measu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29" dur="indefinite" restart="never" nodeType="tmRoot">
          <p:childTnLst>
            <p:seq>
              <p:cTn id="2130" dur="indefinite" nodeType="mainSeq">
                <p:childTnLst>
                  <p:par>
                    <p:cTn id="2131" fill="hold">
                      <p:stCondLst>
                        <p:cond delay="0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5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Box 7"/>
          <p:cNvSpPr/>
          <p:nvPr/>
        </p:nvSpPr>
        <p:spPr>
          <a:xfrm>
            <a:off x="785880" y="100008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03. The following is an example of an subjective measure of physical activit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art rate monitor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cceleromet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hysical activity dia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TextBox 8"/>
          <p:cNvSpPr/>
          <p:nvPr/>
        </p:nvSpPr>
        <p:spPr>
          <a:xfrm>
            <a:off x="785880" y="464328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hysical activity dia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36" dur="indefinite" restart="never" nodeType="tmRoot">
          <p:childTnLst>
            <p:seq>
              <p:cTn id="2137" dur="indefinite" nodeType="mainSeq">
                <p:childTnLst>
                  <p:par>
                    <p:cTn id="2138" fill="hold">
                      <p:stCondLst>
                        <p:cond delay="0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Box 7"/>
          <p:cNvSpPr/>
          <p:nvPr/>
        </p:nvSpPr>
        <p:spPr>
          <a:xfrm>
            <a:off x="71424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04. An advantage of using heart rate monitoring to assess physical activity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vides a strong link to energy expendi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ables quick and easy data colle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vides a good description of several dimensions of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43" dur="indefinite" restart="never" nodeType="tmRoot">
          <p:childTnLst>
            <p:seq>
              <p:cTn id="2144" dur="indefinite" nodeType="mainSeq">
                <p:childTnLst>
                  <p:par>
                    <p:cTn id="2145" fill="hold">
                      <p:stCondLst>
                        <p:cond delay="0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9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05. Stage 5 of the “Stages of Change” model is known as the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Maintenance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stage which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ows participants to temporarily “drop out” of physical activity for a period of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es performers incorporating physical activity as part of their lifestyle and meeting the guidelines for at least six month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n only be experienced when Stage 4 has been met for at least 3 month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es performers incorporating physical activity as part of their lifestyle and meeting the guidelines for at least six month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0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6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06. The following is not an example of a “constructed environment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skate park next to a sch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synthetic walking/running  track placed around a shopping cent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shade sail placed above the sand pit in the primary sch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5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57" dur="indefinite" restart="never" nodeType="tmRoot">
          <p:childTnLst>
            <p:seq>
              <p:cTn id="2158" dur="indefinite" nodeType="mainSeq">
                <p:childTnLst>
                  <p:par>
                    <p:cTn id="2159" fill="hold">
                      <p:stCondLst>
                        <p:cond delay="0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3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07. When critiquing strategies used at the population level to promote physical activity, the following must be considered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ducational programs to support social and environmental chang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moval of impedim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ailoring of progr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64" dur="indefinite" restart="never" nodeType="tmRoot">
          <p:childTnLst>
            <p:seq>
              <p:cTn id="2165" dur="indefinite" nodeType="mainSeq">
                <p:childTnLst>
                  <p:par>
                    <p:cTn id="2166" fill="hold">
                      <p:stCondLst>
                        <p:cond delay="0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0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08. The most effective school based setting physical activity promoting strategi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e Department of Education printed material outlining physical activity benefi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sure only P.E. teachers take sporting te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ke P.E. uniforms compulso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9" name="TextBox 8"/>
          <p:cNvSpPr/>
          <p:nvPr/>
        </p:nvSpPr>
        <p:spPr>
          <a:xfrm>
            <a:off x="785880" y="4857840"/>
            <a:ext cx="764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e Department of Education printed material outlining physical activity benefi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71" dur="indefinite" restart="never" nodeType="tmRoot">
          <p:childTnLst>
            <p:seq>
              <p:cTn id="2172" dur="indefinite" nodeType="mainSeq">
                <p:childTnLst>
                  <p:par>
                    <p:cTn id="2173" fill="hold">
                      <p:stCondLst>
                        <p:cond delay="0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7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09. A benefit associated with having a physically active group of office workers inclu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duced KPI’s (Key Performance Indicator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bsenteeis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duced staff turnov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mount of overtime complet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TextBox 8"/>
          <p:cNvSpPr/>
          <p:nvPr/>
        </p:nvSpPr>
        <p:spPr>
          <a:xfrm>
            <a:off x="714240" y="4857840"/>
            <a:ext cx="764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duced staff turnov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78" dur="indefinite" restart="never" nodeType="tmRoot">
          <p:childTnLst>
            <p:seq>
              <p:cTn id="2179" dur="indefinite" nodeType="mainSeq">
                <p:childTnLst>
                  <p:par>
                    <p:cTn id="2180" fill="hold">
                      <p:stCondLst>
                        <p:cond delay="0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4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1. In the following exercise prescription for resistance training ~ 4 x 8 x 80kg, the 4 represent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pet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i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day of the week training is undertak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9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10. During sub-maximal activity lasting 20 minutes, most of our energy comes fro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a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rbohydra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tei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combination of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rbohydra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85" dur="indefinite" restart="never" nodeType="tmRoot">
          <p:childTnLst>
            <p:seq>
              <p:cTn id="2186" dur="indefinite" nodeType="mainSeq">
                <p:childTnLst>
                  <p:par>
                    <p:cTn id="2187" fill="hold">
                      <p:stCondLst>
                        <p:cond delay="0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11. The ATP-PC system ha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igh yiel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igh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ow yiel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finite PC sour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5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B : High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92" dur="indefinite" restart="never" nodeType="tmRoot">
          <p:childTnLst>
            <p:seq>
              <p:cTn id="2193" dur="indefinite" nodeType="mainSeq">
                <p:childTnLst>
                  <p:par>
                    <p:cTn id="2194" fill="hold">
                      <p:stCondLst>
                        <p:cond delay="0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12. The energy system interplay is best described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released from the ATP-PC system, then the LA system and lastly the aerobic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three energy systems collectively supply  ATP to working muscles in a sequential patter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three energy systems are used during play rather than r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supplied by all 3 energy systems, but one produces more ATP than the oth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supplied by all 3 energy systems, but one produces more ATP than the oth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99" dur="indefinite" restart="never" nodeType="tmRoot">
          <p:childTnLst>
            <p:seq>
              <p:cTn id="2200" dur="indefinite" nodeType="mainSeq">
                <p:childTnLst>
                  <p:par>
                    <p:cTn id="2201" fill="hold">
                      <p:stCondLst>
                        <p:cond delay="0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5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13. Once the lactate threshold is exceeded, the following occurs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LA system becomes the major energy suppli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PC system is able to replenish energy stores now that it is not being used and “rested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st ATP resynthesis occurs as a result of 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drogen ions rapidly accumul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9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drogen ions rapidly accumul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06" dur="indefinite" restart="never" nodeType="tmRoot">
          <p:childTnLst>
            <p:seq>
              <p:cTn id="2207" dur="indefinite" nodeType="mainSeq">
                <p:childTnLst>
                  <p:par>
                    <p:cTn id="2208" fill="hold">
                      <p:stCondLst>
                        <p:cond delay="0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2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14. Steady state occurs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consumption reaches a sub-maximum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Cori cycle starts to break down built up lactic acid and convert it to glycogen to be reus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cardiovascular and respiratory systems are in equilibriu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supply is equal to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supply is equal to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13" dur="indefinite" restart="never" nodeType="tmRoot">
          <p:childTnLst>
            <p:seq>
              <p:cTn id="2214" dur="indefinite" nodeType="mainSeq">
                <p:childTnLst>
                  <p:par>
                    <p:cTn id="2215" fill="hold">
                      <p:stCondLst>
                        <p:cond delay="0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9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15. The most likely cause of fatigue for a 400m sprinter (athletics)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C deple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owered muscle P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ccumulation of muscle lact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ctic Acid accum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ccumulation of muscle lact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20" dur="indefinite" restart="never" nodeType="tmRoot">
          <p:childTnLst>
            <p:seq>
              <p:cTn id="2221" dur="indefinite" nodeType="mainSeq">
                <p:childTnLst>
                  <p:par>
                    <p:cTn id="2222" fill="hold">
                      <p:stCondLst>
                        <p:cond delay="0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6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16. Following a 30 second interval sprint (max intensity) how long would it take to replenish fuel stores used in the work period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0 seconds (1: 1 work : rest ratio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0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0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0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20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27" dur="indefinite" restart="never" nodeType="tmRoot">
          <p:childTnLst>
            <p:seq>
              <p:cTn id="2228" dur="indefinite" nodeType="mainSeq">
                <p:childTnLst>
                  <p:par>
                    <p:cTn id="2229" fill="hold">
                      <p:stCondLst>
                        <p:cond delay="0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3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17. Males exhibit greater  aerobic capacity than females due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eater participation in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ing larger lung capac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ing a higher percentage of slow-twitch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lveolar cross sectional are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TextBox 8"/>
          <p:cNvSpPr/>
          <p:nvPr/>
        </p:nvSpPr>
        <p:spPr>
          <a:xfrm>
            <a:off x="785880" y="4857840"/>
            <a:ext cx="764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ing larger lung capac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34" dur="indefinite" restart="never" nodeType="tmRoot">
          <p:childTnLst>
            <p:seq>
              <p:cTn id="2235" dur="indefinite" nodeType="mainSeq">
                <p:childTnLst>
                  <p:par>
                    <p:cTn id="2236" fill="hold">
                      <p:stCondLst>
                        <p:cond delay="0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0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18. Anaerobic power is a measure of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PC system’s ability to produce ener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LA system’s ability to produce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lactacid system’s ability to produce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naerobic energy systems ability  to provide energy via their pathway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naerobic energy systems ability  to provide energy via their pathway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41" dur="indefinite" restart="never" nodeType="tmRoot">
          <p:childTnLst>
            <p:seq>
              <p:cTn id="2242" dur="indefinite" nodeType="mainSeq">
                <p:childTnLst>
                  <p:par>
                    <p:cTn id="2243" fill="hold">
                      <p:stCondLst>
                        <p:cond delay="0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7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19. The most important fitness component for a diver performing a double somersault with half twist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action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g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erobic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g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48" dur="indefinite" restart="never" nodeType="tmRoot">
          <p:childTnLst>
            <p:seq>
              <p:cTn id="2249" dur="indefinite" nodeType="mainSeq">
                <p:childTnLst>
                  <p:par>
                    <p:cTn id="2250" fill="hold">
                      <p:stCondLst>
                        <p:cond delay="0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4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. The following is most likely to result from participation in an aerobic training program lasting 12+ mth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apillar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plasma volu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ardiac outp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0. The purpose of conducting a games analysis i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termine the different playing zo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ocate votes for elite perform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ide on how to best prepare / train for the actual g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ide on how to best prepare / train for the actual g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55" dur="indefinite" restart="never" nodeType="tmRoot">
          <p:childTnLst>
            <p:seq>
              <p:cTn id="2256" dur="indefinite" nodeType="mainSeq">
                <p:childTnLst>
                  <p:par>
                    <p:cTn id="2257" fill="hold">
                      <p:stCondLst>
                        <p:cond delay="0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1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1. The most appropriate fitness tests on offer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lia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Val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pecif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pecif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62" dur="indefinite" restart="never" nodeType="tmRoot">
          <p:childTnLst>
            <p:seq>
              <p:cTn id="2263" dur="indefinite" nodeType="mainSeq">
                <p:childTnLst>
                  <p:par>
                    <p:cTn id="2264" fill="hold">
                      <p:stCondLst>
                        <p:cond delay="0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8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2. The most specific test to assess the agility of a football player would be th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llinois Agility R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mo Agility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rvard Twist Touch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rgarita Agility R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llinois Agility R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69" dur="indefinite" restart="never" nodeType="tmRoot">
          <p:childTnLst>
            <p:seq>
              <p:cTn id="2270" dur="indefinite" nodeType="mainSeq">
                <p:childTnLst>
                  <p:par>
                    <p:cTn id="2271" fill="hold">
                      <p:stCondLst>
                        <p:cond delay="0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5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3. Males would be expected to score better on the vertical jump test than females because the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ain more than fema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ssess greater ankle flexibility and can generate greater push off as a result of th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y more football than girls and this is an action specific to the g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Have greater cross sectional area in the quadriceps/hamstring reg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Have greater cross sectional area in the quadriceps/hamstring reg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76" dur="indefinite" restart="never" nodeType="tmRoot">
          <p:childTnLst>
            <p:seq>
              <p:cTn id="2277" dur="indefinite" nodeType="mainSeq">
                <p:childTnLst>
                  <p:par>
                    <p:cTn id="2278" fill="hold">
                      <p:stCondLst>
                        <p:cond delay="0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2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4. Plyometric training best develop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trengt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IIB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1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83" dur="indefinite" restart="never" nodeType="tmRoot">
          <p:childTnLst>
            <p:seq>
              <p:cTn id="2284" dur="indefinite" nodeType="mainSeq">
                <p:childTnLst>
                  <p:par>
                    <p:cTn id="2285" fill="hold">
                      <p:stCondLst>
                        <p:cond delay="0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9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5. The recommended frequency for athletes seeking to maintain aerobic capacity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-5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7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3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90" dur="indefinite" restart="never" nodeType="tmRoot">
          <p:childTnLst>
            <p:seq>
              <p:cTn id="2291" dur="indefinite" nodeType="mainSeq">
                <p:childTnLst>
                  <p:par>
                    <p:cTn id="2292" fill="hold">
                      <p:stCondLst>
                        <p:cond delay="0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6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6. Any “plateau” during a training program indicat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thlete needs to be thinking about “tapering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vertraining is occurring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“steady State” has been achiev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period of adap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5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period of adap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97" dur="indefinite" restart="never" nodeType="tmRoot">
          <p:childTnLst>
            <p:seq>
              <p:cTn id="2298" dur="indefinite" nodeType="mainSeq">
                <p:childTnLst>
                  <p:par>
                    <p:cTn id="2299" fill="hold">
                      <p:stCondLst>
                        <p:cond delay="0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3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7. The best example of short interval training listed below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0 x 10 x 10 m runs with a w:r ratio of 1: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x 20 x 100 m runs with a w:r ratio of 1: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x 2 x 1,000 m runs with a w:r ratio of 1: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x 20 x 10,000m runs with a w:r ratio of 1: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7" name="TextBox 8"/>
          <p:cNvSpPr/>
          <p:nvPr/>
        </p:nvSpPr>
        <p:spPr>
          <a:xfrm>
            <a:off x="785880" y="4857840"/>
            <a:ext cx="764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0 x 10 x 10 m runs with a w:r ratio of 1: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04" dur="indefinite" restart="never" nodeType="tmRoot">
          <p:childTnLst>
            <p:seq>
              <p:cTn id="2305" dur="indefinite" nodeType="mainSeq">
                <p:childTnLst>
                  <p:par>
                    <p:cTn id="2306" fill="hold">
                      <p:stCondLst>
                        <p:cond delay="0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0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8. “Fartlek” training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n be overloaded by reducing the work : rest rati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s also knows as “playing with speed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quires rest periods to restore PC and remove H+ 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bines continuous activity with short bursts of intense work at regular interv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9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bines continuous activity with short bursts of intense work at regular interv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11" dur="indefinite" restart="never" nodeType="tmRoot">
          <p:childTnLst>
            <p:seq>
              <p:cTn id="2312" dur="indefinite" nodeType="mainSeq">
                <p:childTnLst>
                  <p:par>
                    <p:cTn id="2313" fill="hold">
                      <p:stCondLst>
                        <p:cond delay="0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7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9. Plyometrics are exemplified by the following group of activiti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kipping, max push ups in 60 seconds, running on the spot for 30 seconds (max intensity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ternating upper body with lower body parts for consecutive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0 x 20 m sprints every 45 seconds followed by 15 x 15m sprints every 3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1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18" dur="indefinite" restart="never" nodeType="tmRoot">
          <p:childTnLst>
            <p:seq>
              <p:cTn id="2319" dur="indefinite" nodeType="mainSeq">
                <p:childTnLst>
                  <p:par>
                    <p:cTn id="2320" fill="hold">
                      <p:stCondLst>
                        <p:cond delay="0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4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3. Increased myoglobin levels resulting from aerobic conditioning / training assists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ansporting more oxygen around the vascular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eventing the myoglotic stretch reflex (less slow twitch muscle train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ving more oxygen from cell membranes to th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ving more oxygen from cell membranes to th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Box 7"/>
          <p:cNvSpPr/>
          <p:nvPr/>
        </p:nvSpPr>
        <p:spPr>
          <a:xfrm>
            <a:off x="857160" y="428760"/>
            <a:ext cx="7962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30. Plyometrics can be overloaded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weight and decreasing the repet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ing the weight and increasing the repet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rest and decreasing the inten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king the muscles to contract more forcefully by jumping higher or performing at a higher inten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king the muscles to contract more forcefully by jumping higher or performing at a higher inten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fill="hold">
                      <p:stCondLst>
                        <p:cond delay="0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1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Box 7"/>
          <p:cNvSpPr/>
          <p:nvPr/>
        </p:nvSpPr>
        <p:spPr>
          <a:xfrm>
            <a:off x="857160" y="428760"/>
            <a:ext cx="796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31. In the following exercise prescription for resistance training ~ 4 x 8 x 80kg, the 8 represent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pet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i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day of the week training is undertak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5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pet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32" dur="indefinite" restart="never" nodeType="tmRoot">
          <p:childTnLst>
            <p:seq>
              <p:cTn id="2333" dur="indefinite" nodeType="mainSeq">
                <p:childTnLst>
                  <p:par>
                    <p:cTn id="2334" fill="hold">
                      <p:stCondLst>
                        <p:cond delay="0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8" dur="19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32. The following is most likely to result from participation in an aerobic training program lasting 18+ mth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apillar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d diastolic blood press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d cardiac outp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7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apillar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39" dur="indefinite" restart="never" nodeType="tmRoot">
          <p:childTnLst>
            <p:seq>
              <p:cTn id="2340" dur="indefinite" nodeType="mainSeq">
                <p:childTnLst>
                  <p:par>
                    <p:cTn id="2341" fill="hold">
                      <p:stCondLst>
                        <p:cond delay="0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5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33. Increased myoglobin levels resulting from aerobic conditioning / training assists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ansporting more oxygen around the vascular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eventing the myoglotic stretch reflex (less slow twitch muscle train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ving more oxygen from cell membranes to th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9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ving more oxygen from cell membranes to th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46" dur="indefinite" restart="never" nodeType="tmRoot">
          <p:childTnLst>
            <p:seq>
              <p:cTn id="2347" dur="indefinite" nodeType="mainSeq">
                <p:childTnLst>
                  <p:par>
                    <p:cTn id="2348" fill="hold">
                      <p:stCondLst>
                        <p:cond delay="0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2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34. Aerobic training results in decreases to the systolic blood pressure at sub-maximal intensities due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mproved elasticity of blood vess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LDL’s and reducing plaque build up on the inside of blood vess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ciprocal increases in diastolic blood press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mproved elasticity of blood vess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53" dur="indefinite" restart="never" nodeType="tmRoot">
          <p:childTnLst>
            <p:seq>
              <p:cTn id="2354" dur="indefinite" nodeType="mainSeq">
                <p:childTnLst>
                  <p:par>
                    <p:cTn id="2355" fill="hold">
                      <p:stCondLst>
                        <p:cond delay="0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9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35. Aerobic training has the following effect on diaphragm  oxygen consumption during sub-maximal intensiti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mains relatively unchang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60" dur="indefinite" restart="never" nodeType="tmRoot">
          <p:childTnLst>
            <p:seq>
              <p:cTn id="2361" dur="indefinite" nodeType="mainSeq">
                <p:childTnLst>
                  <p:par>
                    <p:cTn id="2362" fill="hold">
                      <p:stCondLst>
                        <p:cond delay="0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6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36. Short interval training will result in the following chronic changes to fast twitch muscle fib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“whiteness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ntioxidative enzym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triglycerid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5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67" dur="indefinite" restart="never" nodeType="tmRoot">
          <p:childTnLst>
            <p:seq>
              <p:cTn id="2368" dur="indefinite" nodeType="mainSeq">
                <p:childTnLst>
                  <p:par>
                    <p:cTn id="2369" fill="hold">
                      <p:stCondLst>
                        <p:cond delay="0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3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37. Continuous training will result in the following chronic changes to slow twitch muscle fib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 aerobic force capac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ntioxidative enzym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ontraction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use of FFA’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use of FFA’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74" dur="indefinite" restart="never" nodeType="tmRoot">
          <p:childTnLst>
            <p:seq>
              <p:cTn id="2375" dur="indefinite" nodeType="mainSeq">
                <p:childTnLst>
                  <p:par>
                    <p:cTn id="2376" fill="hold">
                      <p:stCondLst>
                        <p:cond delay="0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0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38. Short interval training will result in the following adaptations to lactic acid toleranc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d reliance of glucose as a fu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oxidative enzym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buffering 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d acid-base reg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buffering 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81" dur="indefinite" restart="never" nodeType="tmRoot">
          <p:childTnLst>
            <p:seq>
              <p:cTn id="2382" dur="indefinite" nodeType="mainSeq">
                <p:childTnLst>
                  <p:par>
                    <p:cTn id="2383" fill="hold">
                      <p:stCondLst>
                        <p:cond delay="0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7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39. Training with moderate intensity/loads and high repetitions will generally result in greater change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IB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IA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A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88" dur="indefinite" restart="never" nodeType="tmRoot">
          <p:childTnLst>
            <p:seq>
              <p:cTn id="2389" dur="indefinite" nodeType="mainSeq">
                <p:childTnLst>
                  <p:par>
                    <p:cTn id="2390" fill="hold">
                      <p:stCondLst>
                        <p:cond delay="0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4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4. Aerobic training results in decreases to the systolic blood pressure (except at max effort) due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mproved elasticity of blood vess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LDL’s and reducing plaque build up on the inside of blood vess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ciprocal increases in diastolic blood press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mproved elasticity of blood vess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40. Massage assists recovery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ing blood flow to the massaged area(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amount of oxygen transported to vital orga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rate of waste removal from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massaged area(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rate of waste removal from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massaged area(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95" dur="indefinite" restart="never" nodeType="tmRoot">
          <p:childTnLst>
            <p:seq>
              <p:cTn id="2396" dur="indefinite" nodeType="mainSeq">
                <p:childTnLst>
                  <p:par>
                    <p:cTn id="2397" fill="hold">
                      <p:stCondLst>
                        <p:cond delay="0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1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41. The most effective way of preventing overtraining i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Keep a training dia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y to remember everything undertaken during a week of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“Listen” to what your body is saying to you by the way it fe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mploy a personal train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TextBox 8"/>
          <p:cNvSpPr/>
          <p:nvPr/>
        </p:nvSpPr>
        <p:spPr>
          <a:xfrm>
            <a:off x="64296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Keep a training dia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02" dur="indefinite" restart="never" nodeType="tmRoot">
          <p:childTnLst>
            <p:seq>
              <p:cTn id="2403" dur="indefinite" nodeType="mainSeq">
                <p:childTnLst>
                  <p:par>
                    <p:cTn id="2404" fill="hold">
                      <p:stCondLst>
                        <p:cond delay="0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8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42. Injury risk management systems inclu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gular playing equipment check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e-game examination of playing fiel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Keeping a safe distance between players and spectato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7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09" dur="indefinite" restart="never" nodeType="tmRoot">
          <p:childTnLst>
            <p:seq>
              <p:cTn id="2410" dur="indefinite" nodeType="mainSeq">
                <p:childTnLst>
                  <p:par>
                    <p:cTn id="2411" fill="hold">
                      <p:stCondLst>
                        <p:cond delay="0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5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43. Coaches might contribute to risks associated with the team they are training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couraging players to play with “niggling injuries” for the benefit of the te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suring first aid kits are available at every training ses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listing the support of non paid qualified staf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Encouraging players to play with “niggling injuries” for the benefit of the te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16" dur="indefinite" restart="never" nodeType="tmRoot">
          <p:childTnLst>
            <p:seq>
              <p:cTn id="2417" dur="indefinite" nodeType="mainSeq">
                <p:childTnLst>
                  <p:par>
                    <p:cTn id="2418" fill="hold">
                      <p:stCondLst>
                        <p:cond delay="0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2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44. Risk management procedures extend beyond team management to facilities and equipment. The following must be taken into consideration in this are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correct ratio of medical staff to players in the te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yers are kept up to date with latest injury prevention tre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suring coaches regularly “upskill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23" dur="indefinite" restart="never" nodeType="tmRoot">
          <p:childTnLst>
            <p:seq>
              <p:cTn id="2424" dur="indefinite" nodeType="mainSeq">
                <p:childTnLst>
                  <p:par>
                    <p:cTn id="2425" fill="hold">
                      <p:stCondLst>
                        <p:cond delay="0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9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Box 7"/>
          <p:cNvSpPr/>
          <p:nvPr/>
        </p:nvSpPr>
        <p:spPr>
          <a:xfrm>
            <a:off x="857160" y="428760"/>
            <a:ext cx="7500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45. The following is a practical example of how AFL football teams try to prevent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suring players participate in accredited courses so they’ll have a job when they finish play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yers wearing helmets to avoid serious head injuries (similar to NFL footballer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Using new pre-season training methods that have worked with in the USA for NFL footballers but haven’t been trialled he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eater emphasis on strengthening hamstring muscles during training to avoid knee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eater emphasis on strengthening hamstring muscles during training to avoid knee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30" dur="indefinite" restart="never" nodeType="tmRoot">
          <p:childTnLst>
            <p:seq>
              <p:cTn id="2431" dur="indefinite" nodeType="mainSeq">
                <p:childTnLst>
                  <p:par>
                    <p:cTn id="2432" fill="hold">
                      <p:stCondLst>
                        <p:cond delay="0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6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46. The following strategy can assist enhancing performance by building or maintaining confidenc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Using cue words regularly that are spoken to self or called o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“Walking the talk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aking an injury to upset an opponent’s concent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5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Using cue words regularly that are spoken to self or called o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fill="hold">
                      <p:stCondLst>
                        <p:cond delay="0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3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47. The following drink is associated with the slowest rates of absorption and hydratio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Hypo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a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u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44" dur="indefinite" restart="never" nodeType="tmRoot">
          <p:childTnLst>
            <p:seq>
              <p:cTn id="2445" dur="indefinite" nodeType="mainSeq">
                <p:childTnLst>
                  <p:par>
                    <p:cTn id="2446" fill="hold">
                      <p:stCondLst>
                        <p:cond delay="0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0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48. Minerals are important in assisting performance PB’s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ssisting in water loss to help with thermoreg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intaining an acid-base balance to ensure normal cellular fun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dding to the amount of ATP that can be produc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suring the Essential Electrolytic Balance (EEB) is maintain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intaining an acid-base balance to ensure normal cellular fun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51" dur="indefinite" restart="never" nodeType="tmRoot">
          <p:childTnLst>
            <p:seq>
              <p:cTn id="2452" dur="indefinite" nodeType="mainSeq">
                <p:childTnLst>
                  <p:par>
                    <p:cTn id="2453" fill="hold">
                      <p:stCondLst>
                        <p:cond delay="0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7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49. EPO is often taken by endurance athletes despite being banned by WADA, in an effort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 oxygen delivery to mus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 plasma volu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 RBC’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58" dur="indefinite" restart="never" nodeType="tmRoot">
          <p:childTnLst>
            <p:seq>
              <p:cTn id="2459" dur="indefinite" nodeType="mainSeq">
                <p:childTnLst>
                  <p:par>
                    <p:cTn id="2460" fill="hold">
                      <p:stCondLst>
                        <p:cond delay="0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4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5. Aerobic training has the following effect on ventilatory muscle oxygen consumption at the diaphragm &amp; intercostal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mains relatively unchang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50.  An example of a medico-legal issue being raised by athletes taking legal performance enhancers such as painkillers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formers having a neural block that spreads beyond the affected are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formers developing a addiction to the dru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hletes having an allergic reaction to the painkiller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3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65" dur="indefinite" restart="never" nodeType="tmRoot">
          <p:childTnLst>
            <p:seq>
              <p:cTn id="2466" dur="indefinite" nodeType="mainSeq">
                <p:childTnLst>
                  <p:par>
                    <p:cTn id="2467" fill="hold">
                      <p:stCondLst>
                        <p:cond delay="0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51. The best measure of physical activity levels occurring at a Primary School during recess and lunchtime would b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OF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OPL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OWO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OPL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6" name="MacOS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fill="hold">
                      <p:stCondLst>
                        <p:cond delay="0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8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1" fill="hold"/>
                                        <p:tgtEl>
                                          <p:spTgt spid="8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TextBox 7"/>
          <p:cNvSpPr/>
          <p:nvPr/>
        </p:nvSpPr>
        <p:spPr>
          <a:xfrm>
            <a:off x="928800" y="857160"/>
            <a:ext cx="5786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52.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“walking school bus”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s an example of a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chool based set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Multi-facetted strategy involving parents, teachers and stud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Structured strate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Government initiative aimed at increasing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8" name="TextBox 8"/>
          <p:cNvSpPr/>
          <p:nvPr/>
        </p:nvSpPr>
        <p:spPr>
          <a:xfrm>
            <a:off x="971640" y="4508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school based set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82" dur="indefinite" restart="never" nodeType="tmRoot">
          <p:childTnLst>
            <p:seq>
              <p:cTn id="2483" dur="indefinite" nodeType="mainSeq">
                <p:childTnLst>
                  <p:par>
                    <p:cTn id="2484" fill="hold">
                      <p:stCondLst>
                        <p:cond delay="0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8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Box 7"/>
          <p:cNvSpPr/>
          <p:nvPr/>
        </p:nvSpPr>
        <p:spPr>
          <a:xfrm>
            <a:off x="785880" y="100008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53. Anaerobic glycolysis results in the production of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+ 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Quicker ATP than 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TextBox 8"/>
          <p:cNvSpPr/>
          <p:nvPr/>
        </p:nvSpPr>
        <p:spPr>
          <a:xfrm>
            <a:off x="785880" y="464328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89" dur="indefinite" restart="never" nodeType="tmRoot">
          <p:childTnLst>
            <p:seq>
              <p:cTn id="2490" dur="indefinite" nodeType="mainSeq">
                <p:childTnLst>
                  <p:par>
                    <p:cTn id="2491" fill="hold">
                      <p:stCondLst>
                        <p:cond delay="0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5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extBox 7"/>
          <p:cNvSpPr/>
          <p:nvPr/>
        </p:nvSpPr>
        <p:spPr>
          <a:xfrm>
            <a:off x="71424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54. As exercise intensity increases, there is greater contribution fro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yco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a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tei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iglycerides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yco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96" dur="indefinite" restart="never" nodeType="tmRoot">
          <p:childTnLst>
            <p:seq>
              <p:cTn id="2497" dur="indefinite" nodeType="mainSeq">
                <p:childTnLst>
                  <p:par>
                    <p:cTn id="2498" fill="hold">
                      <p:stCondLst>
                        <p:cond delay="0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2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55. Lactic acid removal occurs quicker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n active recovery is conduct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trast bathing is us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 sea level compared to higher altitud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03" dur="indefinite" restart="never" nodeType="tmRoot">
          <p:childTnLst>
            <p:seq>
              <p:cTn id="2504" dur="indefinite" nodeType="mainSeq">
                <p:childTnLst>
                  <p:par>
                    <p:cTn id="2505" fill="hold">
                      <p:stCondLst>
                        <p:cond delay="0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9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56. Protein is not commonly called upon to resynthesize ATP becaus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t requires large amounts of oxygen to be broken dow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t results in “muscle meltdown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t runs out quickl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t requires large amounts of oxygen to be broken dow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10" dur="indefinite" restart="never" nodeType="tmRoot">
          <p:childTnLst>
            <p:seq>
              <p:cTn id="2511" dur="indefinite" nodeType="mainSeq">
                <p:childTnLst>
                  <p:par>
                    <p:cTn id="2512" fill="hold">
                      <p:stCondLst>
                        <p:cond delay="0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6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57. Fatigue is caused by many factors, but the predominant one in a 100m sprint lasting  9.7 seconds would b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ctic acid build u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ycogen phosphory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hosphocreatine deple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distribution of blood to skin surfa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hosphocreatine deple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17" dur="indefinite" restart="never" nodeType="tmRoot">
          <p:childTnLst>
            <p:seq>
              <p:cTn id="2518" dur="indefinite" nodeType="mainSeq">
                <p:childTnLst>
                  <p:par>
                    <p:cTn id="2519" fill="hold">
                      <p:stCondLst>
                        <p:cond delay="0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3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58. During dehydratio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lood plasma levels dro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art rate in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ess oxygen travels to working mus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24" dur="indefinite" restart="never" nodeType="tmRoot">
          <p:childTnLst>
            <p:seq>
              <p:cTn id="2525" dur="indefinite" nodeType="mainSeq">
                <p:childTnLst>
                  <p:par>
                    <p:cTn id="2526" fill="hold">
                      <p:stCondLst>
                        <p:cond delay="0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0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59. Following endurance training, glycogen restoration can be accelerated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suming low GI foods within the first 30 – 45 minutes during recove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suming high GI foods within the first 30 – 45 minutes during recove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suming 100g carbohydrate for each kilogram of body ma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TextBox 8"/>
          <p:cNvSpPr/>
          <p:nvPr/>
        </p:nvSpPr>
        <p:spPr>
          <a:xfrm>
            <a:off x="71424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suming high GI foods within the first 30 – 45 minutes during recove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31" dur="indefinite" restart="never" nodeType="tmRoot">
          <p:childTnLst>
            <p:seq>
              <p:cTn id="2532" dur="indefinite" nodeType="mainSeq">
                <p:childTnLst>
                  <p:par>
                    <p:cTn id="2533" fill="hold">
                      <p:stCondLst>
                        <p:cond delay="0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7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6. Short interval training will result in the following chronic changes to fast twitch muscle fib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“whiteness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ntioxidative enzym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ontraction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triglycerid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ontraction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60. Local muscular endurance is best exemplified in the following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Y 11 student completing 35 push ups in 6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Y11 student doing 3 x 100m sprints every 2 minu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Y12 student doing 125 push ups without stopp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Y12 student completing the 60 second push up test after feeling tired in the arms after 35 second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4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Y12 student continuing in the 60 second push up test after feeling tired in the arms after 35 second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38" dur="indefinite" restart="never" nodeType="tmRoot">
          <p:childTnLst>
            <p:seq>
              <p:cTn id="2539" dur="indefinite" nodeType="mainSeq">
                <p:childTnLst>
                  <p:par>
                    <p:cTn id="2540" fill="hold">
                      <p:stCondLst>
                        <p:cond delay="0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4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61.The “Cybex” system is an example of an isokinetic dynamometer that can be used to assess muscle weaknesses at any point in a range of motion. It is also used to measu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uscular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uscular Endur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uscular Strengt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uscular fatigu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6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uscular Strengt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45" dur="indefinite" restart="never" nodeType="tmRoot">
          <p:childTnLst>
            <p:seq>
              <p:cTn id="2546" dur="indefinite" nodeType="mainSeq">
                <p:childTnLst>
                  <p:par>
                    <p:cTn id="2547" fill="hold">
                      <p:stCondLst>
                        <p:cond delay="0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1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62. The following is an example of a low stress / low impact plyometric exercis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kipping without a rop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ap push up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iple jump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uck jump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kipping without a rop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52" dur="indefinite" restart="never" nodeType="tmRoot">
          <p:childTnLst>
            <p:seq>
              <p:cTn id="2553" dur="indefinite" nodeType="mainSeq">
                <p:childTnLst>
                  <p:par>
                    <p:cTn id="2554" fill="hold">
                      <p:stCondLst>
                        <p:cond delay="0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8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63. Which one of the following interval sprints would best train the lactic acid system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8 x 50m sprints every 30 seconds (max intensity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8 x 30m sprints every 50 seconds (85% max intensity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 x 80m sprints every 180 seconds (max intensity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 x 80m sprints every 180 seconds (85% max intensity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8 x 50m sprints every 3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59" dur="indefinite" restart="never" nodeType="tmRoot">
          <p:childTnLst>
            <p:seq>
              <p:cTn id="2560" dur="indefinite" nodeType="mainSeq">
                <p:childTnLst>
                  <p:par>
                    <p:cTn id="2561" fill="hold">
                      <p:stCondLst>
                        <p:cond delay="0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5" dur="2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Box 7"/>
          <p:cNvSpPr/>
          <p:nvPr/>
        </p:nvSpPr>
        <p:spPr>
          <a:xfrm>
            <a:off x="857160" y="428760"/>
            <a:ext cx="8107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64. Long distance athletes are able to train more frequently than power athletes becaus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re catabolic processes are in pla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re anabolic processes are in pla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: Less loads are placed on body systems and hence quicker recovery is possi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ess build up of metabolic by-produ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2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: Less loads are placed on body systems and hence quicker recovery is possi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2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65.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n Olympic gymnast would be able to develop the greatest flexibility by using the following type of stretching: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N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llist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4" name="TextBox 8"/>
          <p:cNvSpPr/>
          <p:nvPr/>
        </p:nvSpPr>
        <p:spPr>
          <a:xfrm>
            <a:off x="785880" y="4857840"/>
            <a:ext cx="764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llist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73" dur="indefinite" restart="never" nodeType="tmRoot">
          <p:childTnLst>
            <p:seq>
              <p:cTn id="2574" dur="indefinite" nodeType="mainSeq">
                <p:childTnLst>
                  <p:par>
                    <p:cTn id="2575" fill="hold">
                      <p:stCondLst>
                        <p:cond delay="0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9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66. Following 2 years of aerobic training, the following respiratory adaptation would be eviden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d alveolar volume (AV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lveolar surface are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d resting heart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stroke volume (SV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lveolar surface are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80" dur="indefinite" restart="never" nodeType="tmRoot">
          <p:childTnLst>
            <p:seq>
              <p:cTn id="2581" dur="indefinite" nodeType="mainSeq">
                <p:childTnLst>
                  <p:par>
                    <p:cTn id="2582" fill="hold">
                      <p:stCondLst>
                        <p:cond delay="0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6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67. Plyometric training conducted over an 18 month period will result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size and strength of connective tissu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motor unit recruitment at maximal effor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nerve-impulse transmis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87" dur="indefinite" restart="never" nodeType="tmRoot">
          <p:childTnLst>
            <p:seq>
              <p:cTn id="2588" dur="indefinite" nodeType="mainSeq">
                <p:childTnLst>
                  <p:par>
                    <p:cTn id="2589" fill="hold">
                      <p:stCondLst>
                        <p:cond delay="0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3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68. The law of diminishing returns is helpful in explaining the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apid gain in fitness components at the start of a training progr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ay elite athletes find it difficult to experience large performance gains after years of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diminishing during recove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0" name="TextBox 8"/>
          <p:cNvSpPr/>
          <p:nvPr/>
        </p:nvSpPr>
        <p:spPr>
          <a:xfrm>
            <a:off x="785880" y="4857840"/>
            <a:ext cx="764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Way elite athletes find it difficult to experience large performance gains after years of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94" dur="indefinite" restart="never" nodeType="tmRoot">
          <p:childTnLst>
            <p:seq>
              <p:cTn id="2595" dur="indefinite" nodeType="mainSeq">
                <p:childTnLst>
                  <p:par>
                    <p:cTn id="2596" fill="hold">
                      <p:stCondLst>
                        <p:cond delay="0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0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69. Short interval training will result in the following fast twitch fibre adaptations following 2 years of training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myoglobi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apillar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PC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PC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01" dur="indefinite" restart="never" nodeType="tmRoot">
          <p:childTnLst>
            <p:seq>
              <p:cTn id="2602" dur="indefinite" nodeType="mainSeq">
                <p:childTnLst>
                  <p:par>
                    <p:cTn id="2603" fill="hold">
                      <p:stCondLst>
                        <p:cond delay="0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7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7. Continuous training will result in the following chronic changes to slow twitch muscle fib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 aerobic force capac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ntioxidative enzym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ontraction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triglycerid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triglycerid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Box 7"/>
          <p:cNvSpPr/>
          <p:nvPr/>
        </p:nvSpPr>
        <p:spPr>
          <a:xfrm>
            <a:off x="857160" y="4287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70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08" dur="indefinite" restart="never" nodeType="tmRoot">
          <p:childTnLst>
            <p:seq>
              <p:cTn id="2609" dur="indefinite" nodeType="mainSeq">
                <p:childTnLst>
                  <p:par>
                    <p:cTn id="2610" fill="hold">
                      <p:stCondLst>
                        <p:cond delay="0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4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71. Overtraining is characterised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somn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resting heart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d motivation lev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15" dur="indefinite" restart="never" nodeType="tmRoot">
          <p:childTnLst>
            <p:seq>
              <p:cTn id="2616" dur="indefinite" nodeType="mainSeq">
                <p:childTnLst>
                  <p:par>
                    <p:cTn id="2617" fill="hold">
                      <p:stCondLst>
                        <p:cond delay="0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72. An active recovery is best recommended following 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00m spri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00m sw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drotherapy ses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yometric ses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00m sw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22" dur="indefinite" restart="never" nodeType="tmRoot">
          <p:childTnLst>
            <p:seq>
              <p:cTn id="2623" dur="indefinite" nodeType="mainSeq">
                <p:childTnLst>
                  <p:par>
                    <p:cTn id="2624" fill="hold">
                      <p:stCondLst>
                        <p:cond delay="0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8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73. The oxygen debt can be increased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forming an active recove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Using a hyperbaric chamb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venous pool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forming an active recove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29" dur="indefinite" restart="never" nodeType="tmRoot">
          <p:childTnLst>
            <p:seq>
              <p:cTn id="2630" dur="indefinite" nodeType="mainSeq">
                <p:childTnLst>
                  <p:par>
                    <p:cTn id="2631" fill="hold">
                      <p:stCondLst>
                        <p:cond delay="0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5" dur="2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74. Osteitis pubis is an overuse injury that is occurring with greater frequency amongst AFL players. The risk of this side-lining players could be minimised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iod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earing footwear that is appropriate to ground “hardness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player pain threshol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earing footwear that is appropriate to ground “hardness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36" dur="indefinite" restart="never" nodeType="tmRoot">
          <p:childTnLst>
            <p:seq>
              <p:cTn id="2637" dur="indefinite" nodeType="mainSeq">
                <p:childTnLst>
                  <p:par>
                    <p:cTn id="2638" fill="hold">
                      <p:stCondLst>
                        <p:cond delay="0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2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75. Caffeine is taken by many athletes in an effort to improve their performance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actin-myosin overla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timulating release of noradrena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bilising fat for use instead of glyco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laying dehyd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bilising fat for use instead of glyco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43" dur="indefinite" restart="never" nodeType="tmRoot">
          <p:childTnLst>
            <p:seq>
              <p:cTn id="2644" dur="indefinite" nodeType="mainSeq">
                <p:childTnLst>
                  <p:par>
                    <p:cTn id="2645" fill="hold">
                      <p:stCondLst>
                        <p:cond delay="0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9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 startAt="37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Risk management strategies are likely to inclu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 startAt="37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: The different age levels of athle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B: Players voluntarily wearing mouth guards during training sess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C: Administrators taking out public liability insur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: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The different age levels of athle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50" dur="indefinite" restart="never" nodeType="tmRoot">
          <p:childTnLst>
            <p:seq>
              <p:cTn id="2651" dur="indefinite" nodeType="mainSeq">
                <p:childTnLst>
                  <p:par>
                    <p:cTn id="2652" fill="hold">
                      <p:stCondLst>
                        <p:cond delay="0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6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77. Fitness testing is used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dentify player strengths and weaknes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nitor training progr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tivate play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57" dur="indefinite" restart="never" nodeType="tmRoot">
          <p:childTnLst>
            <p:seq>
              <p:cTn id="2658" dur="indefinite" nodeType="mainSeq">
                <p:childTnLst>
                  <p:par>
                    <p:cTn id="2659" fill="hold">
                      <p:stCondLst>
                        <p:cond delay="0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3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78. The most specific fitness test available to assess the aerobic capacity of 3000 m  runner would be the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eep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oper’s 12 minute r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rvard Step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ycle ergometer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oper’s 12 minute r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64" dur="indefinite" restart="never" nodeType="tmRoot">
          <p:childTnLst>
            <p:seq>
              <p:cTn id="2665" dur="indefinite" nodeType="mainSeq">
                <p:childTnLst>
                  <p:par>
                    <p:cTn id="2666" fill="hold">
                      <p:stCondLst>
                        <p:cond delay="0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0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79. The following is not an example of an arousal promotion techniqu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levated breathing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iofeedbac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ergising image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isuo-motor behaviour rehears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iofeedbac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71" dur="indefinite" restart="never" nodeType="tmRoot">
          <p:childTnLst>
            <p:seq>
              <p:cTn id="2672" dur="indefinite" nodeType="mainSeq">
                <p:childTnLst>
                  <p:par>
                    <p:cTn id="2673" fill="hold">
                      <p:stCondLst>
                        <p:cond delay="0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7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8. Short interval training will result in the following adaptations to lactic acid toleranc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d reliance of glucose as a fu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oxidative enzym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d buffering 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cid-base reg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cid-base reg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 startAt="38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Exogenous creatine monohydrat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: Increases intramuscular P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B: Decreases muscle p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C: Increases glycogen depend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D: Decreases ATP reli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Increases intramuscular P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78" dur="indefinite" restart="never" nodeType="tmRoot">
          <p:childTnLst>
            <p:seq>
              <p:cTn id="2679" dur="indefinite" nodeType="mainSeq">
                <p:childTnLst>
                  <p:par>
                    <p:cTn id="2680" fill="hold">
                      <p:stCondLst>
                        <p:cond delay="0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4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 startAt="38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Oxygen deficit occurs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: Whenever oxygen demand is greater than oxy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B: Only at the start of exerci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C: During recovery as oxygen  consumption returns to pre-exercise lev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D: When athletes train at high altitu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TextBox 8"/>
          <p:cNvSpPr/>
          <p:nvPr/>
        </p:nvSpPr>
        <p:spPr>
          <a:xfrm>
            <a:off x="785880" y="4857840"/>
            <a:ext cx="764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Whenever oxygen demand is greater than oxy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85" dur="indefinite" restart="never" nodeType="tmRoot">
          <p:childTnLst>
            <p:seq>
              <p:cTn id="2686" dur="indefinite" nodeType="mainSeq">
                <p:childTnLst>
                  <p:par>
                    <p:cTn id="2687" fill="hold">
                      <p:stCondLst>
                        <p:cond delay="0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19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82. The following is an objective measure of physical activit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lf-repo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irect observ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OPL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PS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8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PS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92" dur="indefinite" restart="never" nodeType="tmRoot">
          <p:childTnLst>
            <p:seq>
              <p:cTn id="2693" dur="indefinite" nodeType="mainSeq">
                <p:childTnLst>
                  <p:par>
                    <p:cTn id="2694" fill="hold">
                      <p:stCondLst>
                        <p:cond delay="0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8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83. The following platform is effective in changing the physical activity levels of large population group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minder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pulation programm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ss med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ocial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gramm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ss med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99" dur="indefinite" restart="never" nodeType="tmRoot">
          <p:childTnLst>
            <p:seq>
              <p:cTn id="2700" dur="indefinite" nodeType="mainSeq">
                <p:childTnLst>
                  <p:par>
                    <p:cTn id="2701" fill="hold">
                      <p:stCondLst>
                        <p:cond delay="0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5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 startAt="38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The following population groups are most at risk of not meeting the national physical activity guidelin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: People with disabil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B: Racial major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C: People above 65 years of 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2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People with disabil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06" dur="indefinite" restart="never" nodeType="tmRoot">
          <p:childTnLst>
            <p:seq>
              <p:cTn id="2707" dur="indefinite" nodeType="mainSeq">
                <p:childTnLst>
                  <p:par>
                    <p:cTn id="2708" fill="hold">
                      <p:stCondLst>
                        <p:cond delay="0"/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 startAt="38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chools provide the strongest setting to change physical activity behaviours becaus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 startAt="38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: Social influences can be structured during leisure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B: Students generally have good access to facil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C: Activities can be incorporated into the curriculu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4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13" dur="indefinite" restart="never" nodeType="tmRoot">
          <p:childTnLst>
            <p:seq>
              <p:cTn id="2714" dur="indefinite" nodeType="mainSeq">
                <p:childTnLst>
                  <p:par>
                    <p:cTn id="2715" fill="hold">
                      <p:stCondLst>
                        <p:cond delay="0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9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86. The aerobic energy system has the greatest energ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hophorylatio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figuratio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Yield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Yiel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20" dur="indefinite" restart="never" nodeType="tmRoot">
          <p:childTnLst>
            <p:seq>
              <p:cTn id="2721" dur="indefinite" nodeType="mainSeq">
                <p:childTnLst>
                  <p:par>
                    <p:cTn id="2722" fill="hold">
                      <p:stCondLst>
                        <p:cond delay="0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6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87. During EPOC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demand exceeds oxygen suppl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transfuses into th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supply equals oxygen demand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27" dur="indefinite" restart="never" nodeType="tmRoot">
          <p:childTnLst>
            <p:seq>
              <p:cTn id="2728" dur="indefinite" nodeType="mainSeq">
                <p:childTnLst>
                  <p:par>
                    <p:cTn id="2729" fill="hold">
                      <p:stCondLst>
                        <p:cond delay="0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3" dur="2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88. Analysis based on digital recording and statistical data is often the most effective because i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s the most cost-effective measure availa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s objec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s two systems operating and if one fails the other is still O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n be reviewed, stored and referred to in the fu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t can be reviewed, stored and referred to in the fu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34" dur="indefinite" restart="never" nodeType="tmRoot">
          <p:childTnLst>
            <p:seq>
              <p:cTn id="2735" dur="indefinite" nodeType="mainSeq">
                <p:childTnLst>
                  <p:par>
                    <p:cTn id="2736" fill="hold">
                      <p:stCondLst>
                        <p:cond delay="0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0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 startAt="38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The running based anaerobic sprint test (RAST)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: Provides athletes and coaches with measurements of power and a fatigue inde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B: Assesses the body’s ability to replenish PC in between each repeti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C: Is expensive because it needs specialist supervi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D: Is not appropriate for small field players such as badminton and  squas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Provides athletes and coaches with measurements of anaerobic power and a fatigue inde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41" dur="indefinite" restart="never" nodeType="tmRoot">
          <p:childTnLst>
            <p:seq>
              <p:cTn id="2742" dur="indefinite" nodeType="mainSeq">
                <p:childTnLst>
                  <p:par>
                    <p:cTn id="2743" fill="hold">
                      <p:stCondLst>
                        <p:cond delay="0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7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9. Training with high intensity/loads and low repetitions will generally result in greater changes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IB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IA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A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Type IIB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TextBox 7"/>
          <p:cNvSpPr/>
          <p:nvPr/>
        </p:nvSpPr>
        <p:spPr>
          <a:xfrm>
            <a:off x="857160" y="428760"/>
            <a:ext cx="7962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90. The main purpose of measuring physical activity at the population level is to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valuate the effectiveness of large scale physical activity intervention program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dentify the biological, sociological, psychological and environmental factors that influence physical activity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tudy the relationship between physical activity and health condition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4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48" dur="indefinite" restart="never" nodeType="tmRoot">
          <p:childTnLst>
            <p:seq>
              <p:cTn id="2749" dur="indefinite" nodeType="mainSeq">
                <p:childTnLst>
                  <p:par>
                    <p:cTn id="2750" fill="hold">
                      <p:stCondLst>
                        <p:cond delay="0"/>
                      </p:stCondLst>
                      <p:childTnLst>
                        <p:par>
                          <p:cTn id="2751" fill="hold">
                            <p:stCondLst>
                              <p:cond delay="0"/>
                            </p:stCondLst>
                            <p:childTnLst>
                              <p:par>
                                <p:cTn id="275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4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91. Which of the following statements is INCORRECT?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T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re is approximately ten times as much PC stored at the muscles as there is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TP-PC system is anaerobic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lactic acid system is anaerobic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uring maximal exercise the rate of glycolysis can increase up to 100 times the rate experienced during r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6" name="TextBox 8"/>
          <p:cNvSpPr/>
          <p:nvPr/>
        </p:nvSpPr>
        <p:spPr>
          <a:xfrm>
            <a:off x="64296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re is approximately ten times as much PC stored at the muscles as there is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55" dur="indefinite" restart="never" nodeType="tmRoot">
          <p:childTnLst>
            <p:seq>
              <p:cTn id="2756" dur="indefinite" nodeType="mainSeq">
                <p:childTnLst>
                  <p:par>
                    <p:cTn id="2757" fill="hold">
                      <p:stCondLst>
                        <p:cond delay="0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1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92. The oxygen debt can be divided into two parts that occur simultaneously. The first rapid part is primarily involved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verting lactic acid into glycogen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Restoring PC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moving H+ ion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B: Restoring P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62" dur="indefinite" restart="never" nodeType="tmRoot">
          <p:childTnLst>
            <p:seq>
              <p:cTn id="2763" dur="indefinite" nodeType="mainSeq">
                <p:childTnLst>
                  <p:par>
                    <p:cTn id="2764" fill="hold">
                      <p:stCondLst>
                        <p:cond delay="0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8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93. The most specific type of circuit training is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Individual lo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ixed load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ixed load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dividual mixed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Individual lo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69" dur="indefinite" restart="never" nodeType="tmRoot">
          <p:childTnLst>
            <p:seq>
              <p:cTn id="2770" dur="indefinite" nodeType="mainSeq">
                <p:childTnLst>
                  <p:par>
                    <p:cTn id="2771" fill="hold">
                      <p:stCondLst>
                        <p:cond delay="0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5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94. Overload should only be applied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e-determined ti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hen directed by a coa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hen adaptations have occurred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hen adaptations have occurred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76" dur="indefinite" restart="never" nodeType="tmRoot">
          <p:childTnLst>
            <p:seq>
              <p:cTn id="2777" dur="indefinite" nodeType="mainSeq">
                <p:childTnLst>
                  <p:par>
                    <p:cTn id="2778" fill="hold">
                      <p:stCondLst>
                        <p:cond delay="0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2" dur="2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TextBox 7"/>
          <p:cNvSpPr/>
          <p:nvPr/>
        </p:nvSpPr>
        <p:spPr>
          <a:xfrm>
            <a:off x="857160" y="4287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95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eater emphasis on strengthening hamstring muscles during training to avoid knee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83" dur="indefinite" restart="never" nodeType="tmRoot">
          <p:childTnLst>
            <p:seq>
              <p:cTn id="2784" dur="indefinite" nodeType="mainSeq">
                <p:childTnLst>
                  <p:par>
                    <p:cTn id="2785" fill="hold">
                      <p:stCondLst>
                        <p:cond delay="0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9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Box 7"/>
          <p:cNvSpPr/>
          <p:nvPr/>
        </p:nvSpPr>
        <p:spPr>
          <a:xfrm>
            <a:off x="857160" y="4287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96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lf-talk using cue words that are instruction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90" dur="indefinite" restart="never" nodeType="tmRoot">
          <p:childTnLst>
            <p:seq>
              <p:cTn id="2791" dur="indefinite" nodeType="mainSeq">
                <p:childTnLst>
                  <p:par>
                    <p:cTn id="2792" fill="hold">
                      <p:stCondLst>
                        <p:cond delay="0"/>
                      </p:stCondLst>
                      <p:childTnLst>
                        <p:par>
                          <p:cTn id="2793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6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TextBox 7"/>
          <p:cNvSpPr/>
          <p:nvPr/>
        </p:nvSpPr>
        <p:spPr>
          <a:xfrm>
            <a:off x="857160" y="4287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97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o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97" dur="indefinite" restart="never" nodeType="tmRoot">
          <p:childTnLst>
            <p:seq>
              <p:cTn id="2798" dur="indefinite" nodeType="mainSeq">
                <p:childTnLst>
                  <p:par>
                    <p:cTn id="2799" fill="hold">
                      <p:stCondLst>
                        <p:cond delay="0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3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7"/>
          <p:cNvSpPr/>
          <p:nvPr/>
        </p:nvSpPr>
        <p:spPr>
          <a:xfrm>
            <a:off x="857160" y="4287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98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intaining an acid-base balance to ensure normal cellular fun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04" dur="indefinite" restart="never" nodeType="tmRoot">
          <p:childTnLst>
            <p:seq>
              <p:cTn id="2805" dur="indefinite" nodeType="mainSeq">
                <p:childTnLst>
                  <p:par>
                    <p:cTn id="2806" fill="hold">
                      <p:stCondLst>
                        <p:cond delay="0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0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TextBox 7"/>
          <p:cNvSpPr/>
          <p:nvPr/>
        </p:nvSpPr>
        <p:spPr>
          <a:xfrm>
            <a:off x="857160" y="4287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99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ten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11" dur="indefinite" restart="never" nodeType="tmRoot">
          <p:childTnLst>
            <p:seq>
              <p:cTn id="2812" dur="indefinite" nodeType="mainSeq">
                <p:childTnLst>
                  <p:par>
                    <p:cTn id="2813" fill="hold">
                      <p:stCondLst>
                        <p:cond delay="0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7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7"/>
          <p:cNvSpPr/>
          <p:nvPr/>
        </p:nvSpPr>
        <p:spPr>
          <a:xfrm>
            <a:off x="714240" y="42876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4. For overweight and obese individuals, to prevent weight regain once weight is los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0-60 minutes of physical activity is recommended on at least 5 days per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60-90 minutes of physical activity is recommended on at least 5 days per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60-90 minutes of physical activity is recommended per day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0-60 minutes of physical activity is recommended per d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60-90 minutes of physical activity is recommended per d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40. Massage assists recovery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blood flow to the massaged area(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amount of oxygen transported to the massaged area(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rate of waste removal from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massaged area(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 startAt="4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drogen ions (H+)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 startAt="4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: Formulate the actin and myosin cross bridges  during contrac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B: Accelerate ATP resynthe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C: Disrupt glycolytic enzymes and slow the breakdown of glyco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 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5" name="MacOS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8" dur="indefinite" restart="never" nodeType="tmRoot">
          <p:childTnLst>
            <p:seq>
              <p:cTn id="2819" dur="indefinite" nodeType="mainSeq">
                <p:childTnLst>
                  <p:par>
                    <p:cTn id="2820" fill="hold">
                      <p:stCondLst>
                        <p:cond delay="0"/>
                      </p:stCondLst>
                      <p:childTnLst>
                        <p:par>
                          <p:cTn id="2821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4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7" dur="1" fill="hold"/>
                                        <p:tgtEl>
                                          <p:spTgt spid="9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41. The most effective way of monitoring training responses i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Keep a training 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y to remember everything undertaken during a week of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“Listen” to what your body is saying to you by the way it fe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64296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Keep a training 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42. Risk management includ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isk Identifi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isk Redu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isk Avoid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43. Coaches might contribute to risks associated with the team they are training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couraging players to play with “niggling injuries” for the benefit of the te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suring first aid kits are available at every training ses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listing the support of non paid qualified staf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Encouraging players to play with “niggling injuries” for the benefit of the te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44. Risk management procedures extend beyond team management to facilities and equipment. The following must be taken into consideration in this are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tective equipment and barri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quipment c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Hygie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7"/>
          <p:cNvSpPr/>
          <p:nvPr/>
        </p:nvSpPr>
        <p:spPr>
          <a:xfrm>
            <a:off x="857160" y="428760"/>
            <a:ext cx="7500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45. The following is a practical example of how AFL football teams try to prevent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suring players participate in accredited courses so they’ll have a job when they finish play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eater emphasis on strengthening hamstring muscles during training to avoid knee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Using new pre-season training methods that have worked with in the USA for NFL footballers but haven’t been trialled he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yers wearing helmets to avoid serious head injuries (similar to NFL footballer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eater emphasis on strengthening hamstring muscles during training to avoid knee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46. The following strategy can assist enhancing performance by building or maintaining confidenc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lf-talk using cue words that are instruction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“Walking the talk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aking an injury to upset an opponent’s concent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lf-talk using cue words that are instruction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47. The following drink allows quickest absorption and hydratio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Hypo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a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u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o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48. Minerals are important in assisting performance PB’s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ssisting in water loss to help with thermoreg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intaining an acid-base balance to ensure normal cellular fun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dding to the amount of ATP that can be produc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suring the Essential Electrolytic Balance (EEB) is maintain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intaining an acid-base balance to ensure normal cellular fun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49. EPO is often taken by endurance athletes despite being banned by WADA. Side-effects inclu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oten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ten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ten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5. Stage 6 of the “Stages of Change” model is known as the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Termination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stage which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ows participants to temporarily “drop out” of physical activity for a period of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es performers involved in regular physical activity for a period of more than 5 yea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n only be experienced when Stage 5 has been met for at least 6 month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es performers involved in regular physical activity for a period of more than 5 yea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50.  An example of a medico-legal issue being raised by athletes taking legal performance enhancers such as creatine monohydrate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hletes suffering an allergic reaction to the sub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hletes being admitted to hospit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hletes suing the administrative body for a “botched up” Series A samp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hletes suffering an allergic reaction to the sub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7"/>
          <p:cNvSpPr/>
          <p:nvPr/>
        </p:nvSpPr>
        <p:spPr>
          <a:xfrm>
            <a:off x="857160" y="428760"/>
            <a:ext cx="803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51. In terms of the physical activity pyramid, lifetime physical activities should have the following  Frequency (F); Intensity (I) and Time/Duration (T)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 = most days of the week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I = Moderate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 = 30 minutes minimu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 = 3-4 days of the week   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 = Moderate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 = 30 minutes minimu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 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 = most days of the week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 = Vigorous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 = 60 minutes minimu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 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 = 3-4  days of the week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 =  Vigorous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 = 30 minutes minimu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 = most days of the week  I = Moderate  T = 30 minutes minimu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MacOS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2000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7"/>
          <p:cNvSpPr/>
          <p:nvPr/>
        </p:nvSpPr>
        <p:spPr>
          <a:xfrm>
            <a:off x="928800" y="857160"/>
            <a:ext cx="5786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52. The most consistent predictor of children’s physical activity levels, according to the CLASS study, is the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mount of encouragement provided by par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mount of time spent outdoo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educational attainment of par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socio-economic status of their famil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Box 8"/>
          <p:cNvSpPr/>
          <p:nvPr/>
        </p:nvSpPr>
        <p:spPr>
          <a:xfrm>
            <a:off x="1000080" y="4429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mount of time spent outdoo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7"/>
          <p:cNvSpPr/>
          <p:nvPr/>
        </p:nvSpPr>
        <p:spPr>
          <a:xfrm>
            <a:off x="785880" y="1000080"/>
            <a:ext cx="796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53. According to the National Physical Activity Guidelin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dults should engage in more physical activity than childr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ildren should engage in twice as much physical activity as adul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dults should engage in at least 2 hours of electronic media for entertain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ildren should engage in at least 2 hours of electronic media for entertain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Box 8"/>
          <p:cNvSpPr/>
          <p:nvPr/>
        </p:nvSpPr>
        <p:spPr>
          <a:xfrm>
            <a:off x="785880" y="464328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ildren should engage in twice as much physical activity as adul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7"/>
          <p:cNvSpPr/>
          <p:nvPr/>
        </p:nvSpPr>
        <p:spPr>
          <a:xfrm>
            <a:off x="71424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54. Effective interventions target changes in the following four dimension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terpersonal, workplace, social &amp; polic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trapersonal, social, physical environment &amp; polic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PPI (Social, Political, Personal and Industrial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trapersonal, social, physical environment &amp; polic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55. The following is an example of a cognitive strategy to bring about chang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prehending personal benefits of being physically ac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viding rewards for being physically ac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listing social suppo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prehending personal benefits of being physically activ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56. Stage 2 of the “Stages of Change” model is also known a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epa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temp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elap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temp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57. Self-efficacy can best be described a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eeling confident you can participate in activities under certain circumstan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eing able to speak in front of a group of peop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Knowing you have the potential to do something better than what you currently 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ever giving up easil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eeling confident you can participate in activities under certain circumstan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58. The most effective school based setting physical activity promoting strategi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e Department of Education printed material outlining physical activity benefi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mote increased physical activity during breaks, and especially lunch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ffer before and after school sporting progr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59. A benefit associated with having a physically active group of office workers inclu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duced absenteeis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produ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duced staff turnov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Box 8"/>
          <p:cNvSpPr/>
          <p:nvPr/>
        </p:nvSpPr>
        <p:spPr>
          <a:xfrm>
            <a:off x="71424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6. The following is an example of a “constructed environment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skate park next to a sch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statue in the local mal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ving to replace footpath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A skate park next to a sch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60. At rest, most of our energy comes fro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a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rbohydra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tei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combination of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a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61. The ATP-PC system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Anaerob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Quick to supply ener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mited by the amount of available phosphocreat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62. The energy system interplay is best described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released from the ATP-PC system, then the LA system and lastly the aerobic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released from all 3 energy systems, but one contributing more than the other two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three energy systems are used during play rather than r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three energy systems collectively supply  ATP to working muscles in a sequential patter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released from all 3 energy systems, but one contributing more than the other two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63. Once the lactate threshold is exceeded, the following occurs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LA system becomes the major energy suppli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PC system is able to replenish energy stores now that it is not being used and “rested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st ATP resynthesis occurs as a result of an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n active recovery should commence immediatel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 Most ATP resynthesis occurs as a result of an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64. Steady state occurs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consumption reaches a maximum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Cori cycle starts to break down built up lactic acid and convert it to glycogen to be reus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heart and lungs have had sufficient time to supply working muscles with oxy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supply is equal to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supply is equal to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65. The most likely cause of fatigue for a 100m sprinter (athletics)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C deple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owered muscle P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ccumulation of iron(s) – Fe, Ph, Al, et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ctic Acid accum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C deple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66. Following a 10 second interval sprint (max intensity) how long would it take to replenish fuel stores used in the work period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0 seconds (1: 1 work : rest ratio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8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4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0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18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67. Males exhibit greater muscular strength than females due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eater participation in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ing more unipennate mus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ing a higher percentage of fast-twitch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ross sectional are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ross sectional are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68. Anaerobic power is a measure of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PC system’s ability to produce ener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LA system’s ability to produce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bility of the anaerobic systems to provide energy via their pathway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bility of the anaerobic systems to provide energy via their pathway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69. The most important fitness component for a 1,500m swimmer performing a tumble turn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action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g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Bal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erobic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g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7. The mass media promotes involvement in physical activity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interest in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viding information about the consequences of in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viding information about the psychological benefits of being ac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70. The purpose of conducting a games analysis i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ork out the important fitness compon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sider the interplay of energy systems during the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ide on how to best prepare / train for the actual g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71. The most appropriate fitness tests on offer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lia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Val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leva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72. The most specific test to assess the agility of a tennis player would be th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llinois Agility R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mo Agility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rvard Twist Touch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rgarita Agility R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mo Agility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73. Males would be expected to score better on the vertical jump test than females because the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e greater cross sectional area in the quadriceps/hamstring reg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ain more than fema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ssess greater ankle flexibility and can generate greater push off as a result of th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y more football than girls and this is an action specific to the g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Have greater cross sectional area in the quadriceps/hamstring reg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74. A training year can be broken down into smaller sections such as “pre-season”, “competition” and “off-season”. These are examples of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iod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socy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icrocy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i-cy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iod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75. The recommended frequency for athletes seeking aerobic training improvements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-5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7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-5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76. Any “plateau” during a training program indicat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thlete needs to be thinking about “tapering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period of adap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“steady State” has been achiev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period of adap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77. The best example of long interval training listed below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0 x 2 x 10 m runs with a w:r ratio of 1: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x 20 x 100 m runs with a w:r ratio of 1: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x 2 x 1,000 m runs with a w:r ratio of 1: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x 20 x 10,000m runs with a w:r ratio of 1: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x 2 x 1,000 m runs with a w:r ratio of 1: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78. “Fartlek” training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n be overloaded by completing the same distance in a slower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s also knows as “playing with speed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quires rest periods to restore P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bines continuous activity with short bursts of intense work at regular interv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bines continuous activity with short bursts of intense work at regular interv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79. Plyometrics are exemplified by the following group of activiti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kipping, max push ups in 60 seconds, running on the spot for 30 seconds (max intensity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pth Jumps, clap push-ups, bound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0 x 20 m sprints every 45 seconds followed by 15 x 15m sprints every 3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pth Jumps, clap push-ups, bound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8. The most effective school based setting physical activity promoting strategi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e Department of Education printed material outlining physical activity benefi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mote increased physical activity during breaks, and especially lunch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ffer before and after school sporting progr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80. Plyometrics can be overloaded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king the muscles to contract more forcefully by jumping higher or performing at a higher inten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ing the weight and increasing the repet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rest and decreasing the inten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king the muscles to contract more forcefully by jumping higher or performing at a higher inten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81. In the following exercise prescription for resistance training ~ 4 x 8 x 80kg, the 4 represent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pet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i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day of the week training is undertak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9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82. The following is most likely to result from participation in an aerobic training program lasting 12+ mth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apillar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plasma volu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ardiac outp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83. Increased myoglobin levels resulting from aerobic conditioning / training assists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ansporting more oxygen around the vascular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eventing the myoglotic stretch reflex (less slow twitch muscle train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ving more oxygen from cell membranes to th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ving more oxygen from cell membranes to th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84. Aerobic training results in decreases to the systolic blood pressure (except at max effort) due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mproved elasticity of blood vess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LDL’s and reducing plaque build up on the inside of blood vess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ciprocal increases in diastolic blood press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mproved elasticity of blood vess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85. Aerobic training has the following effect on ventilatory muscle oxygen consumption at the diaphragm &amp; intercostal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mains relatively unchang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86. Short interval training will result in the following chronic changes to fast twitch muscle fib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“whiteness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ntioxidative enzym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ontraction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triglycerid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ontraction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87. Continuous training will result in the following chronic changes to slow twitch muscle fib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 aerobic force capac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ntioxidative enzym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ontraction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triglycerid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triglycerid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88. Short interval training will result in the following adaptations to lactic acid toleranc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d reliance of glucose as a fu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oxidative enzym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d buffering 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cid-base reg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cid-base reg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89. Training with high intensity/loads and low repetitions will generally result in greater changes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IB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IA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A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Type IIB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9. A benefit associated with having a physically active group of office workers inclu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duced absenteeis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produ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duced staff turnov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71424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90. Massage assists recovery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blood flow to the massaged area(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amount of oxygen transported to the massaged area(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rate of waste removal from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massaged area(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91. The most effective way of monitoring training responses i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Keep a training 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y to remember everything undertaken during a week of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“Listen” to what your body is saying to you by the way it fe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TextBox 8"/>
          <p:cNvSpPr/>
          <p:nvPr/>
        </p:nvSpPr>
        <p:spPr>
          <a:xfrm>
            <a:off x="64296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Keep a training 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92. Risk management includ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isk Identifi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isk Redu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isk Avoid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93. Coaches might contribute to risks associated with the team they are training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couraging players to play with “niggling injuries” for the benefit of the te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suring first aid kits are available at every training ses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listing the support of non paid qualified staf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Encouraging players to play with “niggling injuries” for the benefit of the te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94. Risk management procedures extend beyond team management to facilities and equipment. The following must be taken into consideration in this are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tective equipment and barri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quipment c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Hygie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7"/>
          <p:cNvSpPr/>
          <p:nvPr/>
        </p:nvSpPr>
        <p:spPr>
          <a:xfrm>
            <a:off x="857160" y="428760"/>
            <a:ext cx="7500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95. The following is a practical example of how AFL football teams try to prevent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suring players participate in accredited courses so they’ll have a job when they finish play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eater emphasis on strengthening hamstring muscles during training to avoid knee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Using new pre-season training methods that have worked with in the USA for NFL footballers but haven’t been trialled he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yers wearing helmets to avoid serious head injuries (similar to NFL footballer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eater emphasis on strengthening hamstring muscles during training to avoid knee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96. The following strategy can assist enhancing performance by building or maintaining confidenc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lf-talk using cue words that are instruction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“Walking the talk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aking an injury to upset an opponent’s concent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lf-talk using cue words that are instruction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97. The following drink allows quickest absorption and hydratio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Hypo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a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u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o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98. Minerals are important in assisting performance PB’s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ssisting in water loss to help with thermoreg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intaining an acid-base balance to ensure normal cellular fun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dding to the amount of ATP that can be produc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suring the Essential Electrolytic Balance (EEB) is maintain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intaining an acid-base balance to ensure normal cellular fun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99. EPO is often taken by endurance athletes despite being banned by WADA. Side-effects inclu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oten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ten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ten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3T04:43:37Z</dcterms:created>
  <dc:creator>Computer of:</dc:creator>
  <dc:description/>
  <dc:language>en-US</dc:language>
  <cp:lastModifiedBy>Computer of:</cp:lastModifiedBy>
  <dcterms:modified xsi:type="dcterms:W3CDTF">2009-08-24T13:03:41Z</dcterms:modified>
  <cp:revision>282</cp:revision>
  <dc:subject/>
  <dc:title>Slide 1</dc:title>
</cp:coreProperties>
</file>